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68A-FA79-4DF5-B712-125FA6DF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CE7-4970-481A-BE76-7933BFDA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39B-7CFC-4611-91DC-62C3756D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ADF-9C36-4DD3-A20D-33015AB2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E09-D5B1-4D42-8B39-70516500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E80-5DB1-4F66-AC1F-CC046498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80B-BF3A-416E-A461-ECB04EFE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616-484F-4C11-A98E-109DE8E2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C7B-CE6D-44AC-9486-148BB6B0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505-0611-403E-B152-52B4B3CB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6120-0839-4843-937D-EB0D98AD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DB6-EC40-445A-9334-4222AF11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1976-2B85-4F48-A832-1B13E1DD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hyperlink" Target="javascript:showEnhanced(&apos;0&apos;,&apos;2404797&apos;);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62485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Love is fire, whether it is going to warm your heart or burn you 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……</a:t>
            </a: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.you can never tell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Joan crawf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51640" y="981000"/>
            <a:ext cx="1179720" cy="884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046160" cy="1224000"/>
          </a:xfrm>
          <a:prstGeom prst="rect">
            <a:avLst/>
          </a:prstGeom>
          <a:ln w="0">
            <a:noFill/>
          </a:ln>
        </p:spPr>
      </p:pic>
      <p:pic>
        <p:nvPicPr>
          <p:cNvPr id="45" name="pTRU1-2998944reg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08720" y="299736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692280"/>
            <a:ext cx="78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R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recognize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E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engage in productive conflict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P 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pose position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A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affirm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I:</a:t>
            </a: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integrate solution into norm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lfaen"/>
              </a:rPr>
              <a:t>R: 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risk being suppor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- concil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890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Repair improvement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1844640"/>
            <a:ext cx="64008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Break the loneliness-depressi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Take tim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Bolster self-e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Remove or avoid uncomfortable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Seek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void repeating negative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80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Dis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06520" y="1125360"/>
            <a:ext cx="10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Refer to interpersonal separation or social and public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304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Advantages of interpersonal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9810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aximize you pleasure and minimize 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lessen lone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earn about yourself and self-e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gain self-knowledge, develop your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78936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Disadvantages of interpersonal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876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essure you to reveal your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ressure you to expose your 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808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6 Relationship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560" y="1295280"/>
            <a:ext cx="129024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82080" y="2209680"/>
            <a:ext cx="13510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9760" y="4191120"/>
            <a:ext cx="10828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4480" y="2209680"/>
            <a:ext cx="18846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olv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000" y="3429000"/>
            <a:ext cx="19440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i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7" idx="1"/>
            <a:endCxn id="50" idx="1"/>
          </p:cNvCxnSpPr>
          <p:nvPr/>
        </p:nvCxnSpPr>
        <p:spPr>
          <a:xfrm flipH="1" flipV="1" rot="10800000">
            <a:off x="922680" y="1523520"/>
            <a:ext cx="2520" cy="915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3"/>
            <a:endCxn id="48" idx="1"/>
          </p:cNvCxnSpPr>
          <p:nvPr/>
        </p:nvCxnSpPr>
        <p:spPr>
          <a:xfrm>
            <a:off x="2809440" y="2437920"/>
            <a:ext cx="1772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8" idx="3"/>
            <a:endCxn id="51" idx="3"/>
          </p:cNvCxnSpPr>
          <p:nvPr/>
        </p:nvCxnSpPr>
        <p:spPr>
          <a:xfrm>
            <a:off x="5933880" y="2437920"/>
            <a:ext cx="1734120" cy="1220040"/>
          </a:xfrm>
          <a:prstGeom prst="bentConnector3">
            <a:avLst>
              <a:gd name="adj1" fmla="val 1131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1"/>
            <a:endCxn id="49" idx="0"/>
          </p:cNvCxnSpPr>
          <p:nvPr/>
        </p:nvCxnSpPr>
        <p:spPr>
          <a:xfrm flipV="1" rot="10800000">
            <a:off x="3750480" y="3657240"/>
            <a:ext cx="19738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038560" y="4800600"/>
            <a:ext cx="16765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49" idx="2"/>
            <a:endCxn id="56" idx="1"/>
          </p:cNvCxnSpPr>
          <p:nvPr/>
        </p:nvCxnSpPr>
        <p:spPr>
          <a:xfrm flipH="1" rot="16200000">
            <a:off x="4204440" y="4194720"/>
            <a:ext cx="381600" cy="1288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53352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Cont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981000"/>
            <a:ext cx="432756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ceptu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   Interaction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26828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Verbal &amp; Non verbal messages that you receiv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Anything that you s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Or you he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Or may be smel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Like the person? If Yes, pursue next stage below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6240" y="4365720"/>
            <a:ext cx="503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Exchanging basic information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Saying  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10280" y="2362320"/>
            <a:ext cx="213372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977160" y="2362320"/>
            <a:ext cx="216684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The first 4 min, is crucial – for expanding a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5335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9810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The stage of experimenting, look for common ground and try to learn more about a person – testing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How partner feels about th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590920"/>
            <a:ext cx="769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Strategies that can be use to test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Direc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Indirect sug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Public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Third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3429000"/>
            <a:ext cx="3429000" cy="22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Inti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447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Refer to interpersonal commitment &amp; social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9810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Some believe that intimacy will lead to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Other believe it only regarding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soci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But there are people who believe that intimacy will gr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you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2514600" cy="202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819520" y="33526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437600" y="4724280"/>
            <a:ext cx="170640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952880" y="3505320"/>
            <a:ext cx="2400480" cy="1589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5181480" y="5197320"/>
            <a:ext cx="145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1197000"/>
            <a:ext cx="768024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ros : beauty &amp; sens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udus : entertainment &amp; ex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Storge : peaceful &amp; tranqu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ragma : practical &amp; Tra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Manic : ecstasy &amp;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gape : compassionate &amp; self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335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Lov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457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6002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The weakening bond between friends or l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440080"/>
            <a:ext cx="43434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trapersonal dissatisfaction (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lfae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pha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terpersonal dissatisfaction (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lfae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ph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86400" y="2590920"/>
            <a:ext cx="2209680" cy="171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715000" y="4952880"/>
            <a:ext cx="19810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002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Comm. In relationship deteri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133720"/>
            <a:ext cx="4952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Withdraw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Decline in self-dis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D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Positive &amp; negative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86600" y="2209680"/>
            <a:ext cx="1752480" cy="1298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1752480" cy="137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162920" y="365760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029200" y="4038480"/>
            <a:ext cx="2165400" cy="234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5335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Sylfaen"/>
              </a:rPr>
              <a:t>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use and try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2286000"/>
            <a:ext cx="425124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rapersonal repair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erpersonal repair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2686320" cy="406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4648320" cy="2576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05:35:31Z</dcterms:created>
  <dc:creator>NODES</dc:creator>
  <dc:description/>
  <dc:language>en-US</dc:language>
  <cp:lastModifiedBy>RojakBuah</cp:lastModifiedBy>
  <dcterms:modified xsi:type="dcterms:W3CDTF">2009-03-15T11:31:29Z</dcterms:modified>
  <cp:revision>13</cp:revision>
  <dc:subject/>
  <dc:title>PowerPoint Presentation</dc:title>
</cp:coreProperties>
</file>