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840F-78C0-4799-9A1D-AFD62D7D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3D85-2C3C-4121-930F-441FCD2D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89EE-CEEB-4816-98F3-9E2930E2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1D2A-300E-4491-9F47-2E8B72E01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DA81-ECA4-48F6-82A2-5C8A2DAA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F686-23D8-407E-997A-C1F495AC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9B62-006B-4BDD-8F36-C81A0A42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DBD5-CF69-4810-AA77-0309948A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0A3A-F706-41BD-8CA5-0D0279C2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AB7A-A133-4EC1-9BE1-1EA8091D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79A1-203D-4135-B72A-1DA61488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ECA3-90FB-4A3C-A5CD-0A26FBD0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23B9-DBC2-4A21-BE10-A43FC2610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hyperlink" Target="javascript:showEnhanced(&apos;0&apos;,&apos;2404797&apos;);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1447920"/>
            <a:ext cx="62485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ylfaen"/>
              </a:rPr>
              <a:t>Love is fire, whether it is going to warm your heart or burn you d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ylfaen"/>
              </a:rPr>
              <a:t>……</a:t>
            </a:r>
            <a:r>
              <a:rPr b="1" lang="en-US" sz="4400" spc="-1" strike="noStrike">
                <a:solidFill>
                  <a:srgbClr val="000000"/>
                </a:solidFill>
                <a:latin typeface="Sylfaen"/>
              </a:rPr>
              <a:t>.you can never tell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ylfaen"/>
              </a:rPr>
              <a:t>Joan crawf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5419800"/>
            <a:ext cx="9144000" cy="1438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451640" y="981000"/>
            <a:ext cx="1179720" cy="884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1046160" cy="1224000"/>
          </a:xfrm>
          <a:prstGeom prst="rect">
            <a:avLst/>
          </a:prstGeom>
          <a:ln w="0">
            <a:noFill/>
          </a:ln>
        </p:spPr>
      </p:pic>
      <p:pic>
        <p:nvPicPr>
          <p:cNvPr id="45" name="pTRU1-2998944reg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308720" y="2997360"/>
            <a:ext cx="15811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95280" y="692280"/>
            <a:ext cx="7848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lfaen"/>
              </a:rPr>
              <a:t>R:</a:t>
            </a:r>
            <a:r>
              <a:rPr b="1" lang="en-US" sz="2800" spc="-1" strike="noStrike">
                <a:solidFill>
                  <a:srgbClr val="ff0000"/>
                </a:solidFill>
                <a:latin typeface="Sylfae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lfaen"/>
              </a:rPr>
              <a:t>recognize the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lfaen"/>
              </a:rPr>
              <a:t>E:</a:t>
            </a:r>
            <a:r>
              <a:rPr b="1" lang="en-US" sz="2800" spc="-1" strike="noStrike">
                <a:solidFill>
                  <a:srgbClr val="ff0000"/>
                </a:solidFill>
                <a:latin typeface="Sylfae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lfaen"/>
              </a:rPr>
              <a:t>engage in productive conflict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lfaen"/>
              </a:rPr>
              <a:t>P :</a:t>
            </a:r>
            <a:r>
              <a:rPr b="1" lang="en-US" sz="2800" spc="-1" strike="noStrike">
                <a:solidFill>
                  <a:srgbClr val="ff0000"/>
                </a:solidFill>
                <a:latin typeface="Sylfae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lfaen"/>
              </a:rPr>
              <a:t>pose position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lfaen"/>
              </a:rPr>
              <a:t>A:</a:t>
            </a:r>
            <a:r>
              <a:rPr b="1" lang="en-US" sz="2800" spc="-1" strike="noStrike">
                <a:solidFill>
                  <a:srgbClr val="ff0000"/>
                </a:solidFill>
                <a:latin typeface="Sylfae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lfaen"/>
              </a:rPr>
              <a:t>affirm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lfaen"/>
              </a:rPr>
              <a:t>I:</a:t>
            </a:r>
            <a:r>
              <a:rPr b="1" lang="en-US" sz="2800" spc="-1" strike="noStrike">
                <a:solidFill>
                  <a:srgbClr val="ff0000"/>
                </a:solidFill>
                <a:latin typeface="Sylfae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lfaen"/>
              </a:rPr>
              <a:t>integrate solution into normal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lfaen"/>
              </a:rPr>
              <a:t>R: </a:t>
            </a:r>
            <a:r>
              <a:rPr b="1" lang="en-US" sz="2800" spc="-1" strike="noStrike">
                <a:solidFill>
                  <a:srgbClr val="000000"/>
                </a:solidFill>
                <a:latin typeface="Sylfaen"/>
              </a:rPr>
              <a:t>risk being suppor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lfaen"/>
              </a:rPr>
              <a:t>- concil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18900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Sylfaen"/>
              </a:rPr>
              <a:t>Repair improvement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26920" y="1844640"/>
            <a:ext cx="640080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Break the loneliness-depression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Take time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Bolster self-este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Remove or avoid uncomfortable 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Seek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Avoid repeating negative patt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380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Sylfaen"/>
              </a:rPr>
              <a:t>Dis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506520" y="1125360"/>
            <a:ext cx="10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Refer to interpersonal separation or social and public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5419800"/>
            <a:ext cx="91440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5419800"/>
            <a:ext cx="9144000" cy="1438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04920" y="30492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Sylfaen"/>
              </a:rPr>
              <a:t>Advantages of interpersonal relation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981000"/>
            <a:ext cx="731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Maximize you pleasure and minimize 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- lessen lonel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Learn about yourself and self-este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- gain self-knowledge, develop your self-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378936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Sylfaen"/>
              </a:rPr>
              <a:t>Disadvantages of interpersonal relation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8769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Pressure you to reveal your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Pressure you to expose your vulner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38088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Sylfaen"/>
              </a:rPr>
              <a:t>6 Relationship S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25560" y="1295280"/>
            <a:ext cx="129024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82080" y="2209680"/>
            <a:ext cx="135108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im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09760" y="4191120"/>
            <a:ext cx="108288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24480" y="2209680"/>
            <a:ext cx="18846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olv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24000" y="3429000"/>
            <a:ext cx="19440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ri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47" idx="1"/>
            <a:endCxn id="50" idx="1"/>
          </p:cNvCxnSpPr>
          <p:nvPr/>
        </p:nvCxnSpPr>
        <p:spPr>
          <a:xfrm flipH="1" flipV="1" rot="10800000">
            <a:off x="922680" y="1523520"/>
            <a:ext cx="2520" cy="9151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3"/>
            <a:endCxn id="48" idx="1"/>
          </p:cNvCxnSpPr>
          <p:nvPr/>
        </p:nvCxnSpPr>
        <p:spPr>
          <a:xfrm>
            <a:off x="2809440" y="2437920"/>
            <a:ext cx="17722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8" idx="3"/>
            <a:endCxn id="51" idx="3"/>
          </p:cNvCxnSpPr>
          <p:nvPr/>
        </p:nvCxnSpPr>
        <p:spPr>
          <a:xfrm>
            <a:off x="5933880" y="2437920"/>
            <a:ext cx="1734120" cy="1220040"/>
          </a:xfrm>
          <a:prstGeom prst="bentConnector3">
            <a:avLst>
              <a:gd name="adj1" fmla="val 1131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1" idx="1"/>
            <a:endCxn id="49" idx="0"/>
          </p:cNvCxnSpPr>
          <p:nvPr/>
        </p:nvCxnSpPr>
        <p:spPr>
          <a:xfrm flipV="1" rot="10800000">
            <a:off x="3750480" y="3657240"/>
            <a:ext cx="197388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038560" y="4800600"/>
            <a:ext cx="16765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sol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49" idx="2"/>
            <a:endCxn id="56" idx="1"/>
          </p:cNvCxnSpPr>
          <p:nvPr/>
        </p:nvCxnSpPr>
        <p:spPr>
          <a:xfrm flipH="1" rot="16200000">
            <a:off x="4204440" y="4194720"/>
            <a:ext cx="381600" cy="1288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5419800"/>
            <a:ext cx="91440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533520"/>
            <a:ext cx="144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Sylfaen"/>
              </a:rPr>
              <a:t>Conta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981000"/>
            <a:ext cx="4327560" cy="36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erceptual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.   Interactional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1268280"/>
            <a:ext cx="5486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Verbal &amp; Non verbal messages that you receive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Anything that you s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Or you hea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Or may be smel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Like the person? If Yes, pursue next stage below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6240" y="4365720"/>
            <a:ext cx="503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Exchanging basic information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Saying  H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010280" y="2362320"/>
            <a:ext cx="2133720" cy="4495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977160" y="2362320"/>
            <a:ext cx="216684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The first 4 min, is crucial – for expanding a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5419800"/>
            <a:ext cx="91440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53352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Sylfaen"/>
              </a:rPr>
              <a:t>Invol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98100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The stage of experimenting, look for common ground and try to learn more about a person – testing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How partner feels about the relation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590920"/>
            <a:ext cx="7696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Strategies that can be use to test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Direc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Indirect sug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Public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Third pa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029200" y="3429000"/>
            <a:ext cx="3429000" cy="2228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5419800"/>
            <a:ext cx="91440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5419800"/>
            <a:ext cx="9144000" cy="1438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7200" y="5335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Sylfaen"/>
              </a:rPr>
              <a:t>Intim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14479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Refer to interpersonal commitment &amp; social bo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981080"/>
            <a:ext cx="769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Some believe that intimacy will lead to </a:t>
            </a: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Other believe it only regarding </a:t>
            </a: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social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But there are people who believe that intimacy will gr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you </a:t>
            </a: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l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3520" y="4191120"/>
            <a:ext cx="2514600" cy="2022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819520" y="3352680"/>
            <a:ext cx="1981080" cy="2362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7437600" y="4724280"/>
            <a:ext cx="1706400" cy="2133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4952880" y="3505320"/>
            <a:ext cx="2400480" cy="1589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5181480" y="5197320"/>
            <a:ext cx="14544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95280" y="1197000"/>
            <a:ext cx="768024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Eros : beauty &amp; sens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Ludus : entertainment &amp; exci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Storge : peaceful &amp; tranqu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Pragma : practical &amp; Tradi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Manic : ecstasy &amp; de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gape : compassionate &amp; self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53352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Sylfaen"/>
              </a:rPr>
              <a:t>Love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5419800"/>
            <a:ext cx="91440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5419800"/>
            <a:ext cx="9144000" cy="1438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80880" y="457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Sylfaen"/>
              </a:rPr>
              <a:t>Deteri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600200"/>
            <a:ext cx="81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The weakening bond between friends or l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2440080"/>
            <a:ext cx="434340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Intrapersonal dissatisfaction (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lfaen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 phas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Interpersonal dissatisfaction (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lfaen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 ph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486400" y="2590920"/>
            <a:ext cx="2209680" cy="1714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715000" y="4952880"/>
            <a:ext cx="198108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457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Sylfaen"/>
              </a:rPr>
              <a:t>Deteri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600200"/>
            <a:ext cx="81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Sylfaen"/>
              </a:rPr>
              <a:t>Comm. In relationship deteri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133720"/>
            <a:ext cx="49528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Withdraw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Decline in self-discl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De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Positive &amp; negative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086600" y="2209680"/>
            <a:ext cx="1752480" cy="1298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257800" y="1905120"/>
            <a:ext cx="1752480" cy="1374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162920" y="3657600"/>
            <a:ext cx="1752480" cy="1371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029200" y="4038480"/>
            <a:ext cx="2165400" cy="2346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0" y="5419800"/>
            <a:ext cx="91440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53352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Sylfaen"/>
              </a:rPr>
              <a:t>Re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447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ause and try to re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2286000"/>
            <a:ext cx="425124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ntrapersonal repair ph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nterpersonal repair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2686320" cy="4068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038480" y="4038480"/>
            <a:ext cx="4648320" cy="2576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0" y="5419800"/>
            <a:ext cx="91440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6T05:35:31Z</dcterms:created>
  <dc:creator>NODES</dc:creator>
  <dc:description/>
  <dc:language>en-US</dc:language>
  <cp:lastModifiedBy>RojakBuah</cp:lastModifiedBy>
  <dcterms:modified xsi:type="dcterms:W3CDTF">2009-03-15T11:31:29Z</dcterms:modified>
  <cp:revision>13</cp:revision>
  <dc:subject/>
  <dc:title>PowerPoint Presentation</dc:title>
</cp:coreProperties>
</file>