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wmf" ContentType="image/x-wmf"/>
  <Override PartName="/ppt/media/image7.jpeg" ContentType="image/jpeg"/>
  <Override PartName="/ppt/media/image11.png" ContentType="image/pn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03520" y="366840"/>
            <a:ext cx="5464080" cy="690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53560" y="1450800"/>
            <a:ext cx="7574040" cy="2265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53560" y="3931920"/>
            <a:ext cx="7574040" cy="2265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03520" y="366840"/>
            <a:ext cx="5464080" cy="690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53560" y="1450800"/>
            <a:ext cx="3696120" cy="2265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4720" y="1450800"/>
            <a:ext cx="3696120" cy="2265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53560" y="3931920"/>
            <a:ext cx="3696120" cy="2265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34720" y="3931920"/>
            <a:ext cx="3696120" cy="2265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03520" y="366840"/>
            <a:ext cx="5464080" cy="690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53560" y="1450800"/>
            <a:ext cx="2438640" cy="2265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4600" y="1450800"/>
            <a:ext cx="2438640" cy="2265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5640" y="1450800"/>
            <a:ext cx="2438640" cy="2265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53560" y="3931920"/>
            <a:ext cx="2438640" cy="2265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4600" y="3931920"/>
            <a:ext cx="2438640" cy="2265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5640" y="3931920"/>
            <a:ext cx="2438640" cy="2265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03520" y="366840"/>
            <a:ext cx="5464080" cy="690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53560" y="1450800"/>
            <a:ext cx="7574040" cy="47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603520" y="366840"/>
            <a:ext cx="5464080" cy="690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53560" y="1450800"/>
            <a:ext cx="7574040" cy="47498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03520" y="366840"/>
            <a:ext cx="5464080" cy="690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3560" y="1450800"/>
            <a:ext cx="3696120" cy="47498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4720" y="1450800"/>
            <a:ext cx="3696120" cy="47498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03520" y="366840"/>
            <a:ext cx="5464080" cy="690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603520" y="366840"/>
            <a:ext cx="54640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03520" y="366840"/>
            <a:ext cx="5464080" cy="690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53560" y="1450800"/>
            <a:ext cx="3696120" cy="2265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4720" y="1450800"/>
            <a:ext cx="3696120" cy="47498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53560" y="3931920"/>
            <a:ext cx="3696120" cy="2265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03520" y="366840"/>
            <a:ext cx="5464080" cy="690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53560" y="1450800"/>
            <a:ext cx="7574040" cy="47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03520" y="366840"/>
            <a:ext cx="5464080" cy="690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53560" y="1450800"/>
            <a:ext cx="3696120" cy="47498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4720" y="1450800"/>
            <a:ext cx="3696120" cy="2265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4720" y="3931920"/>
            <a:ext cx="3696120" cy="2265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03520" y="366840"/>
            <a:ext cx="5464080" cy="690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53560" y="1450800"/>
            <a:ext cx="3696120" cy="2265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4720" y="1450800"/>
            <a:ext cx="3696120" cy="2265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53560" y="3931920"/>
            <a:ext cx="7574040" cy="2265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03520" y="366840"/>
            <a:ext cx="5464080" cy="690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53560" y="1450800"/>
            <a:ext cx="7574040" cy="2265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53560" y="3931920"/>
            <a:ext cx="7574040" cy="2265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603520" y="366840"/>
            <a:ext cx="5464080" cy="690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53560" y="1450800"/>
            <a:ext cx="3696120" cy="2265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4720" y="1450800"/>
            <a:ext cx="3696120" cy="2265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53560" y="3931920"/>
            <a:ext cx="3696120" cy="2265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4720" y="3931920"/>
            <a:ext cx="3696120" cy="2265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603520" y="366840"/>
            <a:ext cx="5464080" cy="690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53560" y="1450800"/>
            <a:ext cx="2438640" cy="2265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4600" y="1450800"/>
            <a:ext cx="2438640" cy="2265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5640" y="1450800"/>
            <a:ext cx="2438640" cy="2265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53560" y="3931920"/>
            <a:ext cx="2438640" cy="2265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4600" y="3931920"/>
            <a:ext cx="2438640" cy="2265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5640" y="3931920"/>
            <a:ext cx="2438640" cy="2265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03520" y="366840"/>
            <a:ext cx="5464080" cy="690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53560" y="1450800"/>
            <a:ext cx="7574040" cy="47498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03520" y="366840"/>
            <a:ext cx="5464080" cy="690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53560" y="1450800"/>
            <a:ext cx="3696120" cy="47498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34720" y="1450800"/>
            <a:ext cx="3696120" cy="47498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03520" y="366840"/>
            <a:ext cx="5464080" cy="690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03520" y="366840"/>
            <a:ext cx="54640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03520" y="366840"/>
            <a:ext cx="5464080" cy="690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53560" y="1450800"/>
            <a:ext cx="3696120" cy="2265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4720" y="1450800"/>
            <a:ext cx="3696120" cy="47498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53560" y="3931920"/>
            <a:ext cx="3696120" cy="2265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03520" y="366840"/>
            <a:ext cx="5464080" cy="690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53560" y="1450800"/>
            <a:ext cx="3696120" cy="47498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4720" y="1450800"/>
            <a:ext cx="3696120" cy="2265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34720" y="3931920"/>
            <a:ext cx="3696120" cy="2265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03520" y="366840"/>
            <a:ext cx="5464080" cy="690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53560" y="1450800"/>
            <a:ext cx="3696120" cy="2265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4720" y="1450800"/>
            <a:ext cx="3696120" cy="2265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53560" y="3931920"/>
            <a:ext cx="7574040" cy="2265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5183280"/>
            <a:ext cx="9144000" cy="167472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336600" y="600120"/>
            <a:ext cx="995400" cy="2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i="1" lang="fr-FR" sz="800" spc="-1" strike="noStrike">
                <a:solidFill>
                  <a:srgbClr val="006600"/>
                </a:solidFill>
                <a:latin typeface="Arial"/>
              </a:rPr>
              <a:t>Recherc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53560" y="1450800"/>
            <a:ext cx="7574040" cy="47498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marL="309600" indent="-309600">
              <a:spcBef>
                <a:spcPts val="649"/>
              </a:spcBef>
              <a:buClr>
                <a:srgbClr val="008000"/>
              </a:buClr>
              <a:buSzPct val="95000"/>
              <a:buFont typeface="Wingdings" charset="2"/>
              <a:buChar char="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  <a:p>
            <a:pPr lvl="1" marL="851040" indent="-303480">
              <a:spcBef>
                <a:spcPts val="649"/>
              </a:spcBef>
              <a:buClr>
                <a:srgbClr val="009900"/>
              </a:buClr>
              <a:buFont typeface="Wingdings" charset="2"/>
              <a:buChar char="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  <a:p>
            <a:pPr lvl="2" marL="1163520" indent="-155520">
              <a:spcBef>
                <a:spcPts val="649"/>
              </a:spcBef>
              <a:buClr>
                <a:srgbClr val="339933"/>
              </a:buClr>
              <a:buSzPct val="130000"/>
              <a:buFont typeface="Wingdings" charset="2"/>
              <a:buChar char="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  <a:p>
            <a:pPr lvl="3" marL="1566720" indent="-222120">
              <a:spcBef>
                <a:spcPts val="649"/>
              </a:spcBef>
              <a:buClr>
                <a:srgbClr val="ff9900"/>
              </a:buClr>
              <a:buSzPct val="140000"/>
              <a:buFont typeface="Wingdings 2" charset="2"/>
              <a:buChar char="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  <a:p>
            <a:pPr lvl="4" marL="2016000" indent="-225360">
              <a:spcBef>
                <a:spcPts val="649"/>
              </a:spcBef>
              <a:buClr>
                <a:srgbClr val="000000"/>
              </a:buClr>
              <a:buFont typeface="Lucida Sans"/>
              <a:buChar char="»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  <a:p>
            <a:pPr lvl="5" marL="2016000" indent="-225360">
              <a:spcBef>
                <a:spcPts val="649"/>
              </a:spcBef>
              <a:buClr>
                <a:srgbClr val="000000"/>
              </a:buClr>
              <a:buFont typeface="Lucida Sans"/>
              <a:buChar char="»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  <a:p>
            <a:pPr lvl="6" marL="2016000" indent="-225360">
              <a:spcBef>
                <a:spcPts val="649"/>
              </a:spcBef>
              <a:buClr>
                <a:srgbClr val="000000"/>
              </a:buClr>
              <a:buFont typeface="Lucida Sans"/>
              <a:buChar char="»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2603520" y="366840"/>
            <a:ext cx="5464080" cy="690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" name="Picture 6" descr="Logo2009 petit format"/>
          <p:cNvPicPr/>
          <p:nvPr/>
        </p:nvPicPr>
        <p:blipFill>
          <a:blip r:embed="rId3"/>
          <a:stretch/>
        </p:blipFill>
        <p:spPr>
          <a:xfrm>
            <a:off x="0" y="0"/>
            <a:ext cx="1300320" cy="614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4124160"/>
            <a:ext cx="9144000" cy="27338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1547640" y="3191040"/>
            <a:ext cx="6120000" cy="13644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00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60520" y="1138320"/>
            <a:ext cx="14889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i="1" lang="fr-FR" sz="1100" spc="-1" strike="noStrike">
                <a:solidFill>
                  <a:srgbClr val="008000"/>
                </a:solidFill>
                <a:latin typeface="Arial"/>
              </a:rPr>
              <a:t>Recherc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Logo2009 petit format"/>
          <p:cNvPicPr/>
          <p:nvPr/>
        </p:nvPicPr>
        <p:blipFill>
          <a:blip r:embed="rId3"/>
          <a:stretch/>
        </p:blipFill>
        <p:spPr>
          <a:xfrm>
            <a:off x="0" y="0"/>
            <a:ext cx="2433600" cy="1149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853560" y="1450800"/>
            <a:ext cx="7574040" cy="47498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marL="309600" indent="-309600">
              <a:spcBef>
                <a:spcPts val="649"/>
              </a:spcBef>
              <a:buClr>
                <a:srgbClr val="008000"/>
              </a:buClr>
              <a:buSzPct val="95000"/>
              <a:buFont typeface="Wingdings" charset="2"/>
              <a:buChar char="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  <a:p>
            <a:pPr lvl="1" marL="851040" indent="-303480">
              <a:spcBef>
                <a:spcPts val="649"/>
              </a:spcBef>
              <a:buClr>
                <a:srgbClr val="009900"/>
              </a:buClr>
              <a:buFont typeface="Wingdings" charset="2"/>
              <a:buChar char="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  <a:p>
            <a:pPr lvl="2" marL="1163520" indent="-155520">
              <a:spcBef>
                <a:spcPts val="649"/>
              </a:spcBef>
              <a:buClr>
                <a:srgbClr val="339933"/>
              </a:buClr>
              <a:buSzPct val="130000"/>
              <a:buFont typeface="Wingdings" charset="2"/>
              <a:buChar char="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  <a:p>
            <a:pPr lvl="3" marL="1566720" indent="-222120">
              <a:spcBef>
                <a:spcPts val="649"/>
              </a:spcBef>
              <a:buClr>
                <a:srgbClr val="ff9900"/>
              </a:buClr>
              <a:buSzPct val="140000"/>
              <a:buFont typeface="Wingdings 2" charset="2"/>
              <a:buChar char="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  <a:p>
            <a:pPr lvl="4" marL="2016000" indent="-225360">
              <a:spcBef>
                <a:spcPts val="649"/>
              </a:spcBef>
              <a:buClr>
                <a:srgbClr val="000000"/>
              </a:buClr>
              <a:buFont typeface="Lucida Sans"/>
              <a:buChar char="»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  <a:p>
            <a:pPr lvl="5" marL="2016000" indent="-225360">
              <a:spcBef>
                <a:spcPts val="649"/>
              </a:spcBef>
              <a:buClr>
                <a:srgbClr val="000000"/>
              </a:buClr>
              <a:buFont typeface="Lucida Sans"/>
              <a:buChar char="»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  <a:p>
            <a:pPr lvl="6" marL="2016000" indent="-225360">
              <a:spcBef>
                <a:spcPts val="649"/>
              </a:spcBef>
              <a:buClr>
                <a:srgbClr val="000000"/>
              </a:buClr>
              <a:buFont typeface="Lucida Sans"/>
              <a:buChar char="»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603520" y="366840"/>
            <a:ext cx="5464080" cy="690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31640" y="1711080"/>
            <a:ext cx="6530760" cy="14698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fr-FR" sz="3400" spc="-1" strike="noStrike">
                <a:solidFill>
                  <a:srgbClr val="0066ff"/>
                </a:solidFill>
                <a:latin typeface="Arial"/>
              </a:rPr>
              <a:t>L'intermodalité, </a:t>
            </a:r>
            <a:br>
              <a:rPr sz="3400"/>
            </a:br>
            <a:r>
              <a:rPr b="1" lang="fr-FR" sz="3400" spc="-1" strike="noStrike">
                <a:solidFill>
                  <a:srgbClr val="0066ff"/>
                </a:solidFill>
                <a:latin typeface="Arial"/>
              </a:rPr>
              <a:t>enjeu de la  Mobilité Urbaine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406600" y="3962160"/>
            <a:ext cx="4345200" cy="12589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fr-FR" sz="2200" spc="-1" strike="noStrike">
                <a:solidFill>
                  <a:srgbClr val="0066ff"/>
                </a:solidFill>
                <a:latin typeface="Arial"/>
              </a:rPr>
              <a:t>Clean Tuesday</a:t>
            </a:r>
            <a:endParaRPr b="1" lang="en-US" sz="2200" spc="-1" strike="noStrike">
              <a:solidFill>
                <a:srgbClr val="0066f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fr-FR" sz="2200" spc="-1" strike="noStrike">
                <a:solidFill>
                  <a:srgbClr val="0066ff"/>
                </a:solidFill>
                <a:latin typeface="Arial"/>
              </a:rPr>
              <a:t>D. BREUIL</a:t>
            </a:r>
            <a:endParaRPr b="1" lang="en-US" sz="2200" spc="-1" strike="noStrike">
              <a:solidFill>
                <a:srgbClr val="0066f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fr-FR" sz="2200" spc="-1" strike="noStrike">
                <a:solidFill>
                  <a:srgbClr val="0066ff"/>
                </a:solidFill>
                <a:latin typeface="Arial"/>
              </a:rPr>
              <a:t>21/09/2010</a:t>
            </a:r>
            <a:endParaRPr b="1" lang="en-US" sz="22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603520" y="366840"/>
            <a:ext cx="5464080" cy="690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fr-FR" sz="3400" spc="-1" strike="noStrike">
                <a:solidFill>
                  <a:srgbClr val="0000ff"/>
                </a:solidFill>
                <a:latin typeface="Arial"/>
              </a:rPr>
              <a:t>Mobilité Urbaine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53560" y="1450800"/>
            <a:ext cx="7574040" cy="47498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marL="309600" indent="-309600">
              <a:spcBef>
                <a:spcPts val="550"/>
              </a:spcBef>
              <a:buClr>
                <a:srgbClr val="008000"/>
              </a:buClr>
              <a:buSzPct val="95000"/>
              <a:buFont typeface="Wingdings" charset="2"/>
              <a:buChar char="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fr-FR" sz="2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0066ff"/>
                </a:solidFill>
                <a:latin typeface="Arial"/>
              </a:rPr>
              <a:t>Mobilité Urbaine de demain : </a:t>
            </a:r>
            <a:endParaRPr b="1" lang="en-US" sz="2200" spc="-1" strike="noStrike">
              <a:solidFill>
                <a:srgbClr val="0066ff"/>
              </a:solidFill>
              <a:latin typeface="Arial"/>
            </a:endParaRPr>
          </a:p>
          <a:p>
            <a:pPr lvl="1" marL="851040" indent="-303480">
              <a:spcBef>
                <a:spcPts val="524"/>
              </a:spcBef>
              <a:buClr>
                <a:srgbClr val="009900"/>
              </a:buClr>
              <a:buFont typeface="Wingdings" charset="2"/>
              <a:buChar char="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fr-FR" sz="2100" spc="-1" strike="noStrike">
                <a:solidFill>
                  <a:srgbClr val="0066ff"/>
                </a:solidFill>
                <a:latin typeface="Arial"/>
              </a:rPr>
              <a:t>Mettre en place des concepts et des solutions , des organisations et des comportements pour faciliter les déplacements des personnes et des biens en respectant une approche durable</a:t>
            </a:r>
            <a:endParaRPr b="1" lang="en-US" sz="2100" spc="-1" strike="noStrike">
              <a:solidFill>
                <a:srgbClr val="0066ff"/>
              </a:solidFill>
              <a:latin typeface="Arial"/>
            </a:endParaRPr>
          </a:p>
          <a:p>
            <a:pPr marL="309600" indent="0">
              <a:spcBef>
                <a:spcPts val="550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200" spc="-1" strike="noStrike">
              <a:solidFill>
                <a:srgbClr val="0066ff"/>
              </a:solidFill>
              <a:latin typeface="Arial"/>
            </a:endParaRPr>
          </a:p>
          <a:p>
            <a:pPr marL="309600" indent="-309600">
              <a:spcBef>
                <a:spcPts val="550"/>
              </a:spcBef>
              <a:buClr>
                <a:srgbClr val="008000"/>
              </a:buClr>
              <a:buSzPct val="95000"/>
              <a:buFont typeface="Wingdings" charset="2"/>
              <a:buChar char="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fr-FR" sz="2200" spc="-1" strike="noStrike">
                <a:solidFill>
                  <a:srgbClr val="0066ff"/>
                </a:solidFill>
                <a:latin typeface="Arial"/>
              </a:rPr>
              <a:t>Les territoires ont un rôle essentiel.</a:t>
            </a:r>
            <a:r>
              <a:rPr b="0" lang="fr-FR" sz="2200" spc="-1" strike="noStrike">
                <a:solidFill>
                  <a:srgbClr val="0066ff"/>
                </a:solidFill>
                <a:latin typeface="Arial"/>
              </a:rPr>
              <a:t> Ils conditionnent les mobilités, les modèles économiques possibles ou acceptables. </a:t>
            </a:r>
            <a:endParaRPr b="1" lang="en-US" sz="2200" spc="-1" strike="noStrike">
              <a:solidFill>
                <a:srgbClr val="0066ff"/>
              </a:solidFill>
              <a:latin typeface="Arial"/>
            </a:endParaRPr>
          </a:p>
          <a:p>
            <a:pPr marL="309600" indent="0">
              <a:spcBef>
                <a:spcPts val="550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200" spc="-1" strike="noStrike">
              <a:solidFill>
                <a:srgbClr val="0066ff"/>
              </a:solidFill>
              <a:latin typeface="Arial"/>
            </a:endParaRPr>
          </a:p>
          <a:p>
            <a:pPr marL="309600" indent="-309600">
              <a:spcBef>
                <a:spcPts val="550"/>
              </a:spcBef>
              <a:buClr>
                <a:srgbClr val="008000"/>
              </a:buClr>
              <a:buSzPct val="95000"/>
              <a:buFont typeface="Wingdings" charset="2"/>
              <a:buChar char="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fr-FR" sz="2200" spc="-1" strike="noStrike">
                <a:solidFill>
                  <a:srgbClr val="0066ff"/>
                </a:solidFill>
                <a:latin typeface="Arial"/>
              </a:rPr>
              <a:t>Pour le transport </a:t>
            </a:r>
            <a:r>
              <a:rPr b="1" lang="fr-FR" sz="2200" spc="-1" strike="noStrike">
                <a:solidFill>
                  <a:srgbClr val="0066ff"/>
                </a:solidFill>
                <a:latin typeface="Arial"/>
              </a:rPr>
              <a:t>de marchandises, la dimension des métiers</a:t>
            </a:r>
            <a:r>
              <a:rPr b="0" lang="fr-FR" sz="2200" spc="-1" strike="noStrike">
                <a:solidFill>
                  <a:srgbClr val="0066ff"/>
                </a:solidFill>
                <a:latin typeface="Arial"/>
              </a:rPr>
              <a:t> conditionne la spécialisation de la composante "transport" intégrée dans le système logistique complet,</a:t>
            </a:r>
            <a:endParaRPr b="1" lang="en-US" sz="22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03520" y="366840"/>
            <a:ext cx="5464080" cy="690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fr-FR" sz="3400" spc="-1" strike="noStrike">
                <a:solidFill>
                  <a:srgbClr val="0000ff"/>
                </a:solidFill>
                <a:latin typeface="Arial"/>
              </a:rPr>
              <a:t>Objectifs 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6610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marL="309600" indent="-309600">
              <a:spcBef>
                <a:spcPts val="649"/>
              </a:spcBef>
              <a:buClr>
                <a:srgbClr val="008000"/>
              </a:buClr>
              <a:buSzPct val="95000"/>
              <a:buFont typeface="Wingdings" charset="2"/>
              <a:buChar char="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fr-FR" sz="2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fr-FR" sz="2600" spc="-1" strike="noStrike">
                <a:solidFill>
                  <a:srgbClr val="0066ff"/>
                </a:solidFill>
                <a:latin typeface="Arial"/>
              </a:rPr>
              <a:t>Généraux</a:t>
            </a: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  <a:p>
            <a:pPr lvl="1" marL="851040" indent="-303480">
              <a:spcBef>
                <a:spcPts val="575"/>
              </a:spcBef>
              <a:buClr>
                <a:srgbClr val="009900"/>
              </a:buClr>
              <a:buFont typeface="Wingdings" charset="2"/>
              <a:buChar char="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fr-FR" sz="2300" spc="-1" strike="noStrike">
                <a:solidFill>
                  <a:srgbClr val="0066ff"/>
                </a:solidFill>
                <a:latin typeface="Arial"/>
              </a:rPr>
              <a:t>Respecter le facteur 4 en 2050, en utilisant 20% d'EnR  en 2020 dont 10% de biocarburants, respecter un gain de 9% d’énergie en 2016 (</a:t>
            </a:r>
            <a:r>
              <a:rPr b="1" lang="fr-FR" sz="2300" spc="-1" strike="noStrike">
                <a:solidFill>
                  <a:srgbClr val="0066ff"/>
                </a:solidFill>
                <a:latin typeface="Arial"/>
              </a:rPr>
              <a:t>Directive Européenne ESD</a:t>
            </a:r>
            <a:r>
              <a:rPr b="0" lang="fr-FR" sz="2300" spc="-1" strike="noStrike">
                <a:solidFill>
                  <a:srgbClr val="0066ff"/>
                </a:solidFill>
                <a:latin typeface="Arial"/>
              </a:rPr>
              <a:t>),</a:t>
            </a:r>
            <a:endParaRPr b="1" lang="en-US" sz="2300" spc="-1" strike="noStrike">
              <a:solidFill>
                <a:srgbClr val="0066ff"/>
              </a:solidFill>
              <a:latin typeface="Arial"/>
            </a:endParaRPr>
          </a:p>
          <a:p>
            <a:pPr lvl="1" marL="851040" indent="0">
              <a:spcBef>
                <a:spcPts val="575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300" spc="-1" strike="noStrike">
              <a:solidFill>
                <a:srgbClr val="0066ff"/>
              </a:solidFill>
              <a:latin typeface="Arial"/>
            </a:endParaRPr>
          </a:p>
          <a:p>
            <a:pPr lvl="1" marL="851040" indent="-303480">
              <a:spcBef>
                <a:spcPts val="575"/>
              </a:spcBef>
              <a:buClr>
                <a:srgbClr val="009900"/>
              </a:buClr>
              <a:buFont typeface="Wingdings" charset="2"/>
              <a:buChar char="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fr-FR" sz="2300" spc="-1" strike="noStrike">
                <a:solidFill>
                  <a:srgbClr val="0066ff"/>
                </a:solidFill>
                <a:latin typeface="Arial"/>
              </a:rPr>
              <a:t>Respecter les objectifs du </a:t>
            </a:r>
            <a:r>
              <a:rPr b="1" lang="fr-FR" sz="2300" spc="-1" strike="noStrike">
                <a:solidFill>
                  <a:srgbClr val="0066ff"/>
                </a:solidFill>
                <a:latin typeface="Arial"/>
              </a:rPr>
              <a:t>Grenelle de l’Environnement  (et européens) </a:t>
            </a:r>
            <a:endParaRPr b="1" lang="en-US" sz="2300" spc="-1" strike="noStrike">
              <a:solidFill>
                <a:srgbClr val="0066ff"/>
              </a:solidFill>
              <a:latin typeface="Arial"/>
            </a:endParaRPr>
          </a:p>
          <a:p>
            <a:pPr lvl="2" marL="1163520" indent="-155520">
              <a:spcBef>
                <a:spcPts val="499"/>
              </a:spcBef>
              <a:buClr>
                <a:srgbClr val="339933"/>
              </a:buClr>
              <a:buSzPct val="130000"/>
              <a:buFont typeface="Wingdings" charset="2"/>
              <a:buChar char=""/>
              <a:tabLst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fr-FR" sz="2000" spc="-1" strike="noStrike">
                <a:solidFill>
                  <a:srgbClr val="0066ff"/>
                </a:solidFill>
                <a:latin typeface="Arial"/>
              </a:rPr>
              <a:t>GES des véhicules neufs : 120 gCO2/km) </a:t>
            </a:r>
            <a:endParaRPr b="1" lang="en-US" sz="2000" spc="-1" strike="noStrike">
              <a:solidFill>
                <a:srgbClr val="0066ff"/>
              </a:solidFill>
              <a:latin typeface="Arial"/>
            </a:endParaRPr>
          </a:p>
          <a:p>
            <a:pPr lvl="2" marL="1163520" indent="-155520">
              <a:spcBef>
                <a:spcPts val="499"/>
              </a:spcBef>
              <a:buClr>
                <a:srgbClr val="339933"/>
              </a:buClr>
              <a:buSzPct val="130000"/>
              <a:buFont typeface="Wingdings" charset="2"/>
              <a:buChar char=""/>
              <a:tabLst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fr-FR" sz="2000" spc="-1" strike="noStrike">
                <a:solidFill>
                  <a:srgbClr val="0066ff"/>
                </a:solidFill>
                <a:latin typeface="Arial"/>
              </a:rPr>
              <a:t>130 gCO2/km en 2020 pour le parc roulant.</a:t>
            </a:r>
            <a:endParaRPr b="1" lang="en-US" sz="2000" spc="-1" strike="noStrike">
              <a:solidFill>
                <a:srgbClr val="0066ff"/>
              </a:solidFill>
              <a:latin typeface="Arial"/>
            </a:endParaRPr>
          </a:p>
          <a:p>
            <a:pPr lvl="2" marL="1163520" indent="-155520">
              <a:spcBef>
                <a:spcPts val="499"/>
              </a:spcBef>
              <a:buClr>
                <a:srgbClr val="339933"/>
              </a:buClr>
              <a:buSzPct val="130000"/>
              <a:buFont typeface="Wingdings" charset="2"/>
              <a:buChar char=""/>
              <a:tabLst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fr-FR" sz="2000" spc="-1" strike="noStrike">
                <a:solidFill>
                  <a:srgbClr val="0066ff"/>
                </a:solidFill>
                <a:latin typeface="Arial"/>
              </a:rPr>
              <a:t>Répartition modale pour le transport de marchandises avec une augmentation de 25% du fer en 2012 et de 25% en 2025.</a:t>
            </a:r>
            <a:endParaRPr b="1" lang="en-US" sz="20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79920" y="146160"/>
            <a:ext cx="5464080" cy="690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fr-FR" sz="3400" spc="-1" strike="noStrike">
                <a:solidFill>
                  <a:srgbClr val="0000ff"/>
                </a:solidFill>
                <a:latin typeface="Arial"/>
              </a:rPr>
              <a:t>Enjeux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353440" cy="44640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marL="309600" indent="-309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95000"/>
              <a:buFont typeface="Wingdings" charset="2"/>
              <a:buChar char="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fr-FR" sz="2000" spc="-1" strike="noStrike">
                <a:solidFill>
                  <a:srgbClr val="0066ff"/>
                </a:solidFill>
                <a:latin typeface="Arial"/>
              </a:rPr>
              <a:t>Assurer une </a:t>
            </a:r>
            <a:r>
              <a:rPr b="1" lang="fr-FR" sz="2000" spc="-1" strike="noStrike">
                <a:solidFill>
                  <a:srgbClr val="0066ff"/>
                </a:solidFill>
                <a:latin typeface="Arial"/>
              </a:rPr>
              <a:t>diversification énergétique</a:t>
            </a:r>
            <a:r>
              <a:rPr b="0" lang="fr-FR" sz="2000" spc="-1" strike="noStrike">
                <a:solidFill>
                  <a:srgbClr val="0066ff"/>
                </a:solidFill>
                <a:latin typeface="Arial"/>
              </a:rPr>
              <a:t> intégrant notamment 10% de biocarburants à l’horizon 2020,</a:t>
            </a:r>
            <a:endParaRPr b="1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09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09600" indent="-309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95000"/>
              <a:buFont typeface="Wingdings" charset="2"/>
              <a:buChar char="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fr-FR" sz="2000" spc="-1" strike="noStrike">
                <a:solidFill>
                  <a:srgbClr val="0066ff"/>
                </a:solidFill>
                <a:latin typeface="Arial"/>
              </a:rPr>
              <a:t>Développer une mobilité socialement équitable </a:t>
            </a:r>
            <a:r>
              <a:rPr b="0" lang="fr-FR" sz="2000" spc="-1" strike="noStrike">
                <a:solidFill>
                  <a:srgbClr val="0066ff"/>
                </a:solidFill>
                <a:latin typeface="Arial"/>
              </a:rPr>
              <a:t>pour les déplacements domicile travail et autres activités</a:t>
            </a:r>
            <a:endParaRPr b="1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09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09600" indent="-309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95000"/>
              <a:buFont typeface="Wingdings" charset="2"/>
              <a:buChar char="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fr-FR" sz="2000" spc="-1" strike="noStrike">
                <a:solidFill>
                  <a:srgbClr val="0066ff"/>
                </a:solidFill>
                <a:latin typeface="Arial"/>
              </a:rPr>
              <a:t>Minimiser et </a:t>
            </a:r>
            <a:r>
              <a:rPr b="1" lang="fr-FR" sz="2000" spc="-1" strike="noStrike">
                <a:solidFill>
                  <a:srgbClr val="0066ff"/>
                </a:solidFill>
                <a:latin typeface="Arial"/>
              </a:rPr>
              <a:t>optimiser l’utilisation et l’occupation</a:t>
            </a:r>
            <a:r>
              <a:rPr b="0" lang="fr-FR" sz="2000" spc="-1" strike="noStrike">
                <a:solidFill>
                  <a:srgbClr val="0066ff"/>
                </a:solidFill>
                <a:latin typeface="Arial"/>
              </a:rPr>
              <a:t> de l’espace public (congestion, stationnement notamment).</a:t>
            </a:r>
            <a:endParaRPr b="1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09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09600" indent="-309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95000"/>
              <a:buFont typeface="Wingdings" charset="2"/>
              <a:buChar char="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fr-FR" sz="2000" spc="-1" strike="noStrike">
                <a:solidFill>
                  <a:srgbClr val="0066ff"/>
                </a:solidFill>
                <a:latin typeface="Arial"/>
              </a:rPr>
              <a:t>Optimiser les investissements et frais de fonctionnement</a:t>
            </a:r>
            <a:r>
              <a:rPr b="0" lang="fr-FR" sz="2000" spc="-1" strike="noStrike">
                <a:solidFill>
                  <a:srgbClr val="0066ff"/>
                </a:solidFill>
                <a:latin typeface="Arial"/>
              </a:rPr>
              <a:t> publics nationaux et locaux dans les domaines des transports</a:t>
            </a:r>
            <a:endParaRPr b="1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09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09600" indent="-309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95000"/>
              <a:buFont typeface="Wingdings" charset="2"/>
              <a:buChar char="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fr-FR" sz="2000" spc="-1" strike="noStrike">
                <a:solidFill>
                  <a:srgbClr val="0066ff"/>
                </a:solidFill>
                <a:latin typeface="Arial"/>
              </a:rPr>
              <a:t>Respecter les </a:t>
            </a:r>
            <a:r>
              <a:rPr b="1" lang="fr-FR" sz="2000" spc="-1" strike="noStrike">
                <a:solidFill>
                  <a:srgbClr val="0066ff"/>
                </a:solidFill>
                <a:latin typeface="Arial"/>
              </a:rPr>
              <a:t>critères européens </a:t>
            </a:r>
            <a:r>
              <a:rPr b="0" lang="fr-FR" sz="2000" spc="-1" strike="noStrike">
                <a:solidFill>
                  <a:srgbClr val="0066ff"/>
                </a:solidFill>
                <a:latin typeface="Arial"/>
              </a:rPr>
              <a:t>en matière de qualité de l’air,</a:t>
            </a:r>
            <a:endParaRPr b="1" lang="en-US" sz="2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706120" y="5516640"/>
            <a:ext cx="362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6600"/>
                </a:solidFill>
                <a:latin typeface="Arial"/>
              </a:rPr>
              <a:t>INTEROPERABI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6600"/>
                </a:solidFill>
                <a:latin typeface="Arial"/>
              </a:rPr>
              <a:t>PROPRI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971640" y="5734080"/>
            <a:ext cx="1368360" cy="576360"/>
          </a:xfrm>
          <a:prstGeom prst="rightArrow">
            <a:avLst>
              <a:gd name="adj1" fmla="val 50000"/>
              <a:gd name="adj2" fmla="val 59354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5148360" y="3186000"/>
            <a:ext cx="3995640" cy="2070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0" y="1608120"/>
            <a:ext cx="5219640" cy="36925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03640" y="0"/>
            <a:ext cx="5464080" cy="690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fr-FR" sz="3400" spc="-1" strike="noStrike">
                <a:solidFill>
                  <a:srgbClr val="0000ff"/>
                </a:solidFill>
                <a:latin typeface="Arial"/>
              </a:rPr>
              <a:t>Interoperabilité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53920" y="981000"/>
            <a:ext cx="7966080" cy="26640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marL="309600" indent="-309600">
              <a:lnSpc>
                <a:spcPct val="90000"/>
              </a:lnSpc>
              <a:spcBef>
                <a:spcPts val="649"/>
              </a:spcBef>
              <a:buClr>
                <a:srgbClr val="008000"/>
              </a:buClr>
              <a:buSzPct val="95000"/>
              <a:buFont typeface="Wingdings" charset="2"/>
              <a:buChar char="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fr-FR" sz="2600" spc="-1" strike="noStrike">
                <a:solidFill>
                  <a:srgbClr val="0066ff"/>
                </a:solidFill>
                <a:latin typeface="Arial"/>
              </a:rPr>
              <a:t>Interopérabilité des modes de transport : permet de passer d’un mode à l’autre sans rupture, simplement, rapidement, sans stress en simplifiant le paiement,. L’interopérabilité est facilitée par </a:t>
            </a: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  <a:p>
            <a:pPr lvl="1" marL="851040" indent="-303480">
              <a:lnSpc>
                <a:spcPct val="90000"/>
              </a:lnSpc>
              <a:spcBef>
                <a:spcPts val="575"/>
              </a:spcBef>
              <a:buClr>
                <a:srgbClr val="009900"/>
              </a:buClr>
              <a:buFont typeface="Wingdings" charset="2"/>
              <a:buChar char="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fr-FR" sz="2300" spc="-1" strike="noStrike">
                <a:solidFill>
                  <a:srgbClr val="0066ff"/>
                </a:solidFill>
                <a:latin typeface="Arial"/>
              </a:rPr>
              <a:t>Les poles d'échange</a:t>
            </a:r>
            <a:endParaRPr b="1" lang="en-US" sz="2300" spc="-1" strike="noStrike">
              <a:solidFill>
                <a:srgbClr val="0066ff"/>
              </a:solidFill>
              <a:latin typeface="Arial"/>
            </a:endParaRPr>
          </a:p>
          <a:p>
            <a:pPr lvl="1" marL="851040" indent="-303480">
              <a:lnSpc>
                <a:spcPct val="90000"/>
              </a:lnSpc>
              <a:spcBef>
                <a:spcPts val="575"/>
              </a:spcBef>
              <a:buClr>
                <a:srgbClr val="009900"/>
              </a:buClr>
              <a:buFont typeface="Wingdings" charset="2"/>
              <a:buChar char="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fr-FR" sz="2300" spc="-1" strike="noStrike">
                <a:solidFill>
                  <a:srgbClr val="0066ff"/>
                </a:solidFill>
                <a:latin typeface="Arial"/>
              </a:rPr>
              <a:t>le partage d’informations</a:t>
            </a:r>
            <a:endParaRPr b="1" lang="en-US" sz="2300" spc="-1" strike="noStrike">
              <a:solidFill>
                <a:srgbClr val="0066ff"/>
              </a:solidFill>
              <a:latin typeface="Arial"/>
            </a:endParaRPr>
          </a:p>
          <a:p>
            <a:pPr marL="309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2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3"/>
          <a:stretch/>
        </p:blipFill>
        <p:spPr>
          <a:xfrm>
            <a:off x="0" y="5189400"/>
            <a:ext cx="9144000" cy="16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03640" y="0"/>
            <a:ext cx="5464080" cy="690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fr-FR" sz="3400" spc="-1" strike="noStrike">
                <a:solidFill>
                  <a:srgbClr val="0000ff"/>
                </a:solidFill>
                <a:latin typeface="Arial"/>
              </a:rPr>
              <a:t>Propriété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53920" y="981000"/>
            <a:ext cx="7966080" cy="39607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marL="309600" indent="-309600">
              <a:lnSpc>
                <a:spcPct val="80000"/>
              </a:lnSpc>
              <a:spcBef>
                <a:spcPts val="550"/>
              </a:spcBef>
              <a:buClr>
                <a:srgbClr val="008000"/>
              </a:buClr>
              <a:buSzPct val="95000"/>
              <a:buFont typeface="Wingdings" charset="2"/>
              <a:buChar char="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fr-FR" sz="2200" spc="-1" strike="noStrike">
                <a:solidFill>
                  <a:srgbClr val="0066ff"/>
                </a:solidFill>
                <a:latin typeface="Arial"/>
              </a:rPr>
              <a:t>Mobilité en propriété ou en partage : </a:t>
            </a:r>
            <a:endParaRPr b="1" lang="en-US" sz="2200" spc="-1" strike="noStrike">
              <a:solidFill>
                <a:srgbClr val="0066ff"/>
              </a:solidFill>
              <a:latin typeface="Arial"/>
            </a:endParaRPr>
          </a:p>
          <a:p>
            <a:pPr lvl="1" marL="851040" indent="-303480">
              <a:lnSpc>
                <a:spcPct val="80000"/>
              </a:lnSpc>
              <a:spcBef>
                <a:spcPts val="524"/>
              </a:spcBef>
              <a:buClr>
                <a:srgbClr val="009900"/>
              </a:buClr>
              <a:buFont typeface="Wingdings" charset="2"/>
              <a:buChar char="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fr-FR" sz="21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fr-FR" sz="2100" spc="-1" strike="noStrike">
                <a:solidFill>
                  <a:srgbClr val="0066ff"/>
                </a:solidFill>
                <a:latin typeface="Arial"/>
              </a:rPr>
              <a:t>Une mobilité en propriété &gt;&gt;&gt; achat d’un véhicule dont on a la disponibilité permanente. </a:t>
            </a:r>
            <a:endParaRPr b="1" lang="en-US" sz="2100" spc="-1" strike="noStrike">
              <a:solidFill>
                <a:srgbClr val="0066ff"/>
              </a:solidFill>
              <a:latin typeface="Arial"/>
            </a:endParaRPr>
          </a:p>
          <a:p>
            <a:pPr lvl="1" marL="851040" indent="-303480">
              <a:lnSpc>
                <a:spcPct val="80000"/>
              </a:lnSpc>
              <a:spcBef>
                <a:spcPts val="524"/>
              </a:spcBef>
              <a:buClr>
                <a:srgbClr val="009900"/>
              </a:buClr>
              <a:buFont typeface="Wingdings" charset="2"/>
              <a:buChar char="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fr-FR" sz="21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fr-FR" sz="2100" spc="-1" strike="noStrike">
                <a:solidFill>
                  <a:srgbClr val="0066ff"/>
                </a:solidFill>
                <a:latin typeface="Arial"/>
              </a:rPr>
              <a:t>La mobilité en partage &gt;&gt;&gt; assurer tout ou partie des trajets quotidiens sans être propriétaire de son véhicule. </a:t>
            </a:r>
            <a:endParaRPr b="1" lang="en-US" sz="2100" spc="-1" strike="noStrike">
              <a:solidFill>
                <a:srgbClr val="0066ff"/>
              </a:solidFill>
              <a:latin typeface="Arial"/>
            </a:endParaRPr>
          </a:p>
          <a:p>
            <a:pPr lvl="2" marL="1163520" indent="-15552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130000"/>
              <a:buFont typeface="Wingdings" charset="2"/>
              <a:buChar char=""/>
              <a:tabLst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fr-FR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66ff"/>
                </a:solidFill>
                <a:latin typeface="Arial"/>
              </a:rPr>
              <a:t>location courte durée, </a:t>
            </a:r>
            <a:endParaRPr b="1" lang="en-US" sz="1800" spc="-1" strike="noStrike">
              <a:solidFill>
                <a:srgbClr val="0066ff"/>
              </a:solidFill>
              <a:latin typeface="Arial"/>
            </a:endParaRPr>
          </a:p>
          <a:p>
            <a:pPr lvl="2" marL="1163520" indent="-15552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130000"/>
              <a:buFont typeface="Wingdings" charset="2"/>
              <a:buChar char=""/>
              <a:tabLst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fr-FR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66ff"/>
                </a:solidFill>
                <a:latin typeface="Arial"/>
              </a:rPr>
              <a:t>l’autopartage dans la sphère privée, </a:t>
            </a:r>
            <a:endParaRPr b="1" lang="en-US" sz="1800" spc="-1" strike="noStrike">
              <a:solidFill>
                <a:srgbClr val="0066ff"/>
              </a:solidFill>
              <a:latin typeface="Arial"/>
            </a:endParaRPr>
          </a:p>
          <a:p>
            <a:pPr lvl="2" marL="1163520" indent="-15552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130000"/>
              <a:buFont typeface="Wingdings" charset="2"/>
              <a:buChar char=""/>
              <a:tabLst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fr-FR" sz="1800" spc="-1" strike="noStrike">
                <a:solidFill>
                  <a:srgbClr val="0066ff"/>
                </a:solidFill>
                <a:latin typeface="Arial"/>
              </a:rPr>
              <a:t>le covoiturage </a:t>
            </a:r>
            <a:endParaRPr b="1" lang="en-US" sz="1800" spc="-1" strike="noStrike">
              <a:solidFill>
                <a:srgbClr val="0066ff"/>
              </a:solidFill>
              <a:latin typeface="Arial"/>
            </a:endParaRPr>
          </a:p>
          <a:p>
            <a:pPr lvl="2" marL="1163520" indent="-15552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130000"/>
              <a:buFont typeface="Wingdings" charset="2"/>
              <a:buChar char=""/>
              <a:tabLst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fr-FR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66ff"/>
                </a:solidFill>
                <a:latin typeface="Arial"/>
              </a:rPr>
              <a:t>les transports publics, </a:t>
            </a:r>
            <a:endParaRPr b="1" lang="en-US" sz="1800" spc="-1" strike="noStrike">
              <a:solidFill>
                <a:srgbClr val="0066ff"/>
              </a:solidFill>
              <a:latin typeface="Arial"/>
            </a:endParaRPr>
          </a:p>
          <a:p>
            <a:pPr marL="309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en-US" sz="1800" spc="-1" strike="noStrike">
              <a:solidFill>
                <a:srgbClr val="0066ff"/>
              </a:solidFill>
              <a:latin typeface="Arial"/>
            </a:endParaRPr>
          </a:p>
          <a:p>
            <a:pPr marL="309600" indent="-309600">
              <a:lnSpc>
                <a:spcPct val="80000"/>
              </a:lnSpc>
              <a:spcBef>
                <a:spcPts val="550"/>
              </a:spcBef>
              <a:buClr>
                <a:srgbClr val="008000"/>
              </a:buClr>
              <a:buSzPct val="95000"/>
              <a:buFont typeface="Wingdings" charset="2"/>
              <a:buChar char="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i="1" lang="fr-FR" sz="2200" spc="-1" strike="noStrike">
                <a:solidFill>
                  <a:srgbClr val="0066ff"/>
                </a:solidFill>
                <a:latin typeface="Arial"/>
              </a:rPr>
              <a:t>Le transport de marchandises utilise depuis longtemps ces deux voies.</a:t>
            </a:r>
            <a:endParaRPr b="1" lang="en-US" sz="22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00" name="Picture 4" descr="IMG_0509"/>
          <p:cNvPicPr/>
          <p:nvPr/>
        </p:nvPicPr>
        <p:blipFill>
          <a:blip r:embed="rId1"/>
          <a:stretch/>
        </p:blipFill>
        <p:spPr>
          <a:xfrm>
            <a:off x="6019920" y="5081760"/>
            <a:ext cx="2368440" cy="1776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IMG_2857"/>
          <p:cNvPicPr/>
          <p:nvPr/>
        </p:nvPicPr>
        <p:blipFill>
          <a:blip r:embed="rId2"/>
          <a:stretch/>
        </p:blipFill>
        <p:spPr>
          <a:xfrm>
            <a:off x="3521160" y="5108400"/>
            <a:ext cx="2368440" cy="1776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20122007010"/>
          <p:cNvPicPr/>
          <p:nvPr/>
        </p:nvPicPr>
        <p:blipFill>
          <a:blip r:embed="rId3"/>
          <a:stretch/>
        </p:blipFill>
        <p:spPr>
          <a:xfrm>
            <a:off x="1035000" y="5100480"/>
            <a:ext cx="2355840" cy="1766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cambioautos"/>
          <p:cNvPicPr/>
          <p:nvPr/>
        </p:nvPicPr>
        <p:blipFill>
          <a:blip r:embed="rId4"/>
          <a:stretch/>
        </p:blipFill>
        <p:spPr>
          <a:xfrm>
            <a:off x="0" y="2492280"/>
            <a:ext cx="1692360" cy="15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03520" y="366840"/>
            <a:ext cx="5464080" cy="690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fr-FR" sz="3000" spc="-1" strike="noStrike">
                <a:solidFill>
                  <a:srgbClr val="0000ff"/>
                </a:solidFill>
                <a:latin typeface="Arial"/>
              </a:rPr>
              <a:t>Les solutions envisageables</a:t>
            </a:r>
            <a:endParaRPr b="1" lang="en-US" sz="30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11280" y="1125360"/>
          <a:ext cx="8281800" cy="5572440"/>
        </p:xfrm>
        <a:graphic>
          <a:graphicData uri="http://schemas.openxmlformats.org/drawingml/2006/table">
            <a:tbl>
              <a:tblPr/>
              <a:tblGrid>
                <a:gridCol w="2016000"/>
                <a:gridCol w="2808360"/>
                <a:gridCol w="34574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893880"/>
                          <a:tab algn="l" pos="1787400"/>
                          <a:tab algn="l" pos="2681280"/>
                          <a:tab algn="l" pos="3575160"/>
                          <a:tab algn="l" pos="4468680"/>
                          <a:tab algn="l" pos="5362560"/>
                          <a:tab algn="l" pos="6256440"/>
                          <a:tab algn="l" pos="7149960"/>
                          <a:tab algn="l" pos="8043840"/>
                          <a:tab algn="l" pos="8937720"/>
                          <a:tab algn="l" pos="9831240"/>
                          <a:tab algn="l" pos="10725120"/>
                        </a:tabLst>
                      </a:pPr>
                      <a:r>
                        <a:rPr b="1" i="1" lang="fr-FR" sz="2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Passag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893880"/>
                          <a:tab algn="l" pos="1787400"/>
                          <a:tab algn="l" pos="2681280"/>
                          <a:tab algn="l" pos="3575160"/>
                          <a:tab algn="l" pos="4468680"/>
                          <a:tab algn="l" pos="5362560"/>
                          <a:tab algn="l" pos="6256440"/>
                          <a:tab algn="l" pos="7149960"/>
                          <a:tab algn="l" pos="8043840"/>
                          <a:tab algn="l" pos="8937720"/>
                          <a:tab algn="l" pos="9831240"/>
                          <a:tab algn="l" pos="10725120"/>
                        </a:tabLst>
                      </a:pPr>
                      <a:r>
                        <a:rPr b="1" lang="fr-FR" sz="2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Interopérabilité fai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893880"/>
                          <a:tab algn="l" pos="1787400"/>
                          <a:tab algn="l" pos="2681280"/>
                          <a:tab algn="l" pos="3575160"/>
                          <a:tab algn="l" pos="4468680"/>
                          <a:tab algn="l" pos="5362560"/>
                          <a:tab algn="l" pos="6256440"/>
                          <a:tab algn="l" pos="7149960"/>
                          <a:tab algn="l" pos="8043840"/>
                          <a:tab algn="l" pos="8937720"/>
                          <a:tab algn="l" pos="9831240"/>
                          <a:tab algn="l" pos="10725120"/>
                        </a:tabLst>
                      </a:pPr>
                      <a:r>
                        <a:rPr b="1" lang="fr-FR" sz="2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Interopérabilité forte 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57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893880"/>
                          <a:tab algn="l" pos="1787400"/>
                          <a:tab algn="l" pos="2681280"/>
                          <a:tab algn="l" pos="3575160"/>
                          <a:tab algn="l" pos="4468680"/>
                          <a:tab algn="l" pos="5362560"/>
                          <a:tab algn="l" pos="6256440"/>
                          <a:tab algn="l" pos="7149960"/>
                          <a:tab algn="l" pos="8043840"/>
                          <a:tab algn="l" pos="8937720"/>
                          <a:tab algn="l" pos="9831240"/>
                          <a:tab algn="l" pos="10725120"/>
                        </a:tabLst>
                      </a:pPr>
                      <a:r>
                        <a:rPr b="1" lang="fr-FR" sz="2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Mobilité e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893880"/>
                          <a:tab algn="l" pos="1787400"/>
                          <a:tab algn="l" pos="2681280"/>
                          <a:tab algn="l" pos="3575160"/>
                          <a:tab algn="l" pos="4468680"/>
                          <a:tab algn="l" pos="5362560"/>
                          <a:tab algn="l" pos="6256440"/>
                          <a:tab algn="l" pos="7149960"/>
                          <a:tab algn="l" pos="8043840"/>
                          <a:tab algn="l" pos="8937720"/>
                          <a:tab algn="l" pos="9831240"/>
                          <a:tab algn="l" pos="10725120"/>
                        </a:tabLst>
                      </a:pPr>
                      <a:r>
                        <a:rPr b="1" lang="fr-FR" sz="2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propriété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893880"/>
                          <a:tab algn="l" pos="1787400"/>
                          <a:tab algn="l" pos="2681280"/>
                          <a:tab algn="l" pos="3575160"/>
                          <a:tab algn="l" pos="4468680"/>
                          <a:tab algn="l" pos="5362560"/>
                          <a:tab algn="l" pos="6256440"/>
                          <a:tab algn="l" pos="7149960"/>
                          <a:tab algn="l" pos="8043840"/>
                          <a:tab algn="l" pos="8937720"/>
                          <a:tab algn="l" pos="9831240"/>
                          <a:tab algn="l" pos="10725120"/>
                        </a:tabLst>
                      </a:pPr>
                      <a:r>
                        <a:rPr b="1" lang="fr-FR" sz="2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(économie des objet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893880"/>
                          <a:tab algn="l" pos="1787400"/>
                          <a:tab algn="l" pos="2681280"/>
                          <a:tab algn="l" pos="3575160"/>
                          <a:tab algn="l" pos="4468680"/>
                          <a:tab algn="l" pos="5362560"/>
                          <a:tab algn="l" pos="6256440"/>
                          <a:tab algn="l" pos="7149960"/>
                          <a:tab algn="l" pos="8043840"/>
                          <a:tab algn="l" pos="8937720"/>
                          <a:tab algn="l" pos="9831240"/>
                          <a:tab algn="l" pos="10725120"/>
                        </a:tabLst>
                      </a:pPr>
                      <a:r>
                        <a:rPr b="1" i="1" lang="fr-FR" sz="2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1- Mobilité Individuelle 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893880"/>
                          <a:tab algn="l" pos="1787400"/>
                          <a:tab algn="l" pos="2681280"/>
                          <a:tab algn="l" pos="3575160"/>
                          <a:tab algn="l" pos="4468680"/>
                          <a:tab algn="l" pos="5362560"/>
                          <a:tab algn="l" pos="6256440"/>
                          <a:tab algn="l" pos="7149960"/>
                          <a:tab algn="l" pos="8043840"/>
                          <a:tab algn="l" pos="8937720"/>
                          <a:tab algn="l" pos="9831240"/>
                          <a:tab algn="l" pos="10725120"/>
                        </a:tabLst>
                      </a:pPr>
                      <a:r>
                        <a:rPr b="1" i="1" lang="fr-FR" sz="2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· Véhicule indiv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893880"/>
                          <a:tab algn="l" pos="1787400"/>
                          <a:tab algn="l" pos="2681280"/>
                          <a:tab algn="l" pos="3575160"/>
                          <a:tab algn="l" pos="4468680"/>
                          <a:tab algn="l" pos="5362560"/>
                          <a:tab algn="l" pos="6256440"/>
                          <a:tab algn="l" pos="7149960"/>
                          <a:tab algn="l" pos="8043840"/>
                          <a:tab algn="l" pos="8937720"/>
                          <a:tab algn="l" pos="9831240"/>
                          <a:tab algn="l" pos="10725120"/>
                        </a:tabLst>
                      </a:pPr>
                      <a:r>
                        <a:rPr b="1" i="1" lang="fr-FR" sz="2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· Transports en Commun (TC) standar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893880"/>
                          <a:tab algn="l" pos="1787400"/>
                          <a:tab algn="l" pos="2681280"/>
                          <a:tab algn="l" pos="3575160"/>
                          <a:tab algn="l" pos="4468680"/>
                          <a:tab algn="l" pos="5362560"/>
                          <a:tab algn="l" pos="6256440"/>
                          <a:tab algn="l" pos="7149960"/>
                          <a:tab algn="l" pos="8043840"/>
                          <a:tab algn="l" pos="8937720"/>
                          <a:tab algn="l" pos="9831240"/>
                          <a:tab algn="l" pos="10725120"/>
                        </a:tabLst>
                      </a:pPr>
                      <a:r>
                        <a:rPr b="1" i="1" lang="fr-FR" sz="2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2- Mobilité Individuel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893880"/>
                          <a:tab algn="l" pos="1787400"/>
                          <a:tab algn="l" pos="2681280"/>
                          <a:tab algn="l" pos="3575160"/>
                          <a:tab algn="l" pos="4468680"/>
                          <a:tab algn="l" pos="5362560"/>
                          <a:tab algn="l" pos="6256440"/>
                          <a:tab algn="l" pos="7149960"/>
                          <a:tab algn="l" pos="8043840"/>
                          <a:tab algn="l" pos="8937720"/>
                          <a:tab algn="l" pos="9831240"/>
                          <a:tab algn="l" pos="10725120"/>
                        </a:tabLst>
                      </a:pPr>
                      <a:r>
                        <a:rPr b="1" i="1" lang="fr-FR" sz="2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Connectée,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893880"/>
                          <a:tab algn="l" pos="1787400"/>
                          <a:tab algn="l" pos="2681280"/>
                          <a:tab algn="l" pos="3575160"/>
                          <a:tab algn="l" pos="4468680"/>
                          <a:tab algn="l" pos="5362560"/>
                          <a:tab algn="l" pos="6256440"/>
                          <a:tab algn="l" pos="7149960"/>
                          <a:tab algn="l" pos="8043840"/>
                          <a:tab algn="l" pos="8937720"/>
                          <a:tab algn="l" pos="9831240"/>
                          <a:tab algn="l" pos="10725120"/>
                        </a:tabLst>
                      </a:pPr>
                      <a:r>
                        <a:rPr b="1" i="1" lang="fr-FR" sz="2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Différents types de véhicule disponibles, mais changement de mode amélioré. Parc relais, vélo + bus 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2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893880"/>
                          <a:tab algn="l" pos="1787400"/>
                          <a:tab algn="l" pos="2681280"/>
                          <a:tab algn="l" pos="3575160"/>
                          <a:tab algn="l" pos="4468680"/>
                          <a:tab algn="l" pos="5362560"/>
                          <a:tab algn="l" pos="6256440"/>
                          <a:tab algn="l" pos="7149960"/>
                          <a:tab algn="l" pos="8043840"/>
                          <a:tab algn="l" pos="8937720"/>
                          <a:tab algn="l" pos="9831240"/>
                          <a:tab algn="l" pos="10725120"/>
                        </a:tabLst>
                      </a:pPr>
                      <a:r>
                        <a:rPr b="1" lang="fr-FR" sz="2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Mobilité e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893880"/>
                          <a:tab algn="l" pos="1787400"/>
                          <a:tab algn="l" pos="2681280"/>
                          <a:tab algn="l" pos="3575160"/>
                          <a:tab algn="l" pos="4468680"/>
                          <a:tab algn="l" pos="5362560"/>
                          <a:tab algn="l" pos="6256440"/>
                          <a:tab algn="l" pos="7149960"/>
                          <a:tab algn="l" pos="8043840"/>
                          <a:tab algn="l" pos="8937720"/>
                          <a:tab algn="l" pos="9831240"/>
                          <a:tab algn="l" pos="10725120"/>
                        </a:tabLst>
                      </a:pPr>
                      <a:r>
                        <a:rPr b="1" lang="fr-FR" sz="2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Partage , (économie des service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893880"/>
                          <a:tab algn="l" pos="1787400"/>
                          <a:tab algn="l" pos="2681280"/>
                          <a:tab algn="l" pos="3575160"/>
                          <a:tab algn="l" pos="4468680"/>
                          <a:tab algn="l" pos="5362560"/>
                          <a:tab algn="l" pos="6256440"/>
                          <a:tab algn="l" pos="7149960"/>
                          <a:tab algn="l" pos="8043840"/>
                          <a:tab algn="l" pos="8937720"/>
                          <a:tab algn="l" pos="9831240"/>
                          <a:tab algn="l" pos="10725120"/>
                        </a:tabLst>
                      </a:pPr>
                      <a:r>
                        <a:rPr b="1" i="1" lang="fr-FR" sz="2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3- Mobilité altern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893880"/>
                          <a:tab algn="l" pos="1787400"/>
                          <a:tab algn="l" pos="2681280"/>
                          <a:tab algn="l" pos="3575160"/>
                          <a:tab algn="l" pos="4468680"/>
                          <a:tab algn="l" pos="5362560"/>
                          <a:tab algn="l" pos="6256440"/>
                          <a:tab algn="l" pos="7149960"/>
                          <a:tab algn="l" pos="8043840"/>
                          <a:tab algn="l" pos="8937720"/>
                          <a:tab algn="l" pos="9831240"/>
                          <a:tab algn="l" pos="10725120"/>
                        </a:tabLst>
                      </a:pPr>
                      <a:r>
                        <a:rPr b="1" i="1" lang="fr-FR" sz="2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(Covoiturage, autopartage, TC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893880"/>
                          <a:tab algn="l" pos="1787400"/>
                          <a:tab algn="l" pos="2681280"/>
                          <a:tab algn="l" pos="3575160"/>
                          <a:tab algn="l" pos="4468680"/>
                          <a:tab algn="l" pos="5362560"/>
                          <a:tab algn="l" pos="6256440"/>
                          <a:tab algn="l" pos="7149960"/>
                          <a:tab algn="l" pos="8043840"/>
                          <a:tab algn="l" pos="8937720"/>
                          <a:tab algn="l" pos="9831240"/>
                          <a:tab algn="l" pos="10725120"/>
                        </a:tabLst>
                      </a:pPr>
                      <a:r>
                        <a:rPr b="1" i="1" lang="fr-FR" sz="2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mais encore cloisonné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893880"/>
                          <a:tab algn="l" pos="1787400"/>
                          <a:tab algn="l" pos="2681280"/>
                          <a:tab algn="l" pos="3575160"/>
                          <a:tab algn="l" pos="4468680"/>
                          <a:tab algn="l" pos="5362560"/>
                          <a:tab algn="l" pos="6256440"/>
                          <a:tab algn="l" pos="7149960"/>
                          <a:tab algn="l" pos="8043840"/>
                          <a:tab algn="l" pos="8937720"/>
                          <a:tab algn="l" pos="9831240"/>
                          <a:tab algn="l" pos="10725120"/>
                        </a:tabLst>
                      </a:pPr>
                      <a:r>
                        <a:rPr b="1" i="1" lang="fr-FR" sz="2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4- Multimodalité fluide en temps réel, véhicule non possédé ayant d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893880"/>
                          <a:tab algn="l" pos="1787400"/>
                          <a:tab algn="l" pos="2681280"/>
                          <a:tab algn="l" pos="3575160"/>
                          <a:tab algn="l" pos="4468680"/>
                          <a:tab algn="l" pos="5362560"/>
                          <a:tab algn="l" pos="6256440"/>
                          <a:tab algn="l" pos="7149960"/>
                          <a:tab algn="l" pos="8043840"/>
                          <a:tab algn="l" pos="8937720"/>
                          <a:tab algn="l" pos="9831240"/>
                          <a:tab algn="l" pos="10725120"/>
                        </a:tabLst>
                      </a:pPr>
                      <a:r>
                        <a:rPr b="1" i="1" lang="fr-FR" sz="2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spécifications adaptées aux usag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03520" y="366840"/>
            <a:ext cx="5464080" cy="690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fr-FR" sz="3000" spc="-1" strike="noStrike">
                <a:solidFill>
                  <a:srgbClr val="0000ff"/>
                </a:solidFill>
                <a:latin typeface="Arial"/>
              </a:rPr>
              <a:t>Les solutions envisageables</a:t>
            </a:r>
            <a:endParaRPr b="1" lang="en-US" sz="30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44360" y="1125360"/>
          <a:ext cx="8820360" cy="5662800"/>
        </p:xfrm>
        <a:graphic>
          <a:graphicData uri="http://schemas.openxmlformats.org/drawingml/2006/table">
            <a:tbl>
              <a:tblPr/>
              <a:tblGrid>
                <a:gridCol w="2146320"/>
                <a:gridCol w="3041640"/>
                <a:gridCol w="3632400"/>
              </a:tblGrid>
              <a:tr h="86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893880"/>
                          <a:tab algn="l" pos="1787400"/>
                          <a:tab algn="l" pos="2681280"/>
                          <a:tab algn="l" pos="3575160"/>
                          <a:tab algn="l" pos="4468680"/>
                          <a:tab algn="l" pos="5362560"/>
                          <a:tab algn="l" pos="6256440"/>
                          <a:tab algn="l" pos="7149960"/>
                          <a:tab algn="l" pos="8043840"/>
                          <a:tab algn="l" pos="8937720"/>
                          <a:tab algn="l" pos="9831240"/>
                          <a:tab algn="l" pos="10725120"/>
                        </a:tabLst>
                      </a:pPr>
                      <a:r>
                        <a:rPr b="1" i="1" lang="fr-FR" sz="2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Marchandis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893880"/>
                          <a:tab algn="l" pos="1787400"/>
                          <a:tab algn="l" pos="2681280"/>
                          <a:tab algn="l" pos="3575160"/>
                          <a:tab algn="l" pos="4468680"/>
                          <a:tab algn="l" pos="5362560"/>
                          <a:tab algn="l" pos="6256440"/>
                          <a:tab algn="l" pos="7149960"/>
                          <a:tab algn="l" pos="8043840"/>
                          <a:tab algn="l" pos="8937720"/>
                          <a:tab algn="l" pos="9831240"/>
                          <a:tab algn="l" pos="10725120"/>
                        </a:tabLst>
                      </a:pPr>
                      <a:r>
                        <a:rPr b="1" lang="fr-FR" sz="2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Interopérabilité fai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893880"/>
                          <a:tab algn="l" pos="1787400"/>
                          <a:tab algn="l" pos="2681280"/>
                          <a:tab algn="l" pos="3575160"/>
                          <a:tab algn="l" pos="4468680"/>
                          <a:tab algn="l" pos="5362560"/>
                          <a:tab algn="l" pos="6256440"/>
                          <a:tab algn="l" pos="7149960"/>
                          <a:tab algn="l" pos="8043840"/>
                          <a:tab algn="l" pos="8937720"/>
                          <a:tab algn="l" pos="9831240"/>
                          <a:tab algn="l" pos="10725120"/>
                        </a:tabLst>
                      </a:pPr>
                      <a:r>
                        <a:rPr b="1" lang="fr-FR" sz="2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Interopérabilité for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893880"/>
                          <a:tab algn="l" pos="1787400"/>
                          <a:tab algn="l" pos="2681280"/>
                          <a:tab algn="l" pos="3575160"/>
                          <a:tab algn="l" pos="4468680"/>
                          <a:tab algn="l" pos="5362560"/>
                          <a:tab algn="l" pos="6256440"/>
                          <a:tab algn="l" pos="7149960"/>
                          <a:tab algn="l" pos="8043840"/>
                          <a:tab algn="l" pos="8937720"/>
                          <a:tab algn="l" pos="9831240"/>
                          <a:tab algn="l" pos="10725120"/>
                        </a:tabLst>
                      </a:pPr>
                      <a:r>
                        <a:rPr b="1" lang="fr-FR" sz="2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Mobilité e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893880"/>
                          <a:tab algn="l" pos="1787400"/>
                          <a:tab algn="l" pos="2681280"/>
                          <a:tab algn="l" pos="3575160"/>
                          <a:tab algn="l" pos="4468680"/>
                          <a:tab algn="l" pos="5362560"/>
                          <a:tab algn="l" pos="6256440"/>
                          <a:tab algn="l" pos="7149960"/>
                          <a:tab algn="l" pos="8043840"/>
                          <a:tab algn="l" pos="8937720"/>
                          <a:tab algn="l" pos="9831240"/>
                          <a:tab algn="l" pos="10725120"/>
                        </a:tabLst>
                      </a:pPr>
                      <a:r>
                        <a:rPr b="1" lang="fr-FR" sz="2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propriété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893880"/>
                          <a:tab algn="l" pos="1787400"/>
                          <a:tab algn="l" pos="2681280"/>
                          <a:tab algn="l" pos="3575160"/>
                          <a:tab algn="l" pos="4468680"/>
                          <a:tab algn="l" pos="5362560"/>
                          <a:tab algn="l" pos="6256440"/>
                          <a:tab algn="l" pos="7149960"/>
                          <a:tab algn="l" pos="8043840"/>
                          <a:tab algn="l" pos="8937720"/>
                          <a:tab algn="l" pos="9831240"/>
                          <a:tab algn="l" pos="10725120"/>
                        </a:tabLst>
                      </a:pPr>
                      <a:r>
                        <a:rPr b="1" lang="fr-FR" sz="2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(économie d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893880"/>
                          <a:tab algn="l" pos="1787400"/>
                          <a:tab algn="l" pos="2681280"/>
                          <a:tab algn="l" pos="3575160"/>
                          <a:tab algn="l" pos="4468680"/>
                          <a:tab algn="l" pos="5362560"/>
                          <a:tab algn="l" pos="6256440"/>
                          <a:tab algn="l" pos="7149960"/>
                          <a:tab algn="l" pos="8043840"/>
                          <a:tab algn="l" pos="8937720"/>
                          <a:tab algn="l" pos="9831240"/>
                          <a:tab algn="l" pos="10725120"/>
                        </a:tabLst>
                      </a:pPr>
                      <a:r>
                        <a:rPr b="1" lang="fr-FR" sz="2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objet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893880"/>
                          <a:tab algn="l" pos="1787400"/>
                          <a:tab algn="l" pos="2681280"/>
                          <a:tab algn="l" pos="3575160"/>
                          <a:tab algn="l" pos="4468680"/>
                          <a:tab algn="l" pos="5362560"/>
                          <a:tab algn="l" pos="6256440"/>
                          <a:tab algn="l" pos="7149960"/>
                          <a:tab algn="l" pos="8043840"/>
                          <a:tab algn="l" pos="8937720"/>
                          <a:tab algn="l" pos="9831240"/>
                          <a:tab algn="l" pos="10725120"/>
                        </a:tabLst>
                      </a:pPr>
                      <a:r>
                        <a:rPr b="1" i="1" lang="fr-FR" sz="2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1- Véhicule « dédié» par chargeur, pas de solution pour changer de mode de livraison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893880"/>
                          <a:tab algn="l" pos="1787400"/>
                          <a:tab algn="l" pos="2681280"/>
                          <a:tab algn="l" pos="3575160"/>
                          <a:tab algn="l" pos="4468680"/>
                          <a:tab algn="l" pos="5362560"/>
                          <a:tab algn="l" pos="6256440"/>
                          <a:tab algn="l" pos="7149960"/>
                          <a:tab algn="l" pos="8043840"/>
                          <a:tab algn="l" pos="8937720"/>
                          <a:tab algn="l" pos="9831240"/>
                          <a:tab algn="l" pos="10725120"/>
                        </a:tabLst>
                      </a:pPr>
                      <a:r>
                        <a:rPr b="1" i="1" lang="fr-FR" sz="2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2- Véhicule « dédié », solutions d’infrastructure logistique adaptées à différentes échelles d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893880"/>
                          <a:tab algn="l" pos="1787400"/>
                          <a:tab algn="l" pos="2681280"/>
                          <a:tab algn="l" pos="3575160"/>
                          <a:tab algn="l" pos="4468680"/>
                          <a:tab algn="l" pos="5362560"/>
                          <a:tab algn="l" pos="6256440"/>
                          <a:tab algn="l" pos="7149960"/>
                          <a:tab algn="l" pos="8043840"/>
                          <a:tab algn="l" pos="8937720"/>
                          <a:tab algn="l" pos="9831240"/>
                          <a:tab algn="l" pos="10725120"/>
                        </a:tabLst>
                      </a:pPr>
                      <a:r>
                        <a:rPr b="1" i="1" lang="fr-FR" sz="2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territoire pour optimiser le dernier k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6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893880"/>
                          <a:tab algn="l" pos="1787400"/>
                          <a:tab algn="l" pos="2681280"/>
                          <a:tab algn="l" pos="3575160"/>
                          <a:tab algn="l" pos="4468680"/>
                          <a:tab algn="l" pos="5362560"/>
                          <a:tab algn="l" pos="6256440"/>
                          <a:tab algn="l" pos="7149960"/>
                          <a:tab algn="l" pos="8043840"/>
                          <a:tab algn="l" pos="8937720"/>
                          <a:tab algn="l" pos="9831240"/>
                          <a:tab algn="l" pos="10725120"/>
                        </a:tabLst>
                      </a:pPr>
                      <a:r>
                        <a:rPr b="1" lang="fr-FR" sz="2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Mobilité e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893880"/>
                          <a:tab algn="l" pos="1787400"/>
                          <a:tab algn="l" pos="2681280"/>
                          <a:tab algn="l" pos="3575160"/>
                          <a:tab algn="l" pos="4468680"/>
                          <a:tab algn="l" pos="5362560"/>
                          <a:tab algn="l" pos="6256440"/>
                          <a:tab algn="l" pos="7149960"/>
                          <a:tab algn="l" pos="8043840"/>
                          <a:tab algn="l" pos="8937720"/>
                          <a:tab algn="l" pos="9831240"/>
                          <a:tab algn="l" pos="10725120"/>
                        </a:tabLst>
                      </a:pPr>
                      <a:r>
                        <a:rPr b="1" lang="fr-FR" sz="2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Partage (économ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893880"/>
                          <a:tab algn="l" pos="1787400"/>
                          <a:tab algn="l" pos="2681280"/>
                          <a:tab algn="l" pos="3575160"/>
                          <a:tab algn="l" pos="4468680"/>
                          <a:tab algn="l" pos="5362560"/>
                          <a:tab algn="l" pos="6256440"/>
                          <a:tab algn="l" pos="7149960"/>
                          <a:tab algn="l" pos="8043840"/>
                          <a:tab algn="l" pos="8937720"/>
                          <a:tab algn="l" pos="9831240"/>
                          <a:tab algn="l" pos="10725120"/>
                        </a:tabLst>
                      </a:pPr>
                      <a:r>
                        <a:rPr b="1" lang="fr-FR" sz="2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des service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893880"/>
                          <a:tab algn="l" pos="1787400"/>
                          <a:tab algn="l" pos="2681280"/>
                          <a:tab algn="l" pos="3575160"/>
                          <a:tab algn="l" pos="4468680"/>
                          <a:tab algn="l" pos="5362560"/>
                          <a:tab algn="l" pos="6256440"/>
                          <a:tab algn="l" pos="7149960"/>
                          <a:tab algn="l" pos="8043840"/>
                          <a:tab algn="l" pos="8937720"/>
                          <a:tab algn="l" pos="9831240"/>
                          <a:tab algn="l" pos="10725120"/>
                        </a:tabLst>
                      </a:pPr>
                      <a:r>
                        <a:rPr b="1" i="1" lang="fr-FR" sz="2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3- Véhicule partagé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893880"/>
                          <a:tab algn="l" pos="1787400"/>
                          <a:tab algn="l" pos="2681280"/>
                          <a:tab algn="l" pos="3575160"/>
                          <a:tab algn="l" pos="4468680"/>
                          <a:tab algn="l" pos="5362560"/>
                          <a:tab algn="l" pos="6256440"/>
                          <a:tab algn="l" pos="7149960"/>
                          <a:tab algn="l" pos="8043840"/>
                          <a:tab algn="l" pos="8937720"/>
                          <a:tab algn="l" pos="9831240"/>
                          <a:tab algn="l" pos="10725120"/>
                        </a:tabLst>
                      </a:pPr>
                      <a:r>
                        <a:rPr b="1" i="1" lang="fr-FR" sz="2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mutualisation des flux et des espaces de stockage, pas 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893880"/>
                          <a:tab algn="l" pos="1787400"/>
                          <a:tab algn="l" pos="2681280"/>
                          <a:tab algn="l" pos="3575160"/>
                          <a:tab algn="l" pos="4468680"/>
                          <a:tab algn="l" pos="5362560"/>
                          <a:tab algn="l" pos="6256440"/>
                          <a:tab algn="l" pos="7149960"/>
                          <a:tab algn="l" pos="8043840"/>
                          <a:tab algn="l" pos="8937720"/>
                          <a:tab algn="l" pos="9831240"/>
                          <a:tab algn="l" pos="10725120"/>
                        </a:tabLst>
                      </a:pPr>
                      <a:r>
                        <a:rPr b="1" i="1" lang="fr-FR" sz="2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solution pour changer de mode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893880"/>
                          <a:tab algn="l" pos="1787400"/>
                          <a:tab algn="l" pos="2681280"/>
                          <a:tab algn="l" pos="3575160"/>
                          <a:tab algn="l" pos="4468680"/>
                          <a:tab algn="l" pos="5362560"/>
                          <a:tab algn="l" pos="6256440"/>
                          <a:tab algn="l" pos="7149960"/>
                          <a:tab algn="l" pos="8043840"/>
                          <a:tab algn="l" pos="8937720"/>
                          <a:tab algn="l" pos="9831240"/>
                          <a:tab algn="l" pos="10725120"/>
                        </a:tabLst>
                      </a:pPr>
                      <a:r>
                        <a:rPr b="1" i="1" lang="fr-FR" sz="2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4- Véhicule partagé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893880"/>
                          <a:tab algn="l" pos="1787400"/>
                          <a:tab algn="l" pos="2681280"/>
                          <a:tab algn="l" pos="3575160"/>
                          <a:tab algn="l" pos="4468680"/>
                          <a:tab algn="l" pos="5362560"/>
                          <a:tab algn="l" pos="6256440"/>
                          <a:tab algn="l" pos="7149960"/>
                          <a:tab algn="l" pos="8043840"/>
                          <a:tab algn="l" pos="8937720"/>
                          <a:tab algn="l" pos="9831240"/>
                          <a:tab algn="l" pos="10725120"/>
                        </a:tabLst>
                      </a:pPr>
                      <a:r>
                        <a:rPr b="1" i="1" lang="fr-FR" sz="2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Multimodalité fluide en temps réel, solutions d’infrastructu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893880"/>
                          <a:tab algn="l" pos="1787400"/>
                          <a:tab algn="l" pos="2681280"/>
                          <a:tab algn="l" pos="3575160"/>
                          <a:tab algn="l" pos="4468680"/>
                          <a:tab algn="l" pos="5362560"/>
                          <a:tab algn="l" pos="6256440"/>
                          <a:tab algn="l" pos="7149960"/>
                          <a:tab algn="l" pos="8043840"/>
                          <a:tab algn="l" pos="8937720"/>
                          <a:tab algn="l" pos="9831240"/>
                          <a:tab algn="l" pos="10725120"/>
                        </a:tabLst>
                      </a:pPr>
                      <a:r>
                        <a:rPr b="1" i="1" lang="fr-FR" sz="2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logistique adaptées e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893880"/>
                          <a:tab algn="l" pos="1787400"/>
                          <a:tab algn="l" pos="2681280"/>
                          <a:tab algn="l" pos="3575160"/>
                          <a:tab algn="l" pos="4468680"/>
                          <a:tab algn="l" pos="5362560"/>
                          <a:tab algn="l" pos="6256440"/>
                          <a:tab algn="l" pos="7149960"/>
                          <a:tab algn="l" pos="8043840"/>
                          <a:tab algn="l" pos="8937720"/>
                          <a:tab algn="l" pos="9831240"/>
                          <a:tab algn="l" pos="10725120"/>
                        </a:tabLst>
                      </a:pPr>
                      <a:r>
                        <a:rPr b="1" i="1" lang="fr-FR" sz="2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communicant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03520" y="366840"/>
            <a:ext cx="5464080" cy="690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fr-FR" sz="3000" spc="-1" strike="noStrike">
                <a:solidFill>
                  <a:srgbClr val="0000ff"/>
                </a:solidFill>
                <a:latin typeface="Arial"/>
              </a:rPr>
              <a:t>L'intermodalité Rochelaise</a:t>
            </a:r>
            <a:endParaRPr b="1" lang="en-US" sz="3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53560" y="1450800"/>
            <a:ext cx="7574040" cy="47498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5640" bIns="35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1" lang="fr-FR" sz="2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487440" y="1413000"/>
            <a:ext cx="8188200" cy="3814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21:55:47Z</dcterms:created>
  <dc:creator>EIGSI</dc:creator>
  <dc:description/>
  <dc:language>en-US</dc:language>
  <cp:lastModifiedBy>Alex</cp:lastModifiedBy>
  <dcterms:modified xsi:type="dcterms:W3CDTF">2010-09-21T12:08:02Z</dcterms:modified>
  <cp:revision>20</cp:revision>
  <dc:subject/>
  <dc:title>Les enjeux de la  Mobilité Urbaine</dc:title>
</cp:coreProperties>
</file>