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8993-B2AB-480B-A381-1694E634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114-FA1D-413B-BE11-480A856A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6020-65F3-4C2F-82D0-B416505F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E35-A237-4D75-8D85-F57DCBC5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4F4-3B08-41CC-B40B-57EA8BB0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5A9-C3C1-40A3-9526-02182865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CA2-A6CA-440B-BBBC-7966416E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CED-E62E-4246-99CB-8F6514C5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84A2-2CB4-4E4C-A0B6-87B30993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E50-6757-4C5D-8122-805727D4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8D6-67F3-422F-8D89-364DDB0B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80F-99D7-4C16-816A-33481D96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AA6F5-9F3D-4373-8EAE-6B2A7644AAD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4EEDD-AE7E-4C2D-9B48-DA6D65EF038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6:27:06Z</dcterms:created>
  <dc:creator>최봉수</dc:creator>
  <dc:description/>
  <dc:language>en-US</dc:language>
  <cp:lastModifiedBy>맛있다 군만두</cp:lastModifiedBy>
  <dcterms:modified xsi:type="dcterms:W3CDTF">2024-10-01T02:44:06Z</dcterms:modified>
  <cp:revision>3</cp:revision>
  <dc:subject/>
  <dc:title>슬라이드 1</dc:title>
</cp:coreProperties>
</file>