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08C-5198-4A4B-9DAF-2D53B65F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CFB-926B-4D80-B7CC-CB7C2FD4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216-18B5-4A64-8046-8BDBABFB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EA9-B90C-4B8F-9DE5-CDD78CE9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859-6C6F-4C5C-BA7E-725B70F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E43-894B-45A3-9728-97C3D5A1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5F1-2FA3-4018-B77D-B68E43AC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77C-2EB0-491D-B032-6D36812B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550-6B3E-45EC-B0F7-2443490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195-47F4-43E6-8EA0-16072ACB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CB3-82F6-4B57-8451-A08E306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4B4-0D50-4FA2-B8BB-F036CC98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F4A31-3EB2-49D1-9223-F9C444D210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1DD4B-F37D-46E0-BDB8-84E42147FC9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6:27:06Z</dcterms:created>
  <dc:creator>최봉수</dc:creator>
  <dc:description/>
  <dc:language>en-US</dc:language>
  <cp:lastModifiedBy>맛있다 군만두</cp:lastModifiedBy>
  <dcterms:modified xsi:type="dcterms:W3CDTF">2024-10-01T02:44:06Z</dcterms:modified>
  <cp:revision>3</cp:revision>
  <dc:subject/>
  <dc:title>슬라이드 1</dc:title>
</cp:coreProperties>
</file>