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C'est%20la%20saison%20d'amour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67D-5638-4DA6-A64C-8B6D8C15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5DD-6EDB-4636-9741-933D3B48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D8A-5ABD-4E2B-9CB9-19E75927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32B-69A5-46F9-88FB-466444CF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9BB-7AA6-443C-98A7-1DE1C9A3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1AF-DF3D-4737-ABBF-02268DC9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BF6-A1A4-4C74-8B1F-EAA28AA6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370-B339-46AC-B5F3-41A4586C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E319-1641-4C18-BB08-E513410E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CE2-4D1E-4197-B944-94D778A9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F1A-4596-45D4-AD10-6D49799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0BD-DAAB-4AD0-BB64-8CD7C018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8245-3CFD-499B-8F3A-8B3766109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&apos;est%20la%20saison%20d&apos;amou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%20c'est%20la%20chanso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trips dir="lu"/>
    <p:sndAc>
      <p:stSnd>
        <p:snd r:embed="rId2" name="C'est%20la%20saison%20d'amou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35269629yEdXPA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amier%20et%20tourterel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049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La chanson était si bell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762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Ramier 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53341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tourter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867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L'ont soudain reprise en cœ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pour mieux troubler mon cœur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62320" y="609480"/>
            <a:ext cx="4647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Et la voix qui m'enchant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En me suivant chantai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7920" y="457200"/>
            <a:ext cx="6172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'est la saison d'a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'est le joyeux re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oleil-22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57120" cy="10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sol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15238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mugu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51055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li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lilas03" descr=""/>
          <p:cNvPicPr/>
          <p:nvPr/>
        </p:nvPicPr>
        <p:blipFill>
          <a:blip r:embed="rId2"/>
          <a:stretch/>
        </p:blipFill>
        <p:spPr>
          <a:xfrm>
            <a:off x="4267080" y="3657600"/>
            <a:ext cx="4635720" cy="298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5" name="muguet01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4952880" cy="312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7000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47920" y="38088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Viens profiter de tout c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Viens fêter les beaux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ar les beaux jours sont cou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Souviens-toi que plaisir d'a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Ne dure pas touj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blanc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leurs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ot%20grès%20avec%20fle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7920" y="38088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Viens fêter les beaux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ar les beaux jours sont cou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Souviens-toi que plaisir d'a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Ne dure pas touj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rbres%20à%20fleur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76520" y="30492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d0d4c3"/>
                </a:solidFill>
                <a:latin typeface="Times New Roman"/>
              </a:rPr>
              <a:t>"C'est la saison d'amou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d0d4c3"/>
                </a:solidFill>
                <a:latin typeface="Times New Roman"/>
              </a:rPr>
              <a:t>Chanson populaire chanté p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d0d4c3"/>
                </a:solidFill>
                <a:latin typeface="Times New Roman"/>
              </a:rPr>
              <a:t>Yvonne Printemps – Mathé Altéry (19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d0d4c3"/>
                </a:solidFill>
                <a:latin typeface="Times New Roman"/>
              </a:rPr>
              <a:t>Interprété sur ce diapo par: Marie-Denise Pelle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175248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d0d4c3"/>
                </a:solidFill>
                <a:latin typeface="Times New Roman"/>
              </a:rPr>
              <a:t>Joyeux Printem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27432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d0d4c3"/>
                </a:solidFill>
                <a:latin typeface="Times New Roman"/>
              </a:rPr>
              <a:t>Création Lise Tardif (Mars 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27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ond%20c'est%20la%20chanson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3880" y="4572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Oui je suis, je m'en rend comp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En retard et j'en ai ho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Mais il faut que je vous co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e qui vient de m'arriv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52480" y="457200"/>
            <a:ext cx="5715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Je passais aux Tuil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Quand dans une allée fleu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Une voix s'est élev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À moins que j'aie rêvé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380880"/>
            <a:ext cx="5790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Une voix qui me berç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Et tout bas me disai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457200"/>
            <a:ext cx="6172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'est la saison d'a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'est le joyeux re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uguet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962520" cy="5638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" name="0lilas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581280" cy="541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soleil-22" descr=""/>
          <p:cNvPicPr/>
          <p:nvPr/>
        </p:nvPicPr>
        <p:blipFill>
          <a:blip r:embed="rId3"/>
          <a:stretch/>
        </p:blipFill>
        <p:spPr>
          <a:xfrm>
            <a:off x="7391520" y="152280"/>
            <a:ext cx="1257120" cy="1067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722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sol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6858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mugu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1722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0d4c3"/>
                </a:solidFill>
                <a:latin typeface="Times New Roman"/>
              </a:rPr>
              <a:t>du li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ond%20c'est%20la%20chans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38088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Viens profiter de tout c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Viens fêter les beaux j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Car les beaux jours sont cou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Souviens-toi que plaisir d'a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0d4c3"/>
                </a:solidFill>
                <a:latin typeface="Times New Roman"/>
              </a:rPr>
              <a:t>Ne dure pas touj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4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elle%20fle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15:12Z</dcterms:created>
  <dc:creator>Tardif</dc:creator>
  <dc:description/>
  <dc:language>en-US</dc:language>
  <cp:lastModifiedBy>Smets</cp:lastModifiedBy>
  <dcterms:modified xsi:type="dcterms:W3CDTF">2008-08-31T19:49:11Z</dcterms:modified>
  <cp:revision>37</cp:revision>
  <dc:subject/>
  <dc:title>Présentation PowerPoint</dc:title>
</cp:coreProperties>
</file>