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C'est%20la%20saison%20d'amour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A32-C3BC-4E42-B162-F9898E42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35A-6983-43BC-87FF-CE2B8D92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CAE-71FC-41AF-89F6-C824EAC8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A9B-C016-4D5F-9C9D-F63FA48A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381-A53F-41B9-AA6D-0DCC4218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2D4-E424-4463-8E44-D832A85A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D1F-C3FF-4940-8708-76B8993B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D9F1-CE88-419F-93D2-B8576A09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871-3071-47CE-87F6-B5BACFCD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D52-BA12-4493-BA4D-EC135EEE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B03-59A9-419B-A90B-EA31F3CA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8A2-9941-4C43-B6F2-C0C2971F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1968-2F39-4407-B243-7BB261ACF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&apos;est%20la%20saison%20d&apos;amou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nd%20c'est%20la%20chanso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strips dir="lu"/>
    <p:sndAc>
      <p:stSnd>
        <p:snd r:embed="rId2" name="C'est%20la%20saison%20d'amou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35269629yEdXPA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amier%20et%20tourterel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049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La chanson était si bell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762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Ramier 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5334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tourter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867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L'ont soudain reprise en cœ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pour mieux troubler mon cœur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fond%20c'est%20la%20chan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62320" y="609480"/>
            <a:ext cx="4647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Et la voix qui m'enchant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En me suivant chantai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ond%20c'est%20la%20chan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7920" y="457200"/>
            <a:ext cx="6172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C'est la saison d'a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C'est le joyeux re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oleil-22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257120" cy="106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0d4c3"/>
                </a:solidFill>
                <a:latin typeface="Times New Roman"/>
              </a:rPr>
              <a:t>du sol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15238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0d4c3"/>
                </a:solidFill>
                <a:latin typeface="Times New Roman"/>
              </a:rPr>
              <a:t>du mugu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51055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0d4c3"/>
                </a:solidFill>
                <a:latin typeface="Times New Roman"/>
              </a:rPr>
              <a:t>du li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lilas03" descr=""/>
          <p:cNvPicPr/>
          <p:nvPr/>
        </p:nvPicPr>
        <p:blipFill>
          <a:blip r:embed="rId2"/>
          <a:stretch/>
        </p:blipFill>
        <p:spPr>
          <a:xfrm>
            <a:off x="4267080" y="3657600"/>
            <a:ext cx="4635720" cy="29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5" name="muguet01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495288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 advTm="7000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ond%20c'est%20la%20chan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47920" y="380880"/>
            <a:ext cx="6400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Viens profiter de tout c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Viens fêter les beaux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Car les beaux jours sont cou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Souviens-toi que plaisir d'a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Ne dure pas touj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blanc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fleurs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ot%20grès%20avec%20fleu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ond%20c'est%20la%20chan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47920" y="380880"/>
            <a:ext cx="6400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Viens fêter les beaux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Car les beaux jours sont cou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Souviens-toi que plaisir d'a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Ne dure pas touj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rbres%20à%20fleur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76520" y="30492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d0d4c3"/>
                </a:solidFill>
                <a:latin typeface="Times New Roman"/>
              </a:rPr>
              <a:t>"C'est la saison d'amou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d0d4c3"/>
                </a:solidFill>
                <a:latin typeface="Times New Roman"/>
              </a:rPr>
              <a:t>Chanson populaire chanté p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d0d4c3"/>
                </a:solidFill>
                <a:latin typeface="Times New Roman"/>
              </a:rPr>
              <a:t>Yvonne Printemps – Mathé Altéry (19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d0d4c3"/>
                </a:solidFill>
                <a:latin typeface="Times New Roman"/>
              </a:rPr>
              <a:t>Interprété sur ce diapo par: Marie-Denise Pelle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175248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0d4c3"/>
                </a:solidFill>
                <a:latin typeface="Times New Roman"/>
              </a:rPr>
              <a:t>Joyeux Printemp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274320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0d4c3"/>
                </a:solidFill>
                <a:latin typeface="Times New Roman"/>
              </a:rPr>
              <a:t>Création Lise Tardif (Mars 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27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ond%20c'est%20la%20chanson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3880" y="4572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Oui je suis, je m'en rend comp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En retard et j'en ai ho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Mais il faut que je vous co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Ce qui vient de m'arriv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ond%20c'est%20la%20chan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52480" y="457200"/>
            <a:ext cx="5715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Je passais aux Tuil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Quand dans une allée fleu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Une voix s'est élev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À moins que j'aie rêvé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ond%20c'est%20la%20chan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380880"/>
            <a:ext cx="5790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Une voix qui me berç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Et tout bas me disai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fond%20c'est%20la%20chan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457200"/>
            <a:ext cx="6172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C'est la saison d'a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C'est le joyeux re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uguet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962520" cy="5638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" name="0lilas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581280" cy="541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3" name="soleil-22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257120" cy="1067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0d4c3"/>
                </a:solidFill>
                <a:latin typeface="Times New Roman"/>
              </a:rPr>
              <a:t>du sol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68580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0d4c3"/>
                </a:solidFill>
                <a:latin typeface="Times New Roman"/>
              </a:rPr>
              <a:t>du mugu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1722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0d4c3"/>
                </a:solidFill>
                <a:latin typeface="Times New Roman"/>
              </a:rPr>
              <a:t>du li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fond%20c'est%20la%20chan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7920" y="380880"/>
            <a:ext cx="6400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Viens profiter de tout c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Viens fêter les beaux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Car les beaux jours sont cou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Souviens-toi que plaisir d'a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Ne dure pas touj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4000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belle%20fleu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3:15:12Z</dcterms:created>
  <dc:creator>Tardif</dc:creator>
  <dc:description/>
  <dc:language>en-US</dc:language>
  <cp:lastModifiedBy>Smets</cp:lastModifiedBy>
  <dcterms:modified xsi:type="dcterms:W3CDTF">2008-08-31T19:49:11Z</dcterms:modified>
  <cp:revision>37</cp:revision>
  <dc:subject/>
  <dc:title>Présentation PowerPoint</dc:title>
</cp:coreProperties>
</file>