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F60-6F04-4030-8984-2A8D7D7A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A970-EFF3-4E91-ADDD-BE85502A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AE7-CF29-421B-B529-C66967E1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B023-1742-4750-8AA9-4E35F39D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C41-2B67-47C3-8B71-E162AA42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FE0-BC65-478D-9C57-EE30F281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E70-3EAE-43BD-9D74-9647D5D3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6F3-DCDA-4062-975C-38D559D6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02E-9F8C-4906-B4C3-071F0AA3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2B7-4F71-49AD-879B-99ECC4FC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C60-7CBF-4363-9704-D0FC1D8E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E80-231A-4E23-BA25-AD9117A7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6CE7-E4A8-4B2E-8E57-08A506090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ccionario los ani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http://www.youtube.com/watch?v=t-rMWEiufQ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0:30:44Z</dcterms:created>
  <dc:creator>marco carrillo</dc:creator>
  <dc:description/>
  <dc:language>en-US</dc:language>
  <cp:lastModifiedBy>marco carrillo</cp:lastModifiedBy>
  <dcterms:modified xsi:type="dcterms:W3CDTF">2010-08-19T23:07:47Z</dcterms:modified>
  <cp:revision>2</cp:revision>
  <dc:subject/>
  <dc:title>http://www.youtube.com/watch?v=OzRWX2NYU5U</dc:title>
</cp:coreProperties>
</file>