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A5E-011C-497C-BAB1-AC327600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0FC-2183-46ED-B1C6-D631D85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C65-9DD8-4DA1-802E-F74295B4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0B5-8E16-4A70-94ED-5CAC84E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C29-D931-4F0A-BBA1-9350E35D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E2D-34BE-42E1-A8CD-E3B9AFF4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615-A6F1-437D-A726-E63ACCAE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8BF-9E8E-4814-B1B3-4BC929CD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EA8-AC5A-47A7-828B-7F440D5F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310-5DC2-4FEE-BD03-1E3BCDF8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9EA-5422-4E96-BAA9-D7C9103F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6CE-3D31-4666-87BD-0A8328C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650B-9649-4565-B00D-29017D4C4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ccionario los ani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ttp://www.youtube.com/watch?v=t-rMWEiufQ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0:30:44Z</dcterms:created>
  <dc:creator>marco carrillo</dc:creator>
  <dc:description/>
  <dc:language>en-US</dc:language>
  <cp:lastModifiedBy>marco carrillo</cp:lastModifiedBy>
  <dcterms:modified xsi:type="dcterms:W3CDTF">2010-08-19T23:07:47Z</dcterms:modified>
  <cp:revision>2</cp:revision>
  <dc:subject/>
  <dc:title>http://www.youtube.com/watch?v=OzRWX2NYU5U</dc:title>
</cp:coreProperties>
</file>