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7.png" ContentType="image/png"/>
  <Override PartName="/ppt/media/image9.png" ContentType="image/png"/>
  <Override PartName="/ppt/media/image14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38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D9-5871-4C04-A12C-52FDD0C7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2E7-6914-4B40-B9C0-F81F68EE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054-CC45-457A-96BE-46CA81A3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49F-33BD-44FB-A83D-ED607221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E19-302E-4A7C-A6CF-C2D414E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88F-A6DB-4DBB-B8FF-77D248FA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91E-5A8D-40C2-B3EF-461FA51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711-B572-445A-81CA-67D2BCD5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BD5-564E-488F-9CA7-C2F0876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909-36E8-4A0C-9B5E-3FE908B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0BC-464E-4A77-818A-6970EEF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6C3-C495-4F6A-9B7F-50D6DBC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F91A-35BD-4070-B22D-E2F24D07E6A6}" type="slidenum">
              <a:rPr b="0" lang="tr-T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Hücrenin Yaşam Döngüs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85520" y="1571760"/>
            <a:ext cx="79009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Her canlı doğar, büyür, ürer ve ölür. Hücre için de bu kural geçerli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Büyüyen hücre önce çekirdek (karyokinez), sonra sitoplazma bölünmesi (sitokinez) geçirerek yavru hücreleri meydana get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img102.imageshack.us/img102/5012/1035hj3.gif"/>
          <p:cNvPicPr/>
          <p:nvPr/>
        </p:nvPicPr>
        <p:blipFill>
          <a:blip r:embed="rId1"/>
          <a:stretch/>
        </p:blipFill>
        <p:spPr>
          <a:xfrm>
            <a:off x="0" y="214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img102.imageshack.us/img102/5012/1035hj3.gif"/>
          <p:cNvPicPr/>
          <p:nvPr/>
        </p:nvPicPr>
        <p:blipFill>
          <a:blip r:embed="rId2"/>
          <a:stretch/>
        </p:blipFill>
        <p:spPr>
          <a:xfrm>
            <a:off x="7643880" y="214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5836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METAFAZ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: KROMOZOMLAR EKVATORAL TABLADA YERLEŞİRLER. SENTROMERLERİYLE İĞ İPLİKLERİNE BAĞLANIRLAR. EN ÖNEMLİSİDE KROMOZOMLARIN ZIT KUTUPLARA BAKMASIDIR.</a:t>
            </a:r>
            <a:br>
              <a:rPr sz="38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42920" y="3000240"/>
            <a:ext cx="4727520" cy="290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plant_metaphase"/>
          <p:cNvPicPr/>
          <p:nvPr/>
        </p:nvPicPr>
        <p:blipFill>
          <a:blip r:embed="rId2"/>
          <a:stretch/>
        </p:blipFill>
        <p:spPr>
          <a:xfrm>
            <a:off x="5286240" y="278604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71320"/>
            <a:ext cx="8229600" cy="58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NAFAZ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OZOMLAR SENTROMRLERİNDEN İKİYE AYRILIRLAR VE KARDEŞ KROMATİDLER AYRILMIŞ OLUR. BUNLAR KUTUPLARA DOĞRU ÇEKİLMEYE BAŞLARKEN İĞ İPLİKLERİNİN DE BOYLARI KISA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5021280" cy="31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plant_anaphase"/>
          <p:cNvPicPr/>
          <p:nvPr/>
        </p:nvPicPr>
        <p:blipFill>
          <a:blip r:embed="rId2"/>
          <a:stretch/>
        </p:blipFill>
        <p:spPr>
          <a:xfrm>
            <a:off x="5572080" y="2857680"/>
            <a:ext cx="32148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35676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ELOFAZ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OZOMLARIN SPİRALLERİ BOZULMAYA BAŞLAR. BU ARADA Endoplazmik Retikulum ZARLARI KROMOZOMLARA YAPIŞIR VE ÇEKİRDEK ZARLARINI OLUŞTURUR. NUKLEOLUS DA BU DEVREDE MEYDANA GELİ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4787640" cy="324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plant_telophase"/>
          <p:cNvPicPr/>
          <p:nvPr/>
        </p:nvPicPr>
        <p:blipFill>
          <a:blip r:embed="rId2"/>
          <a:stretch/>
        </p:blipFill>
        <p:spPr>
          <a:xfrm>
            <a:off x="5500800" y="26431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İTOKİNE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Telofazda belirginleşen boğumlanma, hücrenin ortadan ikiye bölünmesi ile sonuçlanır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ONUÇTA İKİ YAVRU HÜCRE OLUŞ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ayvan hücrelerinde sitoplazma 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taraftan karşılıklı boğumlanma ile bölünü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Bitki hücrelerinde ise, ana hücren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ortasında hücre levhası (ara lam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denen bir yapı oluşturul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28800" y="3429000"/>
            <a:ext cx="3857400" cy="29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biyolojisitesi.net/tum%20uniteler/ureme/mitoz_bolunme/hayvan_hucresinde_ve_bitki_hucresinde_sitokinez_2.jpg"/>
          <p:cNvPicPr/>
          <p:nvPr/>
        </p:nvPicPr>
        <p:blipFill>
          <a:blip r:embed="rId2"/>
          <a:stretch/>
        </p:blipFill>
        <p:spPr>
          <a:xfrm>
            <a:off x="5621400" y="1571760"/>
            <a:ext cx="34513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29152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İTOZUN ÖZELLİĞİ KARDEŞ KROMATİDLERDİR.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İTOZ İLE KUŞAKLAR BOYU HÜCRELERİN KROMOZOM SAYI VE YAPISININ SABİT KALMASI YANİ TÜRÜN GENETİK YAPISININ DEĞİŞMEMESİ SAĞLANIR.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AS VE SİNİR HÜCRELERİ BİRKEZ OLUŞURLAR VE BİR DAHA YENİLENMEZLE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İNİR HÜCRELERİNİN ÖMRÜ 60 YIL VEYA ÜSTÜD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herbaryum\Pictures\MajorEventsInMitosistr.jpg"/>
          <p:cNvPicPr/>
          <p:nvPr/>
        </p:nvPicPr>
        <p:blipFill>
          <a:blip r:embed="rId1"/>
          <a:stretch/>
        </p:blipFill>
        <p:spPr>
          <a:xfrm>
            <a:off x="673200" y="3357720"/>
            <a:ext cx="78278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Calibri"/>
              </a:rPr>
              <a:t>MAYOZ BÖLÜNM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AMET HÜCRELERİNDE  (n=haploid) MEYDANA GELİR. MAYOZ BİRBİRİNİ TAKİP EDEN 2 BÖLÜNMEDEN MEYDANA GELİR. BÖYLECE DİPLOİD (2n) BİR HÜCRE, HAPLOİD (n) 4 YAVRU HÜCREYE AY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1. BÖLÜNMEY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EDÜKSİYON BÖLÜNM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İ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BÖLÜNMEY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EŞİTLEYEN BÖLÜNM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İ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AYOZ BÖLÜNME ANNE VE BABADAN GELEN HOMOLOG KROMOZOMLARIN BİRBİRLERİYLE BİRLEŞEREK TEK BİR KROMOZOM GİBİ GÖRÜNEN BİVALENT KRM MEYDANA GETİREN UZUN BİR PROFAZ İLE BAŞ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5 EVREDE TAMAMLA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LEPTOTEN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atin materyali, spiral kromozomlar halini al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İGOTEN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homolog kromozomlar çiftler oluştururlar ve aralarında birleşme olur. Bu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inapsis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 Sinapsis yapmış olan homolog krm çiftin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ivalent kromozom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KİTEN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Bivalentlerin kromatidlerinde enine kopmalar meydana gelir ve bunlar birbirleriyle yer değiştirirler. Bu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rosing-ove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nir. Krosing-over noktaları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iyazma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İPLOTEN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Homolog krm birbirlerinden ayrıldıklarında iki kromozom arasında yalnız kiyazma noktalarında bağlantı devam e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İYAKİNE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Kromozomların kısalıp kalınlaşmaları maksimuma erişir. Kiyazmalar kromozom kollarının uçlarına kayar. Bu olay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terminilizasyon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nir. Nukleus zarı ve nukleolus kaybol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rossover"/>
          <p:cNvPicPr/>
          <p:nvPr/>
        </p:nvPicPr>
        <p:blipFill>
          <a:blip r:embed="rId1"/>
          <a:stretch/>
        </p:blipFill>
        <p:spPr>
          <a:xfrm>
            <a:off x="142920" y="1500120"/>
            <a:ext cx="4244760" cy="488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genomenewsnetwork.org/gnn_images/whats_a_genome/crossing_over.jpg"/>
          <p:cNvPicPr/>
          <p:nvPr/>
        </p:nvPicPr>
        <p:blipFill>
          <a:blip r:embed="rId2"/>
          <a:stretch/>
        </p:blipFill>
        <p:spPr>
          <a:xfrm>
            <a:off x="4429080" y="1204920"/>
            <a:ext cx="2500200" cy="20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sflc.net/blogs/felbagunu/files/2009/06/chromosomes_crossing_over_large.jpg"/>
          <p:cNvPicPr/>
          <p:nvPr/>
        </p:nvPicPr>
        <p:blipFill>
          <a:blip r:embed="rId3"/>
          <a:stretch/>
        </p:blipFill>
        <p:spPr>
          <a:xfrm>
            <a:off x="4572000" y="4429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7072200" y="190440"/>
            <a:ext cx="19288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472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rofaz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971640" y="1857240"/>
            <a:ext cx="66499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ETAFAZ –I: Homolog krm çiftleri ekvator tablasına dizilirler. Bir bivalentteki krm un diğer bivalentteki hangi kromozomla aynı kutba gideceği tamamen tesadüfidir. Böylece genler yeni kombinasyonlar oluşturur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5489280" cy="338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6143760" y="2500200"/>
            <a:ext cx="20714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1267920"/>
            <a:ext cx="81439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  <a:ea typeface="Arial"/>
              </a:rPr>
              <a:t>DNA’daki genetik şifre, hücre metabolizmasında kullanılmasının yanı sıra hücre bölünmesiyle yeni oluşan hücrelere de aktar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  <a:ea typeface="Arial"/>
              </a:rPr>
              <a:t>Hücre bölünmesi tek hücrelilerde üremeyi sağlarken, çok hücrelilerde üremenin yanı sıra doku, organ ve sistemlerde eksilen yapıların tamamlanmasını gerçekleşti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NAFAZ-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er bir bivalent kromozom kutuplara doğru hareket ederler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57160" y="2500200"/>
            <a:ext cx="4923000" cy="338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143760" y="2571840"/>
            <a:ext cx="21193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Calibri"/>
              </a:rPr>
              <a:t>TELOFAZ-I: Herbir bivalent çifti karşılıklı kutuplarda yer alır. Her bivalent, yarım bivalente ayrılmıştır. n, kromozom içerirler. Nukleus zarı ve nukleolusta oluşu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5183280" cy="323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286680" y="2165400"/>
            <a:ext cx="20714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itokine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5751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bölünme kısa bir dinlenme evresinden sonra 2. profaz ile ba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ROFAZ-II: Kromozomlar iğ ipliklerine takılır ve ekvator düzlemine hareket eder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meiosis4"/>
          <p:cNvPicPr/>
          <p:nvPr/>
        </p:nvPicPr>
        <p:blipFill>
          <a:blip r:embed="rId1"/>
          <a:stretch/>
        </p:blipFill>
        <p:spPr>
          <a:xfrm>
            <a:off x="4572000" y="692280"/>
            <a:ext cx="4103640" cy="568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357200" y="3286080"/>
            <a:ext cx="2813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Calibri"/>
              </a:rPr>
              <a:t>METAFAZ-II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romozomlar ekvatoral düzlemin ortasındadı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meiosis5"/>
          <p:cNvPicPr/>
          <p:nvPr/>
        </p:nvPicPr>
        <p:blipFill>
          <a:blip r:embed="rId1"/>
          <a:srcRect l="0" t="0" r="56542" b="0"/>
          <a:stretch/>
        </p:blipFill>
        <p:spPr>
          <a:xfrm>
            <a:off x="1571760" y="2000160"/>
            <a:ext cx="2525400" cy="346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0" t="0" r="-4291" b="-26548"/>
          <a:stretch/>
        </p:blipFill>
        <p:spPr>
          <a:xfrm>
            <a:off x="4357800" y="2643120"/>
            <a:ext cx="4071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AFAZ-II: Sentromerlerin bölünmesiyle kromatidler karşılıklı kutuplara doğru çek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LOFAZ-II: Kromozomlar şekillerini kaybetmeye başlar. Nukleus ve nukleolus oluş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öylece bir ana hücreden 4 tane, haploid yavru hücre meydana gelmiş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meiosis6"/>
          <p:cNvPicPr/>
          <p:nvPr/>
        </p:nvPicPr>
        <p:blipFill>
          <a:blip r:embed="rId1"/>
          <a:srcRect l="0" t="0" r="0" b="37500"/>
          <a:stretch/>
        </p:blipFill>
        <p:spPr>
          <a:xfrm>
            <a:off x="4429080" y="2643120"/>
            <a:ext cx="449568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572000" y="642960"/>
            <a:ext cx="3992400" cy="173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4572000" y="4643280"/>
            <a:ext cx="3963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meiosisover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Calibri"/>
              </a:rPr>
              <a:t>Mitoz –Mayoz farklar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itoz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ayo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ücud hücrelerinde meydana gel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şey hücrelerinde m. gel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ısa süre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uzund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şitlik bölünmesi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Redüksiyon bölünmesid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 yavru hücre oluş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4 yavru hücre oluş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anlının zigot evresinde başla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anlı belli olgunluğa gelince baş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tek evreden oluş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5 evreden oluş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üz Bağlayıcı 2"/>
          <p:cNvSpPr/>
          <p:nvPr/>
        </p:nvSpPr>
        <p:spPr>
          <a:xfrm>
            <a:off x="4140360" y="1916280"/>
            <a:ext cx="0" cy="27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BIOL1010\13-MeiosisAndSexualLifeCycles\13-08a-MitosisMeiosis-L.gif"/>
          <p:cNvPicPr/>
          <p:nvPr/>
        </p:nvPicPr>
        <p:blipFill>
          <a:blip r:embed="rId1"/>
          <a:stretch/>
        </p:blipFill>
        <p:spPr>
          <a:xfrm>
            <a:off x="428760" y="714240"/>
            <a:ext cx="8001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99680" y="856800"/>
            <a:ext cx="41641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Bölünmekte olan bir hücre interfaz, mitoz ve sitokinez evrelerinden geçer. Bu olaylar dizisi hücrenin yaşam döngüsüdü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www.canlibilimi.com/images/hucre-dongusu-nedir.gif"/>
          <p:cNvPicPr/>
          <p:nvPr/>
        </p:nvPicPr>
        <p:blipFill>
          <a:blip r:embed="rId1"/>
          <a:stretch/>
        </p:blipFill>
        <p:spPr>
          <a:xfrm>
            <a:off x="5072040" y="1214280"/>
            <a:ext cx="3549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Hücre bölünm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Tek hücreli canlılar yalnızca üremek için, çok hücreli canlılar ise büyüme, gelişme ve üreme için bölünür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Hücrenin hayat siklusu-hücre çevr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Hücrenin bir bölünme sonundan, ikinci bölünmenin sonuna kadar geçen süreye hücre siklusu (hücre devri) den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Hücre çevriminde birbirini izleyen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üyüme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(interfaz) ve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ölünme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dı altında iki devre var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97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 u="sng">
                <a:solidFill>
                  <a:srgbClr val="000000"/>
                </a:solidFill>
                <a:uFillTx/>
                <a:latin typeface="Calibri"/>
              </a:rPr>
              <a:t>Hücrenin hayat siklusu 3 dönemi içerir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ellcycle"/>
          <p:cNvPicPr/>
          <p:nvPr/>
        </p:nvPicPr>
        <p:blipFill>
          <a:blip r:embed="rId1"/>
          <a:stretch/>
        </p:blipFill>
        <p:spPr>
          <a:xfrm>
            <a:off x="179280" y="1628640"/>
            <a:ext cx="5329440" cy="4969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651640" y="765000"/>
            <a:ext cx="349236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1 (post mitotik dönem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RNA ve protein sentezi yapılır. 8 saat kadar sü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S (sentetik faz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DNA sentez edilmeye başlar, RNA sentezi devam eder, protein sentezi maksimuma çıkar. 6 saat sür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2 (post sentetik dönem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DNA sentezi durur. Protein ve RNA sentezi G1 deki gibidir. 4 saat sü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 S devresine girerse; mitoz bölünme baş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 S devresine girmez ise; G2 den gelen sinyallerle mayoz bölünme baş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ivy-rose.co.uk/Topics/Cell_Structures/Mitosis_cIvyRose.jpg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492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ycle"/>
          <p:cNvPicPr/>
          <p:nvPr/>
        </p:nvPicPr>
        <p:blipFill>
          <a:blip r:embed="rId2"/>
          <a:stretch/>
        </p:blipFill>
        <p:spPr>
          <a:xfrm>
            <a:off x="4857840" y="128592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alibri"/>
              </a:rPr>
              <a:t>Mitoz Bölünm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matik hücrelerin bölünmesine MİTOZ denir. Canlının büyüyüp gelişmesini sağlayan ve ana hücre sayısının sabit kalmasını devam ettiren bir bölünme şeklidir. Başlıca üç olay tarafından karakterize ed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 Kromozomların kalınlaşıp belirgin hale gelm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2. kromozomların uzunlamasına ikiye ayrıl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3. iğ ipliklerinin oluşu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kirdek ve sitoplazma arasında belli bir oran vardır. Buna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NP=Nukleostoplazmik Endex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den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NP=Vn/Vs-Vn=sab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ücrede sabitlik bozulduğu zaman hücre bölünmeye başlı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n=Nukleusun hacmi, Vs= sitoplazmanın hac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nterfa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18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PROFAZ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: UZUN İNCE</a:t>
            </a: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İPLİKLER ŞEKLİNDE OLAN KROMOZOMLAR KISALIP</a:t>
            </a: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KALINLAŞMAYA BAŞLAR VE KROMOZOMLAR SENTROMERİ OLAN İKİ KROMATİDTEN İBARETTİR. SENTRİOL VE İĞ İPLİKLERİ ORTAYA ÇIKARKEN NUKLEUS ZARI KAYBOLUR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4775040" cy="316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plant_prophase"/>
          <p:cNvPicPr/>
          <p:nvPr/>
        </p:nvPicPr>
        <p:blipFill>
          <a:blip r:embed="rId2"/>
          <a:stretch/>
        </p:blipFill>
        <p:spPr>
          <a:xfrm>
            <a:off x="5643720" y="2643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RAK</cp:lastModifiedBy>
  <dcterms:modified xsi:type="dcterms:W3CDTF">2012-03-11T16:18:36Z</dcterms:modified>
  <cp:revision>47</cp:revision>
  <dc:subject/>
  <dc:title>PowerPoint Presentation</dc:title>
</cp:coreProperties>
</file>