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6.jpeg" ContentType="image/jpeg"/>
  <Override PartName="/ppt/media/image7.png" ContentType="image/png"/>
  <Override PartName="/ppt/media/image9.png" ContentType="image/png"/>
  <Override PartName="/ppt/media/image14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8.png" ContentType="image/png"/>
  <Override PartName="/ppt/media/image38.png" ContentType="image/png"/>
  <Override PartName="/ppt/media/image37.jpeg" ContentType="image/jpeg"/>
  <Override PartName="/ppt/media/image30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DDD-A7CF-4D86-A0D8-E45BEB6A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7C6-833C-4683-94AD-F23889C7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FE5-95F1-4438-B482-18E84079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5A8-37F8-43BB-92DE-41DE8F65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794-E85C-41D4-9F38-2488F5A3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21E-90F6-4EEA-9BEF-28F9E62A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036-A9D0-4DF4-AD60-03CE95DB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A4A-7143-4B5B-80BD-45B6AB2C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D7F-66FB-497C-811F-F67958F2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856-5C2A-49A3-BCB5-035F2982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C0C0-99DD-4B20-BD02-9EE7CC6D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734-3AA3-4B20-9427-896518D9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BD70-8A46-44D2-BCC7-95CCAD4533A4}" type="slidenum">
              <a:rPr b="0" lang="tr-T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Hücrenin Yaşam Döngüs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85520" y="1571760"/>
            <a:ext cx="790092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Her canlı doğar, büyür, ürer ve ölür. Hücre için de bu kural geçerlid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Büyüyen hücre önce çekirdek (karyokinez), sonra sitoplazma bölünmesi (sitokinez) geçirerek yavru hücreleri meydana getir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img102.imageshack.us/img102/5012/1035hj3.gif"/>
          <p:cNvPicPr/>
          <p:nvPr/>
        </p:nvPicPr>
        <p:blipFill>
          <a:blip r:embed="rId1"/>
          <a:stretch/>
        </p:blipFill>
        <p:spPr>
          <a:xfrm>
            <a:off x="0" y="214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ttp://img102.imageshack.us/img102/5012/1035hj3.gif"/>
          <p:cNvPicPr/>
          <p:nvPr/>
        </p:nvPicPr>
        <p:blipFill>
          <a:blip r:embed="rId2"/>
          <a:stretch/>
        </p:blipFill>
        <p:spPr>
          <a:xfrm>
            <a:off x="7643880" y="214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558360"/>
            <a:ext cx="84358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Calibri"/>
              </a:rPr>
              <a:t>METAFAZ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: KROMOZOMLAR EKVATORAL TABLADA YERLEŞİRLER. SENTROMERLERİYLE İĞ İPLİKLERİNE BAĞLANIRLAR. EN ÖNEMLİSİDE KROMOZOMLARIN ZIT KUTUPLARA BAKMASIDIR.</a:t>
            </a:r>
            <a:br>
              <a:rPr sz="38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42920" y="3000240"/>
            <a:ext cx="4727520" cy="2905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plant_metaphase"/>
          <p:cNvPicPr/>
          <p:nvPr/>
        </p:nvPicPr>
        <p:blipFill>
          <a:blip r:embed="rId2"/>
          <a:stretch/>
        </p:blipFill>
        <p:spPr>
          <a:xfrm>
            <a:off x="5286240" y="2786040"/>
            <a:ext cx="3143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28760" y="571320"/>
            <a:ext cx="8229600" cy="58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NAFAZ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ROMOZOMLAR SENTROMRLERİNDEN İKİYE AYRILIRLAR VE KARDEŞ KROMATİDLER AYRILMIŞ OLUR. BUNLAR KUTUPLARA DOĞRU ÇEKİLMEYE BAŞLARKEN İĞ İPLİKLERİNİN DE BOYLARI KISA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28760" y="2857680"/>
            <a:ext cx="5021280" cy="31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plant_anaphase"/>
          <p:cNvPicPr/>
          <p:nvPr/>
        </p:nvPicPr>
        <p:blipFill>
          <a:blip r:embed="rId2"/>
          <a:stretch/>
        </p:blipFill>
        <p:spPr>
          <a:xfrm>
            <a:off x="5572080" y="2857680"/>
            <a:ext cx="321480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28760" y="35676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ELOFAZ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ROMOZOMLARIN SPİRALLERİ BOZULMAYA BAŞLAR. BU ARADA Endoplazmik Retikulum ZARLARI KROMOZOMLARA YAPIŞIR VE ÇEKİRDEK ZARLARINI OLUŞTURUR. NUKLEOLUS DA BU DEVREDE MEYDANA GELİ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71680" y="2643120"/>
            <a:ext cx="4787640" cy="3249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plant_telophase"/>
          <p:cNvPicPr/>
          <p:nvPr/>
        </p:nvPicPr>
        <p:blipFill>
          <a:blip r:embed="rId2"/>
          <a:stretch/>
        </p:blipFill>
        <p:spPr>
          <a:xfrm>
            <a:off x="5500800" y="264312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SİTOKİNEZ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Telofazda belirginleşen boğumlanma, hücrenin ortadan ikiye bölünmesi ile sonuçlanır.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ONUÇTA İKİ YAVRU HÜCRE OLUŞ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Hayvan hücrelerinde sitoplazma ik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taraftan karşılıklı boğumlanma ile bölünü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Bitki hücrelerinde ise, ana hücren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ortasında hücre levhası (ara lam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denen bir yapı oluşturulu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928800" y="3429000"/>
            <a:ext cx="3857400" cy="2903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www.biyolojisitesi.net/tum%20uniteler/ureme/mitoz_bolunme/hayvan_hucresinde_ve_bitki_hucresinde_sitokinez_2.jpg"/>
          <p:cNvPicPr/>
          <p:nvPr/>
        </p:nvPicPr>
        <p:blipFill>
          <a:blip r:embed="rId2"/>
          <a:stretch/>
        </p:blipFill>
        <p:spPr>
          <a:xfrm>
            <a:off x="5621400" y="1571760"/>
            <a:ext cx="345132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29152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İTOZUN ÖZELLİĞİ KARDEŞ KROMATİDLERDİR.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İTOZ İLE KUŞAKLAR BOYU HÜCRELERİN KROMOZOM SAYI VE YAPISININ SABİT KALMASI YANİ TÜRÜN GENETİK YAPISININ DEĞİŞMEMESİ SAĞLANIR.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AS VE SİNİR HÜCRELERİ BİRKEZ OLUŞURLAR VE BİR DAHA YENİLENMEZLER.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İNİR HÜCRELERİNİN ÖMRÜ 60 YIL VEYA ÜSTÜDÜ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herbaryum\Pictures\MajorEventsInMitosistr.jpg"/>
          <p:cNvPicPr/>
          <p:nvPr/>
        </p:nvPicPr>
        <p:blipFill>
          <a:blip r:embed="rId1"/>
          <a:stretch/>
        </p:blipFill>
        <p:spPr>
          <a:xfrm>
            <a:off x="673200" y="3357720"/>
            <a:ext cx="78278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Calibri"/>
              </a:rPr>
              <a:t>MAYOZ BÖLÜNM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98100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GAMET HÜCRELERİNDE  (n=haploid) MEYDANA GELİR. MAYOZ BİRBİRİNİ TAKİP EDEN 2 BÖLÜNMEDEN MEYDANA GELİR. BÖYLECE DİPLOİD (2n) BİR HÜCRE, HAPLOİD (n) 4 YAVRU HÜCREYE AY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1. BÖLÜNMEYE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EDÜKSİYON BÖLÜNME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DENİ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2. BÖLÜNMEYE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EŞİTLEYEN BÖLÜNME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DENİ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AYOZ BÖLÜNME ANNE VE BABADAN GELEN HOMOLOG KROMOZOMLARIN BİRBİRLERİYLE BİRLEŞEREK TEK BİR KROMOZOM GİBİ GÖRÜNEN BİVALENT KRM MEYDANA GETİREN UZUN BİR PROFAZ İLE BAŞ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PROFAZ 5 EVREDE TAMAMLAN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LEPTOTEN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romatin materyali, spiral kromozomlar halini alı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ZİGOTEN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: homolog kromozomlar çiftler oluştururlar ve aralarında birleşme olur. Buna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inapsis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denir. Sinapsis yapmış olan homolog krm çiftine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ivalent kromozom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den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PAKİTEN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Bivalentlerin kromatidlerinde enine kopmalar meydana gelir ve bunlar birbirleriyle yer değiştirirler. Buna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rosing-over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enir. Krosing-over noktalarına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iyazma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den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İPLOTEN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Homolog krm birbirlerinden ayrıldıklarında iki kromozom arasında yalnız kiyazma noktalarında bağlantı devam ed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İYAKİNEZ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: Kromozomların kısalıp kalınlaşmaları maksimuma erişir. Kiyazmalar kromozom kollarının uçlarına kayar. Bu olaya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terminilizasyon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enir. Nukleus zarı ve nukleolus kaybol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Crossover"/>
          <p:cNvPicPr/>
          <p:nvPr/>
        </p:nvPicPr>
        <p:blipFill>
          <a:blip r:embed="rId1"/>
          <a:stretch/>
        </p:blipFill>
        <p:spPr>
          <a:xfrm>
            <a:off x="142920" y="1500120"/>
            <a:ext cx="4244760" cy="4881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www.genomenewsnetwork.org/gnn_images/whats_a_genome/crossing_over.jpg"/>
          <p:cNvPicPr/>
          <p:nvPr/>
        </p:nvPicPr>
        <p:blipFill>
          <a:blip r:embed="rId2"/>
          <a:stretch/>
        </p:blipFill>
        <p:spPr>
          <a:xfrm>
            <a:off x="4429080" y="1204920"/>
            <a:ext cx="2500200" cy="200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sflc.net/blogs/felbagunu/files/2009/06/chromosomes_crossing_over_large.jpg"/>
          <p:cNvPicPr/>
          <p:nvPr/>
        </p:nvPicPr>
        <p:blipFill>
          <a:blip r:embed="rId3"/>
          <a:stretch/>
        </p:blipFill>
        <p:spPr>
          <a:xfrm>
            <a:off x="4572000" y="4429080"/>
            <a:ext cx="3643200" cy="2257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7072200" y="190440"/>
            <a:ext cx="192888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3472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rofaz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971640" y="1857240"/>
            <a:ext cx="66499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ETAFAZ –I: Homolog krm çiftleri ekvator tablasına dizilirler. Bir bivalentteki krm un diğer bivalentteki hangi kromozomla aynı kutba gideceği tamamen tesadüfidir. Böylece genler yeni kombinasyonlar oluştururl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28760" y="2643120"/>
            <a:ext cx="5489280" cy="3382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6143760" y="2500200"/>
            <a:ext cx="207144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1267920"/>
            <a:ext cx="81439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  <a:ea typeface="Arial"/>
              </a:rPr>
              <a:t>DNA’daki genetik şifre, hücre metabolizmasında kullanılmasının yanı sıra hücre bölünmesiyle yeni oluşan hücrelere de aktarıl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  <a:ea typeface="Arial"/>
              </a:rPr>
              <a:t>Hücre bölünmesi tek hücrelilerde üremeyi sağlarken, çok hücrelilerde üremenin yanı sıra doku, organ ve sistemlerde eksilen yapıların tamamlanmasını gerçekleştir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NAFAZ-I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Her bir bivalent kromozom kutuplara doğru hareket ederler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857160" y="2500200"/>
            <a:ext cx="4923000" cy="3382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6143760" y="2571840"/>
            <a:ext cx="21193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Calibri"/>
              </a:rPr>
              <a:t>TELOFAZ-I: Herbir bivalent çifti karşılıklı kutuplarda yer alır. Her bivalent, yarım bivalente ayrılmıştır. n, kromozom içerirler. Nukleus zarı ve nukleolusta oluşu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14240" y="2214720"/>
            <a:ext cx="5183280" cy="3238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6286680" y="2165400"/>
            <a:ext cx="207144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itokine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285920" y="1857240"/>
            <a:ext cx="575136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2. bölünme kısa bir dinlenme evresinden sonra 2. profaz ile baş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7855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ROFAZ-II: Kromozomlar iğ ipliklerine takılır ve ekvator düzlemine hareket eder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meiosis4"/>
          <p:cNvPicPr/>
          <p:nvPr/>
        </p:nvPicPr>
        <p:blipFill>
          <a:blip r:embed="rId1"/>
          <a:stretch/>
        </p:blipFill>
        <p:spPr>
          <a:xfrm>
            <a:off x="4572000" y="692280"/>
            <a:ext cx="4103640" cy="5689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1357200" y="3286080"/>
            <a:ext cx="28130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Calibri"/>
              </a:rPr>
              <a:t>METAFAZ-II: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Kromozomlar ekvatoral düzlemin ortasındadı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meiosis5"/>
          <p:cNvPicPr/>
          <p:nvPr/>
        </p:nvPicPr>
        <p:blipFill>
          <a:blip r:embed="rId1"/>
          <a:srcRect l="0" t="0" r="56542" b="0"/>
          <a:stretch/>
        </p:blipFill>
        <p:spPr>
          <a:xfrm>
            <a:off x="1571760" y="2000160"/>
            <a:ext cx="2525400" cy="3467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rcRect l="0" t="0" r="-4291" b="-26548"/>
          <a:stretch/>
        </p:blipFill>
        <p:spPr>
          <a:xfrm>
            <a:off x="4357800" y="2643120"/>
            <a:ext cx="40719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NAFAZ-II: Sentromerlerin bölünmesiyle kromatidler karşılıklı kutuplara doğru çekilirl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TELOFAZ-II: Kromozomlar şekillerini kaybetmeye başlar. Nukleus ve nukleolus oluş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öylece bir ana hücreden 4 tane, haploid yavru hücre meydana gelmiş ol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meiosis6"/>
          <p:cNvPicPr/>
          <p:nvPr/>
        </p:nvPicPr>
        <p:blipFill>
          <a:blip r:embed="rId1"/>
          <a:srcRect l="0" t="0" r="0" b="37500"/>
          <a:stretch/>
        </p:blipFill>
        <p:spPr>
          <a:xfrm>
            <a:off x="4429080" y="2643120"/>
            <a:ext cx="4495680" cy="1785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4572000" y="642960"/>
            <a:ext cx="3992400" cy="1738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4572000" y="4643280"/>
            <a:ext cx="39639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meiosisover"/>
          <p:cNvPicPr/>
          <p:nvPr/>
        </p:nvPicPr>
        <p:blipFill>
          <a:blip r:embed="rId1"/>
          <a:stretch/>
        </p:blipFill>
        <p:spPr>
          <a:xfrm>
            <a:off x="539640" y="549360"/>
            <a:ext cx="8064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Calibri"/>
              </a:rPr>
              <a:t>Mitoz –Mayoz farklar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99920"/>
            <a:ext cx="8686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Mitoz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Mayo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ücud hücrelerinde meydana geli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şey hücrelerinde m. gel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ısa süre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aha uzund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şitlik bölünmesidi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Redüksiyon bölünmesid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2 yavru hücre oluşu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4 yavru hücre oluş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anlının zigot evresinde başla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anlı belli olgunluğa gelince baş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Profaz tek evreden oluşu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profaz 5 evreden oluş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Düz Bağlayıcı 2"/>
          <p:cNvSpPr/>
          <p:nvPr/>
        </p:nvSpPr>
        <p:spPr>
          <a:xfrm>
            <a:off x="4140360" y="1916280"/>
            <a:ext cx="0" cy="27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BIOL1010\13-MeiosisAndSexualLifeCycles\13-08a-MitosisMeiosis-L.gif"/>
          <p:cNvPicPr/>
          <p:nvPr/>
        </p:nvPicPr>
        <p:blipFill>
          <a:blip r:embed="rId1"/>
          <a:stretch/>
        </p:blipFill>
        <p:spPr>
          <a:xfrm>
            <a:off x="428760" y="714240"/>
            <a:ext cx="800100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99680" y="856800"/>
            <a:ext cx="416412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  <a:ea typeface="Arial"/>
              </a:rPr>
              <a:t>Bölünmekte olan bir hücre interfaz, mitoz ve sitokinez evrelerinden geçer. Bu olaylar dizisi hücrenin yaşam döngüsüdü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http://www.canlibilimi.com/images/hucre-dongusu-nedir.gif"/>
          <p:cNvPicPr/>
          <p:nvPr/>
        </p:nvPicPr>
        <p:blipFill>
          <a:blip r:embed="rId1"/>
          <a:stretch/>
        </p:blipFill>
        <p:spPr>
          <a:xfrm>
            <a:off x="5072040" y="1214280"/>
            <a:ext cx="35496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Hücre bölünme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560" y="112536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Tek hücreli canlılar yalnızca üremek için, çok hücreli canlılar ise büyüme, gelişme ve üreme için bölünür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Hücrenin hayat siklusu-hücre çevri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Hücrenin bir bölünme sonundan, ikinci bölünmenin sonuna kadar geçen süreye hücre siklusu (hücre devri) den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Hücre çevriminde birbirini izleyen </a:t>
            </a: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büyüme 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(interfaz) ve </a:t>
            </a: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bölünme 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adı altında iki devre vard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978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 u="sng">
                <a:solidFill>
                  <a:srgbClr val="000000"/>
                </a:solidFill>
                <a:uFillTx/>
                <a:latin typeface="Calibri"/>
              </a:rPr>
              <a:t>Hücrenin hayat siklusu 3 dönemi içerir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cellcycle"/>
          <p:cNvPicPr/>
          <p:nvPr/>
        </p:nvPicPr>
        <p:blipFill>
          <a:blip r:embed="rId1"/>
          <a:stretch/>
        </p:blipFill>
        <p:spPr>
          <a:xfrm>
            <a:off x="179280" y="1628640"/>
            <a:ext cx="5329440" cy="4969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5651640" y="765000"/>
            <a:ext cx="349236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G1 (post mitotik dönem):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RNA ve protein sentezi yapılır. 8 saat kadar sü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S (sentetik faz):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DNA sentez edilmeye başlar, RNA sentezi devam eder, protein sentezi maksimuma çıkar. 6 saat sür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G2 (post sentetik dönem):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DNA sentezi durur. Protein ve RNA sentezi G1 deki gibidir. 4 saat sü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ücre S devresine girerse; mitoz bölünme baş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ücre S devresine girmez ise; G2 den gelen sinyallerle mayoz bölünme baş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http://www.ivy-rose.co.uk/Topics/Cell_Structures/Mitosis_cIvyRose.jpg"/>
          <p:cNvPicPr/>
          <p:nvPr/>
        </p:nvPicPr>
        <p:blipFill>
          <a:blip r:embed="rId1"/>
          <a:stretch/>
        </p:blipFill>
        <p:spPr>
          <a:xfrm>
            <a:off x="285840" y="1214280"/>
            <a:ext cx="4357440" cy="492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ycle"/>
          <p:cNvPicPr/>
          <p:nvPr/>
        </p:nvPicPr>
        <p:blipFill>
          <a:blip r:embed="rId2"/>
          <a:stretch/>
        </p:blipFill>
        <p:spPr>
          <a:xfrm>
            <a:off x="4857840" y="1285920"/>
            <a:ext cx="40719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alibri"/>
              </a:rPr>
              <a:t>Mitoz Bölünm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omatik hücrelerin bölünmesine MİTOZ denir. Canlının büyüyüp gelişmesini sağlayan ve ana hücre sayısının sabit kalmasını devam ettiren bir bölünme şeklidir. Başlıca üç olay tarafından karakterize ed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1. Kromozomların kalınlaşıp belirgin hale gelm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2. kromozomların uzunlamasına ikiye ayrıl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3. iğ ipliklerinin oluşu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Çekirdek ve sitoplazma arasında belli bir oran vardır. Buna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NP=Nukleostoplazmik Endex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den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NP=Vn/Vs-Vn=sab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Hücrede sabitlik bozulduğu zaman hücre bölünmeye başlıy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n=Nukleusun hacmi, Vs= sitoplazmanın hac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nterfa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928880" y="1428840"/>
            <a:ext cx="518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89308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Calibri"/>
              </a:rPr>
              <a:t>PROFAZ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: UZUN İNCE</a:t>
            </a: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İPLİKLER ŞEKLİNDE OLAN KROMOZOMLAR KISALIP</a:t>
            </a: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KALINLAŞMAYA BAŞLAR VE KROMOZOMLAR SENTROMERİ OLAN İKİ KROMATİDTEN İBARETTİR. SENTRİOL VE İĞ İPLİKLERİ ORTAYA ÇIKARKEN NUKLEUS ZARI KAYBOLUR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4775040" cy="316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plant_prophase"/>
          <p:cNvPicPr/>
          <p:nvPr/>
        </p:nvPicPr>
        <p:blipFill>
          <a:blip r:embed="rId2"/>
          <a:stretch/>
        </p:blipFill>
        <p:spPr>
          <a:xfrm>
            <a:off x="5643720" y="264312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URAK</cp:lastModifiedBy>
  <dcterms:modified xsi:type="dcterms:W3CDTF">2012-03-11T16:18:36Z</dcterms:modified>
  <cp:revision>47</cp:revision>
  <dc:subject/>
  <dc:title>PowerPoint Presentation</dc:title>
</cp:coreProperties>
</file>