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CE5FB-20DD-4A12-AB07-EDA96CB70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EA505-83E1-43A1-AA47-0E691818C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38"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F84B4B-516D-4778-AC48-01D3AAD5D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06C6E4-3ABB-4B8E-87DB-D77BAEDC0E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C0BEA6-C890-4EB7-9F9A-4D11C278F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4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5"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8D20E-6321-45FE-B18F-B124B415AF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47"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0C164F-ED13-456C-B209-76DDE6FD3B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51"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4B66F2-7DED-4B62-914C-A86C627EE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55"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E49118-9B4E-4384-9594-A4FF470EF7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58"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9"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0"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1"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60DF7B-B55E-4EEE-AC5C-501FA32763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63"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4"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5"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6"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7"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8"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DB2930-52BF-49A9-BD8A-DA15D3ADB7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FFE8D7-EE1C-448C-85B3-FAC6BCE6C4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B0B04-94F6-45A2-90F1-305FDDB8F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75"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C5D614-50C6-4354-9A4B-D7C6E5AD91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77"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FFD39A-4683-42CF-A408-D67A3F358F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7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0"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51F390-5C03-4796-864A-D05595B437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324DB6-D6E3-4C64-85C5-D0E2FC2943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127205-EC9C-4BFB-9D7C-33A775B055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84"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C246AC-8C05-43B4-9975-E5A05E61D6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88"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9"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0"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E80F6B-54B3-4901-BDA6-F061ECBD15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92"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3"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4"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D22748-DAA2-4291-B630-19699278D5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96"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4BD903-ED52-4472-A9C7-4F7128825E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99"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1"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2"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1B18A8-BAB5-44C5-87AF-6A239CAD06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F79BE-2949-454F-989B-7827C9D5E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04"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5"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6"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7"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8"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9"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94F315-6018-4746-B1AA-1ADD30CA0A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5897EC-CF3F-4D9B-8FCE-06E84803D6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1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D3A730-96AC-4377-9967-613A9940AB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1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399709-10D8-4409-AACB-21722E3979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2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2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0DD096-A736-45EA-9939-4DE2BBBDC4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E4A4E1-C791-4143-A5F1-BC1B92C7FD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228B65-FCC1-4A07-B498-451A3050B3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2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2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2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924E00-B34B-4FFC-896B-D94F903DC5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2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88B9E9-8E12-406D-A4C8-123E8B9710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3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3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3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009240-A548-45F7-A18A-BC32FC949E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C2C7E-94C9-47EE-984A-31A0ED51E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3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FA5E70-89AF-4149-B35C-1BBCD3E165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4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4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4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B92D7C-FF91-4281-8A28-F17877F753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4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4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4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5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66AE22-F146-47B4-99A5-B9473FF404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3429C-9EF4-4B7D-ADE2-DCB7DADD5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8A194-2E8E-42BA-83C8-E518622FF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E9A31-5403-4E03-8CC4-17CE88E20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59E5F-D4CB-4017-A363-06F156CF7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AEFC1-744F-4099-8C3D-FD679D8C9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75B7-B3E7-427C-8BEC-BBFC65AA8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78C8D-BF22-4168-AF8F-6F20EF20E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95F8-4FD6-4EA3-B0BD-A88A16637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8002B-F0E0-49CB-AF29-11BB474AC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B7D54-6F4D-4A1D-8D8D-94C0C65A7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9B10E-A19E-4B7F-85AB-E156D760E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AA8E1-50FE-4AF5-A076-19F50BACA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E76D59-07C0-4959-9BAB-FC724B5B7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8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A7D77-B39A-48A8-B09F-97ECC93A4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90"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C7856-A141-42AD-8A84-F9632C2B7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92"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0494E-70CE-482D-AB31-20AF0D192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62902-421B-4F52-89BC-EFD871559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20E60-B710-470E-8E14-FBEF942D4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8E7E1-7A03-42F9-8D1A-279D6B938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97"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922C2-ECD6-47E2-A975-4800AECB6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01"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FDB3E-0AB7-44E0-83EB-663CC4BEC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62329-A09A-4EA0-BB30-A27062A31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09"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B0B13-CC3C-4DB2-A4C9-48F36CE7D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12"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1DDEAB-9A7A-48E8-A3E7-1F40A6FEB7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17"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E739F6-3DDF-4B34-87DE-37C3A426BE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D6C901-B61B-4BEB-997E-1D9C7EEAA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2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11DB5D-A800-45EA-A439-F20CB1E385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31"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9EA19-C23C-4114-969D-8D0E5CFF7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4CA17-528F-4C6B-B2F9-D366749D7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33"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1B86D-2A27-451A-A385-78CF5747B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A8534-15B9-45B1-AA3F-7EA06C94F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DAC22-7341-4F6C-9683-DBC411867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38"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0"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2CCD2-A967-46C2-804D-7094EE392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42"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4"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C8ECA-6ED4-4C9B-B2D8-33CFC4BF9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46"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7"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8"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9245C-4E73-4F4A-AC30-C73A9342B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50"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69C0B-4D20-429F-B5F1-6370DF797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5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5"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6"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AEF0C0-6EC8-42E2-ADDB-407774602E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58"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1"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2"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3"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265C50-65BC-4C43-BDA4-B15ACDEEB0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A57C54-8183-4317-84D2-A05275D29A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DDEC-CF98-4F77-B638-DBC5FE279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7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20FF4-6FFD-408D-B06E-C38474574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72"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E50A4-7024-4E2E-A4DA-696C2E878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74"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555C0-29F0-4562-9967-6798C04F3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3AEE4-4D05-4695-B495-2B593F0F7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08C2B-B707-4759-82A2-693094654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79"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0"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1"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0714F-0845-4FB1-A958-6D238C9E9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83"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5"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3D35C-77FF-486F-A6F0-E9E676925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87"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8"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9"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C045C-79F5-4A04-98A3-EA92DD571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91"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2"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54245-BFA9-425D-A2BC-01674633B8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94"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7"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442F7B-CBAB-4764-AED0-F89FA64E83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3219-668B-40C2-95E6-FC247465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99"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0"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1"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2"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3"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4"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845798-AFD2-423D-A55C-ADC46D3AA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05F2C6-DE84-493F-A022-F0924F74B7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1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9D976F-DE08-4944-95BF-6A8C78FE0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13"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01AB0-EAF0-427E-8579-0ADEB8DAE1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15"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225127-94DF-43B4-AF7B-AB191AFA5C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364282-D97D-44F4-9DA5-B3431E7EE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779D6-40F6-43E5-99F3-455DF3A92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2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A49E4-2E97-4A98-AB72-F41F64CB5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24"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5"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6"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D97D9-6093-4DD0-A36B-A8FF712FE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28"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7E63C-A14A-4B4B-8D8C-27F52C52B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B9B88-C3B7-418F-B187-19C86CF7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32"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E22559-D38D-42F7-9813-ED5161EACF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3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8"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BDA4DF-3EBE-4F02-8B99-CFBA90E3FC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40"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3"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4"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5"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C5044A-8695-4961-891B-075B49A2BC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54A753-002E-4E19-A799-41994B2236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5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B4742-3E63-453B-B7D5-B78EC61B01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54"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997EA-4F84-4E59-84F2-DD53CBE4E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56"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902BC-C963-4179-8AFD-8275C615E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5D327-B579-4583-AB86-F555B4E20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A5463-65AD-4001-9F85-EC83A5FEE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61"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2"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3"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50CFA7-49D1-47FF-BF40-AFFD262D3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1C94-B40D-4D33-BAEC-DBCA7E45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65"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74B01-43AD-4A71-A278-67A61B9EA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69"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71"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2A3C5-1DC4-44BC-9103-1474DA2AE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73"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74"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0E0F11-2DCB-4B89-ABA9-CBFE7163E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76"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C25A34-40AD-4DB4-8B30-E9B10BEEBC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81"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2"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3"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4"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5"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6"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D36E1E-F618-4601-8D19-D8E552799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6A2587-3D7A-409F-967E-B7642D479B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9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FB0776-FA42-40D8-93DE-F8409E7B5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95"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DBD0A5-77CA-47C6-80A8-D81C4D6A0A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97"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058C4A-B9D8-42BA-BE07-736A51635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47A7D-4F28-451E-89E4-C8D43E2C91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58F9-B719-49A8-84C9-7637F83C5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BE1BEC-E548-413A-A36A-92A3AB60FA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02"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78FA9-1A54-4541-930D-7BD7BB902A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06"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7"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8"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7C54D-252B-471D-B442-DDD2DA01DC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1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2"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EF399-5C23-424B-BFFF-470B59246E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14"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7FCB6B-A2C2-4807-B0DF-F9350932F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17"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9"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0"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16A0CF-87FC-41DD-BEE6-BEE1AFB261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22"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5"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6"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7"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84E7A6-E158-4EEB-B658-5B2ED7FD80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8B1D62-143A-4E9D-B880-FB3AF867C8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3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30336A-7956-4D00-8DB3-0B23FB8B79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ffffff"/>
              </a:solidFill>
              <a:latin typeface="Times New Roman"/>
            </a:endParaRPr>
          </a:p>
        </p:txBody>
      </p:sp>
      <p:sp>
        <p:nvSpPr>
          <p:cNvPr id="336"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1D7CA7-1822-4EE8-AA0C-DAB65B3C3D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175A26-B9F5-4886-AC4D-46D0C720564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ffffff"/>
                </a:solidFill>
                <a:latin typeface="Times New Roman"/>
              </a:rPr>
              <a:t>Click to edit the title text format</a:t>
            </a:r>
            <a:endParaRPr b="1" i="1" lang="en-US" sz="4100" spc="-1" strike="noStrike">
              <a:solidFill>
                <a:srgbClr val="ffffff"/>
              </a:solidFill>
              <a:latin typeface="Times New Roman"/>
            </a:endParaRPr>
          </a:p>
        </p:txBody>
      </p:sp>
      <p:sp>
        <p:nvSpPr>
          <p:cNvPr id="370"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1" name="PlaceHolder 3"/>
          <p:cNvSpPr>
            <a:spLocks noGrp="1"/>
          </p:cNvSpPr>
          <p:nvPr>
            <p:ph type="dt" idx="28"/>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72" name="PlaceHolder 4"/>
          <p:cNvSpPr>
            <a:spLocks noGrp="1"/>
          </p:cNvSpPr>
          <p:nvPr>
            <p:ph type="ftr" idx="29"/>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D9AFB3-4A7A-4958-BF9F-5EA05F611BA5}"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411" name="PlaceHolder 2"/>
          <p:cNvSpPr>
            <a:spLocks noGrp="1"/>
          </p:cNvSpPr>
          <p:nvPr>
            <p:ph type="body"/>
          </p:nvPr>
        </p:nvSpPr>
        <p:spPr>
          <a:xfrm>
            <a:off x="647280" y="1913040"/>
            <a:ext cx="8674200" cy="434952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502920" y="65278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411000" y="6527880"/>
            <a:ext cx="319428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7154640" y="65278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0F5DF5-D86B-4254-9031-C4D8E1ADF37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42" name="PlaceHolder 2"/>
          <p:cNvSpPr>
            <a:spLocks noGrp="1"/>
          </p:cNvSpPr>
          <p:nvPr>
            <p:ph type="body"/>
          </p:nvPr>
        </p:nvSpPr>
        <p:spPr>
          <a:xfrm>
            <a:off x="720360" y="1949040"/>
            <a:ext cx="8853480" cy="380988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9428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C29E67-4256-40EE-8046-0978F75BCB44}"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83" name="PlaceHolder 2"/>
          <p:cNvSpPr>
            <a:spLocks noGrp="1"/>
          </p:cNvSpPr>
          <p:nvPr>
            <p:ph type="body"/>
          </p:nvPr>
        </p:nvSpPr>
        <p:spPr>
          <a:xfrm>
            <a:off x="720360" y="1979640"/>
            <a:ext cx="8853480" cy="41385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EB266-3FFE-429B-BAAE-3D8C4DCFA24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4" name="PlaceHolder 2"/>
          <p:cNvSpPr>
            <a:spLocks noGrp="1"/>
          </p:cNvSpPr>
          <p:nvPr>
            <p:ph type="body"/>
          </p:nvPr>
        </p:nvSpPr>
        <p:spPr>
          <a:xfrm>
            <a:off x="502920" y="2165400"/>
            <a:ext cx="9069480" cy="427680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2FE0B-F45A-477C-959B-7E5367436DF7}"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65" name="PlaceHolder 2"/>
          <p:cNvSpPr>
            <a:spLocks noGrp="1"/>
          </p:cNvSpPr>
          <p:nvPr>
            <p:ph type="body"/>
          </p:nvPr>
        </p:nvSpPr>
        <p:spPr>
          <a:xfrm>
            <a:off x="502920" y="2160720"/>
            <a:ext cx="9069480" cy="45972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19CBC-FA68-43AA-BD08-DFE53B4E685F}"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20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BE818-A5F0-430B-ADC0-5179A9C98CE1}"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80"/>
                </a:solidFill>
                <a:latin typeface="Times New Roman"/>
              </a:rPr>
              <a:t>Click to edit the title text format</a:t>
            </a:r>
            <a:endParaRPr b="0" lang="en-US" sz="4100" spc="-1" strike="noStrike">
              <a:solidFill>
                <a:srgbClr val="000080"/>
              </a:solidFill>
              <a:latin typeface="Times New Roman"/>
            </a:endParaRPr>
          </a:p>
        </p:txBody>
      </p:sp>
      <p:sp>
        <p:nvSpPr>
          <p:cNvPr id="247"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3DA95-57E2-4A6E-B8FD-312C5F162261}"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622584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8" name="PlaceHolder 2"/>
          <p:cNvSpPr>
            <a:spLocks noGrp="1"/>
          </p:cNvSpPr>
          <p:nvPr>
            <p:ph type="body"/>
          </p:nvPr>
        </p:nvSpPr>
        <p:spPr>
          <a:xfrm>
            <a:off x="502920" y="791640"/>
            <a:ext cx="9069480" cy="413892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502920" y="53751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48080" y="537516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227720" y="537516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3A60A-94EA-4711-8656-74F48189F23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ffffff"/>
                </a:solidFill>
                <a:latin typeface="Times New Roman"/>
              </a:rPr>
              <a:t>Click to edit the title text format</a:t>
            </a:r>
            <a:endParaRPr b="1" i="1" lang="en-US" sz="4100" spc="-1" strike="noStrike">
              <a:solidFill>
                <a:srgbClr val="ffffff"/>
              </a:solidFill>
              <a:latin typeface="Times New Roman"/>
            </a:endParaRPr>
          </a:p>
        </p:txBody>
      </p:sp>
      <p:sp>
        <p:nvSpPr>
          <p:cNvPr id="329"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30" name="PlaceHolder 3"/>
          <p:cNvSpPr>
            <a:spLocks noGrp="1"/>
          </p:cNvSpPr>
          <p:nvPr>
            <p:ph type="dt" idx="25"/>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E39FF2-039F-4BD1-BD30-F22FCBB48AD0}"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2.jpeg"/><Relationship Id="rId4"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hyperlink" Target="file:///For%20more%20information,%20Contact%20us%20on%200434%20516%20393,%2007%203814%206512%20or%20take%20a%20look%20at%20our%20website%20:%20http://www.jsmbookkeepingservices.com.au/services/payroll-services" TargetMode="External"/><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5303880" y="0"/>
            <a:ext cx="4776840" cy="1006560"/>
          </a:xfrm>
          <a:prstGeom prst="rect">
            <a:avLst/>
          </a:prstGeom>
          <a:ln w="0">
            <a:noFill/>
          </a:ln>
        </p:spPr>
      </p:pic>
      <p:sp>
        <p:nvSpPr>
          <p:cNvPr id="452" name=""/>
          <p:cNvSpPr/>
          <p:nvPr/>
        </p:nvSpPr>
        <p:spPr>
          <a:xfrm>
            <a:off x="92160" y="90360"/>
            <a:ext cx="4236840" cy="4590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JSM Bookkeeping Services</a:t>
            </a:r>
            <a:endParaRPr b="0" lang="en-US" sz="2600" spc="-1" strike="noStrike">
              <a:solidFill>
                <a:srgbClr val="000000"/>
              </a:solidFill>
              <a:latin typeface="Arial"/>
            </a:endParaRPr>
          </a:p>
        </p:txBody>
      </p:sp>
      <p:sp>
        <p:nvSpPr>
          <p:cNvPr id="453" name=""/>
          <p:cNvSpPr/>
          <p:nvPr/>
        </p:nvSpPr>
        <p:spPr>
          <a:xfrm>
            <a:off x="1554120" y="554040"/>
            <a:ext cx="3565440" cy="5698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Vijaya"/>
              </a:rPr>
              <a:t>Payroll Services Brisbane</a:t>
            </a:r>
            <a:endParaRPr b="0" lang="en-US" sz="2800" spc="-1" strike="noStrike">
              <a:solidFill>
                <a:srgbClr val="000000"/>
              </a:solidFill>
              <a:latin typeface="Arial"/>
            </a:endParaRPr>
          </a:p>
        </p:txBody>
      </p:sp>
      <p:pic>
        <p:nvPicPr>
          <p:cNvPr id="454" name="" descr=""/>
          <p:cNvPicPr/>
          <p:nvPr/>
        </p:nvPicPr>
        <p:blipFill>
          <a:blip r:embed="rId3"/>
          <a:stretch/>
        </p:blipFill>
        <p:spPr>
          <a:xfrm>
            <a:off x="2193840" y="1123920"/>
            <a:ext cx="5075280" cy="637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5" name="" descr=""/>
          <p:cNvPicPr/>
          <p:nvPr/>
        </p:nvPicPr>
        <p:blipFill>
          <a:blip r:embed="rId2"/>
          <a:stretch/>
        </p:blipFill>
        <p:spPr>
          <a:xfrm>
            <a:off x="5303880" y="0"/>
            <a:ext cx="4776840" cy="1006560"/>
          </a:xfrm>
          <a:prstGeom prst="rect">
            <a:avLst/>
          </a:prstGeom>
          <a:ln w="0">
            <a:noFill/>
          </a:ln>
        </p:spPr>
      </p:pic>
      <p:sp>
        <p:nvSpPr>
          <p:cNvPr id="456" name=""/>
          <p:cNvSpPr/>
          <p:nvPr/>
        </p:nvSpPr>
        <p:spPr>
          <a:xfrm>
            <a:off x="92160" y="90360"/>
            <a:ext cx="4236840" cy="4590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JSM Bookkeeping Services</a:t>
            </a:r>
            <a:endParaRPr b="0" lang="en-US" sz="2600" spc="-1" strike="noStrike">
              <a:solidFill>
                <a:srgbClr val="000000"/>
              </a:solidFill>
              <a:latin typeface="Arial"/>
            </a:endParaRPr>
          </a:p>
        </p:txBody>
      </p:sp>
      <p:sp>
        <p:nvSpPr>
          <p:cNvPr id="457" name=""/>
          <p:cNvSpPr/>
          <p:nvPr/>
        </p:nvSpPr>
        <p:spPr>
          <a:xfrm>
            <a:off x="1554120" y="554040"/>
            <a:ext cx="3565440" cy="5698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Vijaya"/>
              </a:rPr>
              <a:t>Payroll Services Brisbane</a:t>
            </a:r>
            <a:endParaRPr b="0" lang="en-US" sz="2800" spc="-1" strike="noStrike">
              <a:solidFill>
                <a:srgbClr val="000000"/>
              </a:solidFill>
              <a:latin typeface="Arial"/>
            </a:endParaRPr>
          </a:p>
        </p:txBody>
      </p:sp>
      <p:sp>
        <p:nvSpPr>
          <p:cNvPr id="458" name=""/>
          <p:cNvSpPr/>
          <p:nvPr/>
        </p:nvSpPr>
        <p:spPr>
          <a:xfrm>
            <a:off x="731880" y="2359080"/>
            <a:ext cx="8594640" cy="44989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ffff"/>
                </a:solidFill>
                <a:latin typeface="Arial"/>
              </a:rPr>
              <a:t>Payroll is the sum of all financial records of salaries for an employee, wages, bonuses and deductions. In accounting, payroll refers to the amount paid to employees for services they provided during a certain period of time. Payroll plays a major role in a company for several reason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9" name="" descr=""/>
          <p:cNvPicPr/>
          <p:nvPr/>
        </p:nvPicPr>
        <p:blipFill>
          <a:blip r:embed="rId2"/>
          <a:stretch/>
        </p:blipFill>
        <p:spPr>
          <a:xfrm>
            <a:off x="5303880" y="0"/>
            <a:ext cx="4776840" cy="1006560"/>
          </a:xfrm>
          <a:prstGeom prst="rect">
            <a:avLst/>
          </a:prstGeom>
          <a:ln w="0">
            <a:noFill/>
          </a:ln>
        </p:spPr>
      </p:pic>
      <p:sp>
        <p:nvSpPr>
          <p:cNvPr id="460" name=""/>
          <p:cNvSpPr/>
          <p:nvPr/>
        </p:nvSpPr>
        <p:spPr>
          <a:xfrm>
            <a:off x="92160" y="90360"/>
            <a:ext cx="4236840" cy="4590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JSM Bookkeeping Services</a:t>
            </a:r>
            <a:endParaRPr b="0" lang="en-US" sz="2600" spc="-1" strike="noStrike">
              <a:solidFill>
                <a:srgbClr val="000000"/>
              </a:solidFill>
              <a:latin typeface="Arial"/>
            </a:endParaRPr>
          </a:p>
        </p:txBody>
      </p:sp>
      <p:sp>
        <p:nvSpPr>
          <p:cNvPr id="461" name=""/>
          <p:cNvSpPr/>
          <p:nvPr/>
        </p:nvSpPr>
        <p:spPr>
          <a:xfrm>
            <a:off x="1554120" y="554040"/>
            <a:ext cx="3565440" cy="5698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Vijaya"/>
              </a:rPr>
              <a:t>Payroll Services Brisbane</a:t>
            </a:r>
            <a:endParaRPr b="0" lang="en-US" sz="2800" spc="-1" strike="noStrike">
              <a:solidFill>
                <a:srgbClr val="000000"/>
              </a:solidFill>
              <a:latin typeface="Arial"/>
            </a:endParaRPr>
          </a:p>
        </p:txBody>
      </p:sp>
      <p:sp>
        <p:nvSpPr>
          <p:cNvPr id="462" name=""/>
          <p:cNvSpPr/>
          <p:nvPr/>
        </p:nvSpPr>
        <p:spPr>
          <a:xfrm>
            <a:off x="1006560" y="2084400"/>
            <a:ext cx="8594640" cy="44989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ffff"/>
                </a:solidFill>
                <a:latin typeface="Arial"/>
              </a:rPr>
              <a:t>JSM Bookkeeping services offers payroll services Brisbane for your security. Your data will never be mailed, refined or stored overseas. Our payroll managing techniques are fully secured with state-of-the-art technology to ensure your information is secure, covered and most significantly protected.</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5303880" y="0"/>
            <a:ext cx="4776840" cy="1006560"/>
          </a:xfrm>
          <a:prstGeom prst="rect">
            <a:avLst/>
          </a:prstGeom>
          <a:ln w="0">
            <a:noFill/>
          </a:ln>
        </p:spPr>
      </p:pic>
      <p:sp>
        <p:nvSpPr>
          <p:cNvPr id="464" name=""/>
          <p:cNvSpPr/>
          <p:nvPr/>
        </p:nvSpPr>
        <p:spPr>
          <a:xfrm>
            <a:off x="92160" y="90360"/>
            <a:ext cx="4236840" cy="4590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JSM Bookkeeping Services</a:t>
            </a:r>
            <a:endParaRPr b="0" lang="en-US" sz="2600" spc="-1" strike="noStrike">
              <a:solidFill>
                <a:srgbClr val="000000"/>
              </a:solidFill>
              <a:latin typeface="Arial"/>
            </a:endParaRPr>
          </a:p>
        </p:txBody>
      </p:sp>
      <p:sp>
        <p:nvSpPr>
          <p:cNvPr id="465" name=""/>
          <p:cNvSpPr/>
          <p:nvPr/>
        </p:nvSpPr>
        <p:spPr>
          <a:xfrm>
            <a:off x="1554120" y="554040"/>
            <a:ext cx="3565440" cy="5698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Vijaya"/>
              </a:rPr>
              <a:t>Payroll Services Brisbane</a:t>
            </a:r>
            <a:endParaRPr b="0" lang="en-US" sz="2800" spc="-1" strike="noStrike">
              <a:solidFill>
                <a:srgbClr val="000000"/>
              </a:solidFill>
              <a:latin typeface="Arial"/>
            </a:endParaRPr>
          </a:p>
        </p:txBody>
      </p:sp>
      <p:sp>
        <p:nvSpPr>
          <p:cNvPr id="466" name=""/>
          <p:cNvSpPr/>
          <p:nvPr/>
        </p:nvSpPr>
        <p:spPr>
          <a:xfrm>
            <a:off x="822240" y="2359080"/>
            <a:ext cx="8594640" cy="44989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ffff"/>
                </a:solidFill>
                <a:latin typeface="Arial"/>
              </a:rPr>
              <a:t>Our payroll software is simple to use like internet banking and you can process your payroll through the web. Once the original setup is performed, handling your payroll is as straightforward as filling in the time sheet. JSM Payroll Services Brisbane will take care of the rest.</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7" name="" descr=""/>
          <p:cNvPicPr/>
          <p:nvPr/>
        </p:nvPicPr>
        <p:blipFill>
          <a:blip r:embed="rId2"/>
          <a:stretch/>
        </p:blipFill>
        <p:spPr>
          <a:xfrm>
            <a:off x="5303880" y="0"/>
            <a:ext cx="4776840" cy="1006560"/>
          </a:xfrm>
          <a:prstGeom prst="rect">
            <a:avLst/>
          </a:prstGeom>
          <a:ln w="0">
            <a:noFill/>
          </a:ln>
        </p:spPr>
      </p:pic>
      <p:sp>
        <p:nvSpPr>
          <p:cNvPr id="468" name=""/>
          <p:cNvSpPr/>
          <p:nvPr/>
        </p:nvSpPr>
        <p:spPr>
          <a:xfrm>
            <a:off x="92160" y="90360"/>
            <a:ext cx="4236840" cy="4590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JSM Bookkeeping Services</a:t>
            </a:r>
            <a:endParaRPr b="0" lang="en-US" sz="2600" spc="-1" strike="noStrike">
              <a:solidFill>
                <a:srgbClr val="000000"/>
              </a:solidFill>
              <a:latin typeface="Arial"/>
            </a:endParaRPr>
          </a:p>
        </p:txBody>
      </p:sp>
      <p:sp>
        <p:nvSpPr>
          <p:cNvPr id="469" name=""/>
          <p:cNvSpPr/>
          <p:nvPr/>
        </p:nvSpPr>
        <p:spPr>
          <a:xfrm>
            <a:off x="1554120" y="554040"/>
            <a:ext cx="3565440" cy="5698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Vijaya"/>
              </a:rPr>
              <a:t>Payroll Services Brisbane</a:t>
            </a:r>
            <a:endParaRPr b="0" lang="en-US" sz="2800" spc="-1" strike="noStrike">
              <a:solidFill>
                <a:srgbClr val="000000"/>
              </a:solidFill>
              <a:latin typeface="Arial"/>
            </a:endParaRPr>
          </a:p>
        </p:txBody>
      </p:sp>
      <p:pic>
        <p:nvPicPr>
          <p:cNvPr id="470" name="" descr=""/>
          <p:cNvPicPr/>
          <p:nvPr/>
        </p:nvPicPr>
        <p:blipFill>
          <a:blip r:embed="rId3"/>
          <a:stretch/>
        </p:blipFill>
        <p:spPr>
          <a:xfrm>
            <a:off x="0" y="2139840"/>
            <a:ext cx="10058400" cy="3803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 descr=""/>
          <p:cNvPicPr/>
          <p:nvPr/>
        </p:nvPicPr>
        <p:blipFill>
          <a:blip r:embed="rId2"/>
          <a:stretch/>
        </p:blipFill>
        <p:spPr>
          <a:xfrm>
            <a:off x="5303880" y="0"/>
            <a:ext cx="4776840" cy="1006560"/>
          </a:xfrm>
          <a:prstGeom prst="rect">
            <a:avLst/>
          </a:prstGeom>
          <a:ln w="0">
            <a:noFill/>
          </a:ln>
        </p:spPr>
      </p:pic>
      <p:sp>
        <p:nvSpPr>
          <p:cNvPr id="472" name=""/>
          <p:cNvSpPr/>
          <p:nvPr/>
        </p:nvSpPr>
        <p:spPr>
          <a:xfrm>
            <a:off x="92160" y="90360"/>
            <a:ext cx="4236840" cy="4590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JSM Bookkeeping Services</a:t>
            </a:r>
            <a:endParaRPr b="0" lang="en-US" sz="2600" spc="-1" strike="noStrike">
              <a:solidFill>
                <a:srgbClr val="000000"/>
              </a:solidFill>
              <a:latin typeface="Arial"/>
            </a:endParaRPr>
          </a:p>
        </p:txBody>
      </p:sp>
      <p:sp>
        <p:nvSpPr>
          <p:cNvPr id="473" name=""/>
          <p:cNvSpPr/>
          <p:nvPr/>
        </p:nvSpPr>
        <p:spPr>
          <a:xfrm>
            <a:off x="1554120" y="554040"/>
            <a:ext cx="3565440" cy="5698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Vijaya"/>
              </a:rPr>
              <a:t>Payroll Services Brisbane</a:t>
            </a:r>
            <a:endParaRPr b="0" lang="en-US" sz="2800" spc="-1" strike="noStrike">
              <a:solidFill>
                <a:srgbClr val="000000"/>
              </a:solidFill>
              <a:latin typeface="Arial"/>
            </a:endParaRPr>
          </a:p>
        </p:txBody>
      </p:sp>
      <p:sp>
        <p:nvSpPr>
          <p:cNvPr id="474" name=""/>
          <p:cNvSpPr/>
          <p:nvPr/>
        </p:nvSpPr>
        <p:spPr>
          <a:xfrm>
            <a:off x="549360" y="2359080"/>
            <a:ext cx="8869320" cy="44989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For more information, Contact us on 0434 516 393, 07 3814 6512 or take a look at our website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 </a:t>
            </a:r>
            <a:r>
              <a:rPr b="0" lang="en-US" sz="1800" spc="-1" strike="noStrike" u="sng">
                <a:solidFill>
                  <a:srgbClr val="ccccff"/>
                </a:solidFill>
                <a:uFillTx/>
                <a:latin typeface="Arial"/>
                <a:hlinkClick r:id="rId3"/>
              </a:rPr>
              <a:t>http://www.jsmbookkeepingservices.com.au/services/payroll-servic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5303880" y="0"/>
            <a:ext cx="4776840" cy="1006560"/>
          </a:xfrm>
          <a:prstGeom prst="rect">
            <a:avLst/>
          </a:prstGeom>
          <a:ln w="0">
            <a:noFill/>
          </a:ln>
        </p:spPr>
      </p:pic>
      <p:sp>
        <p:nvSpPr>
          <p:cNvPr id="476" name=""/>
          <p:cNvSpPr/>
          <p:nvPr/>
        </p:nvSpPr>
        <p:spPr>
          <a:xfrm>
            <a:off x="92160" y="90360"/>
            <a:ext cx="4236840" cy="4590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JSM Bookkeeping Services</a:t>
            </a:r>
            <a:endParaRPr b="0" lang="en-US" sz="2600" spc="-1" strike="noStrike">
              <a:solidFill>
                <a:srgbClr val="000000"/>
              </a:solidFill>
              <a:latin typeface="Arial"/>
            </a:endParaRPr>
          </a:p>
        </p:txBody>
      </p:sp>
      <p:sp>
        <p:nvSpPr>
          <p:cNvPr id="477" name=""/>
          <p:cNvSpPr/>
          <p:nvPr/>
        </p:nvSpPr>
        <p:spPr>
          <a:xfrm>
            <a:off x="1554120" y="554040"/>
            <a:ext cx="3565440" cy="5698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80099"/>
                </a:solidFill>
                <a:latin typeface="Vijaya"/>
              </a:rPr>
              <a:t>Payroll Services Brisbane</a:t>
            </a:r>
            <a:endParaRPr b="0" lang="en-US" sz="2800" spc="-1" strike="noStrike">
              <a:solidFill>
                <a:srgbClr val="000000"/>
              </a:solidFill>
              <a:latin typeface="Arial"/>
            </a:endParaRPr>
          </a:p>
        </p:txBody>
      </p:sp>
      <p:sp>
        <p:nvSpPr>
          <p:cNvPr id="478" name=""/>
          <p:cNvSpPr/>
          <p:nvPr/>
        </p:nvSpPr>
        <p:spPr>
          <a:xfrm>
            <a:off x="822240" y="3200400"/>
            <a:ext cx="8101080" cy="1384200"/>
          </a:xfrm>
          <a:prstGeom prst="rect">
            <a:avLst/>
          </a:prstGeom>
          <a:noFill/>
          <a:ln w="0">
            <a:noFill/>
          </a:ln>
        </p:spPr>
        <p:style>
          <a:lnRef idx="0"/>
          <a:fillRef idx="0"/>
          <a:effectRef idx="0"/>
          <a:fontRef idx="minor"/>
        </p:style>
        <p:txBody>
          <a:bodyPr lIns="90000" rIns="90000" tIns="11304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5400" spc="-1" strike="noStrike">
                <a:solidFill>
                  <a:srgbClr val="ffffff"/>
                </a:solidFill>
                <a:latin typeface="Times New Roman"/>
              </a:rPr>
              <a:t>Thank You.</a:t>
            </a:r>
            <a:endParaRPr b="0" lang="en-US" sz="5400" spc="-1" strike="noStrike">
              <a:solidFill>
                <a:srgbClr val="000000"/>
              </a:solidFill>
              <a:latin typeface="Arial"/>
            </a:endParaRPr>
          </a:p>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4000" spc="-1" strike="noStrike">
                <a:solidFill>
                  <a:srgbClr val="ffffff"/>
                </a:solidFill>
                <a:latin typeface="Times New Roman"/>
              </a:rPr>
              <a:t>We Look Ahead To Hear From You.</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7:26:52Z</dcterms:created>
  <dc:creator/>
  <dc:description/>
  <dc:language>en-US</dc:language>
  <cp:lastModifiedBy/>
  <cp:revision>1</cp:revision>
  <dc:subject/>
  <dc:title/>
</cp:coreProperties>
</file>