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BF24-2B76-4D0B-A512-8865B2C2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A908-840B-468E-B35F-B731C4C0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011B-513C-43A3-8326-627E71CC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E6BF-9177-46C8-A4B0-E66E20D1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FC7-ACBF-41CC-A1DC-FF40B3F8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67CC-87C1-4D04-B398-A49EFABE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EB86-3C8C-487B-A5BC-BF7D0CF3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871-7E98-4AE7-8D2A-2BCCDA28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3CD6-4C97-481A-8B4F-ED6482F3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9A12-5AF8-4529-A83E-829F27D1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1F12-802E-4CB5-808E-4132F675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4C7F-FBFA-47C0-B8FE-974CE32A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BBD2-4170-4DEB-B867-A6241E81E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14600" y="2057400"/>
            <a:ext cx="42670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B 5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7621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Peredaran dar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3864" t="10733" r="4668" b="8729"/>
          <a:stretch/>
        </p:blipFill>
        <p:spPr>
          <a:xfrm>
            <a:off x="457200" y="1600200"/>
            <a:ext cx="8001000" cy="1690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8080" y="3657600"/>
            <a:ext cx="723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kema proses peredaran darah besar dan peredaran darah keci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533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Sistem Limfa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617220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tem limfatik manusi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429000" cy="5077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7975" t="2196" r="0" b="0"/>
          <a:stretch/>
        </p:blipFill>
        <p:spPr>
          <a:xfrm>
            <a:off x="4876920" y="1219320"/>
            <a:ext cx="3311280" cy="4267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105520" y="56386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tem peredaran limf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Transport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5335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Kelainan dan Penyakit pada Sistem Peredaran Darah Manu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523880"/>
            <a:ext cx="28958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emia sel bulan sa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as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sitemia seku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of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mbositop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k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yakit jantung koro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erten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Transport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6094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Sistem Sirkulasi Vertebr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143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stem sirkulasi ik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16765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 sirkulasi pada ika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lah sistem peredaran darah tertutup dan sistem peredaran darah tungg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5334120" cy="3386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6094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stem sirkulasi kat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12952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 sirkulasi pada katak adalah sistem peredaran darah tertutup dan sistem peredaran darah gan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27056" t="3230" r="5313" b="48290"/>
          <a:stretch/>
        </p:blipFill>
        <p:spPr>
          <a:xfrm>
            <a:off x="685800" y="2286000"/>
            <a:ext cx="3352680" cy="287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4172040" y="2209680"/>
          <a:ext cx="4438440" cy="294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72040" y="2209680"/>
                    <a:ext cx="443844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620120" y="4648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5257800"/>
            <a:ext cx="601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 Jantung katak tampak dorsal dan (b) sistem peredaran darah kata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8380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stem sirkulasi rep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12952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 sirkulasi pada reptil adalah sistem peredaran darah tertutup dan sistem peredaran darah gan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57913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tem peredaran darah repti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50380"/>
          <a:stretch/>
        </p:blipFill>
        <p:spPr>
          <a:xfrm>
            <a:off x="2133720" y="2209680"/>
            <a:ext cx="3886200" cy="3278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9160" y="6094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stem sirkulasi bu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2952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 sirkulasi pada burung adalah sistem peredaran darah tertutup dan sistem peredaran darah gan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5791320"/>
            <a:ext cx="32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tem peredaran darah burung: (a) peredaran darah kecil dan (b) peredaran darah besa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560" t="57150" r="5435" b="0"/>
          <a:stretch/>
        </p:blipFill>
        <p:spPr>
          <a:xfrm>
            <a:off x="2057400" y="2438280"/>
            <a:ext cx="3962520" cy="31370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280" y="6858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Sistem Sirkulasi Invertebr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609588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tem sirkulasi ca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67652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 sirkulasi pad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lanari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lah sistem gastrovaskuler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63730" r="0" b="9156"/>
          <a:stretch/>
        </p:blipFill>
        <p:spPr>
          <a:xfrm>
            <a:off x="4191120" y="3132000"/>
            <a:ext cx="4267080" cy="2372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rcRect l="16669" t="1358" r="13886" b="63391"/>
          <a:stretch/>
        </p:blipFill>
        <p:spPr>
          <a:xfrm>
            <a:off x="762120" y="2819520"/>
            <a:ext cx="2784240" cy="2895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0" y="16765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 sirkulasi pada cacing tanah adalah sistem peredaran dara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Transport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685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Sistem sirkulasi serang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6765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 sirkulasi pada serangga adalah sistem peredaran darah terbuka dengan jantung pembulu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666880" y="3048120"/>
            <a:ext cx="3353040" cy="2025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5562720" y="2999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429000" y="3123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719520" y="33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67600" y="28195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6400" y="312408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te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19920" y="2752560"/>
            <a:ext cx="14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antung pembulu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5053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Sirkulasi Manu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838080"/>
            <a:ext cx="3962520" cy="265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stem Peredaran Darah, fung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suplai O2 dan sari makanan dari sistem pencernaan ke seluruh jaringan tubu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bawa gas CO2 ke paru-pa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gembalikan sisa metabolisme ke ginjal untuk disekresik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jaga suhu tubu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distribusikan hormon-hormon untuk mengatur fungsi sel-sel tubu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4648320"/>
            <a:ext cx="39625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stem Limfatik, fung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galirkan cairan intersti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transpor lemak dari makan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fasilitasi reaksi im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733920" y="22093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220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5257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4572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Sistem Sirkulasi Manu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9240" y="1066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stem peredaran da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52388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 sirkulasi pada manusia adalah sistem peredaran darah tertutup dan sistem peredaran darah tungg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760" y="259092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5649" t="0" r="0" b="4952"/>
          <a:stretch/>
        </p:blipFill>
        <p:spPr>
          <a:xfrm>
            <a:off x="1600200" y="2590920"/>
            <a:ext cx="2543040" cy="2743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3880" y="541008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omponen darah: plasma darah dan sel-sel dara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5877" t="2220" r="0" b="0"/>
          <a:stretch/>
        </p:blipFill>
        <p:spPr>
          <a:xfrm>
            <a:off x="5516640" y="1981080"/>
            <a:ext cx="3093840" cy="4267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457200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ktur eritrosit yang berbentuk bikonka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838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Eritro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8192" t="5921" r="6889" b="2226"/>
          <a:stretch/>
        </p:blipFill>
        <p:spPr>
          <a:xfrm>
            <a:off x="457200" y="1371600"/>
            <a:ext cx="2819520" cy="2809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410080" y="762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Leuko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8955" t="4357" r="4485" b="0"/>
          <a:stretch/>
        </p:blipFill>
        <p:spPr>
          <a:xfrm>
            <a:off x="4419720" y="1219320"/>
            <a:ext cx="3122640" cy="4724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91120" y="601992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enis-jenis leukosit: (a) granulosit dan (b) agranulosi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2120" y="525780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mbentukan benang-benang fibrin yang menyebabkan luka tertutup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762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Trombo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396252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kema proses pembekuan dara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5877" t="3861" r="0" b="0"/>
          <a:stretch/>
        </p:blipFill>
        <p:spPr>
          <a:xfrm>
            <a:off x="914400" y="1390680"/>
            <a:ext cx="2438280" cy="3790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824360" y="136692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Trombo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66760" y="134604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Trombokin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70320" y="126684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geluark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10320" y="23623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Protrom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22860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tamin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25440" y="234324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Trom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99960" y="3224160"/>
            <a:ext cx="10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Fibrino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48880" y="312408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ja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43800" y="32004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Fibr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53920" y="25146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on C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1523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7080" y="25146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3395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548040" y="1676520"/>
            <a:ext cx="1452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705720" y="266688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53352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Golongan darah dan transfusi dar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3806" t="4633" r="2852" b="7517"/>
          <a:stretch/>
        </p:blipFill>
        <p:spPr>
          <a:xfrm>
            <a:off x="380880" y="2438280"/>
            <a:ext cx="4419720" cy="1714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0880" y="15685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ongan darah dan unsur pokok aglutinogen serta aglutin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rcRect l="5673" t="5840" r="5441" b="8517"/>
          <a:stretch/>
        </p:blipFill>
        <p:spPr>
          <a:xfrm>
            <a:off x="5257800" y="2133720"/>
            <a:ext cx="3581280" cy="3352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876920" y="12636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ji serum golongan A, B, AB, dan 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Transport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5335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Alat-alat peredaran dar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295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Jan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4572000" cy="3579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rcRect l="50011" t="0" r="4759" b="0"/>
          <a:stretch/>
        </p:blipFill>
        <p:spPr>
          <a:xfrm>
            <a:off x="6172200" y="3352680"/>
            <a:ext cx="1778040" cy="2362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4759" t="0" r="47626" b="0"/>
          <a:stretch/>
        </p:blipFill>
        <p:spPr>
          <a:xfrm>
            <a:off x="6019920" y="838080"/>
            <a:ext cx="193176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2120" y="541008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gian-bagian jantung manusi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57150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ran darah dalam jantung saat diastol dan sisto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609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embuluh da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52578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ktur arter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14300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e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4789" r="0" b="10985"/>
          <a:stretch/>
        </p:blipFill>
        <p:spPr>
          <a:xfrm>
            <a:off x="2057400" y="1603440"/>
            <a:ext cx="3505320" cy="3414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0" t="0" r="0" b="7746"/>
          <a:stretch/>
        </p:blipFill>
        <p:spPr>
          <a:xfrm>
            <a:off x="5486400" y="1523880"/>
            <a:ext cx="2998800" cy="3381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081760" y="52578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ktur ven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5335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Peredaran dar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594360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edaran darah manusia: (a) sistem peredaran darah pulmonalis dan (b) sistem peredaran darah sistemi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5949" t="8824" r="38101" b="23509"/>
          <a:stretch/>
        </p:blipFill>
        <p:spPr>
          <a:xfrm>
            <a:off x="609480" y="1143000"/>
            <a:ext cx="3581640" cy="3505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60717" t="0" r="0" b="0"/>
          <a:stretch/>
        </p:blipFill>
        <p:spPr>
          <a:xfrm>
            <a:off x="4876920" y="838080"/>
            <a:ext cx="2514600" cy="5180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9T12:01:04Z</dcterms:created>
  <dc:creator>Ir. El Khobar MN M.Eng</dc:creator>
  <dc:description/>
  <dc:language>en-US</dc:language>
  <cp:lastModifiedBy>MiKiCuN</cp:lastModifiedBy>
  <dcterms:modified xsi:type="dcterms:W3CDTF">2007-05-18T09:32:10Z</dcterms:modified>
  <cp:revision>8</cp:revision>
  <dc:subject/>
  <dc:title>BAB 5 SISTEM TRANSPORTASI</dc:title>
</cp:coreProperties>
</file>