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DE1-0CAE-4770-AE5C-9337E0D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BBD-1DD8-4504-88E0-7398F65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143-FFBD-46DA-9B7B-DEA8CDE2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20C-D8D1-48EB-BEBE-1BCE6BE8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8B9-AD1A-4650-9B62-A55ACF2C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089-68DE-4438-BE9B-0CEB3456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EFA0-3243-4CD1-A23B-9090D0F9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81D-085D-4D6B-8457-1AABB2EE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F81-4BD5-4DDD-89ED-9D8ACD8C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DDB-C13D-44EC-B5C0-A2FEFFE9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1CA-BABA-4467-9659-4F9A4BE6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8D2-4CC9-45B3-BE09-A5123DC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3A88-1EB0-4788-8186-6CBA5F3FE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2057400"/>
            <a:ext cx="4267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B 5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7621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864" t="10733" r="4668" b="8729"/>
          <a:stretch/>
        </p:blipFill>
        <p:spPr>
          <a:xfrm>
            <a:off x="457200" y="1600200"/>
            <a:ext cx="8001000" cy="169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3657600"/>
            <a:ext cx="723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ma proses peredaran darah besar dan peredaran darah kec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533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Limf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6172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limfatik manus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429000" cy="5077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7975" t="2196" r="0" b="0"/>
          <a:stretch/>
        </p:blipFill>
        <p:spPr>
          <a:xfrm>
            <a:off x="4876920" y="1219320"/>
            <a:ext cx="3311280" cy="4267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05520" y="56386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limf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5335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Kelainan dan Penyakit pada Sistem Peredaran Darah Man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523880"/>
            <a:ext cx="28958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 sel bulan sa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as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sitemia seku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f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mbosi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k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yakit jantung kor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erten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609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Sirkulasi Verteb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143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ik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ika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lah sistem peredaran darah tertutup dan sistem peredaran darah tungg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334120" cy="3386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609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ka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katak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7056" t="3230" r="5313" b="48290"/>
          <a:stretch/>
        </p:blipFill>
        <p:spPr>
          <a:xfrm>
            <a:off x="685800" y="2286000"/>
            <a:ext cx="3352680" cy="287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4172040" y="2209680"/>
          <a:ext cx="4438440" cy="29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72040" y="2209680"/>
                    <a:ext cx="44384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62012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2578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Jantung katak tampak dorsal dan (b) sistem peredaran darah kata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838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rep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reptil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7913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darah rep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50380"/>
          <a:stretch/>
        </p:blipFill>
        <p:spPr>
          <a:xfrm>
            <a:off x="2133720" y="2209680"/>
            <a:ext cx="3886200" cy="3278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160" y="6094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sirkulasi bu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1295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burung adalah sistem peredaran darah tertutup dan sistem peredaran darah ga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791320"/>
            <a:ext cx="32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peredaran darah burung: (a) peredaran darah kecil dan (b) peredaran darah bes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560" t="57150" r="5435" b="0"/>
          <a:stretch/>
        </p:blipFill>
        <p:spPr>
          <a:xfrm>
            <a:off x="2057400" y="2438280"/>
            <a:ext cx="3962520" cy="3137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6858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Sistem Sirkulasi Inverteb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09588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tem sirkulasi c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6765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anar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lah sistem gastrovaskuler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63730" r="0" b="9156"/>
          <a:stretch/>
        </p:blipFill>
        <p:spPr>
          <a:xfrm>
            <a:off x="4191120" y="3132000"/>
            <a:ext cx="4267080" cy="237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16669" t="1358" r="13886" b="63391"/>
          <a:stretch/>
        </p:blipFill>
        <p:spPr>
          <a:xfrm>
            <a:off x="762120" y="2819520"/>
            <a:ext cx="2784240" cy="2895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0" y="1676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cacing tanah adalah sistem peredaran dar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Sistem sirkulasi serang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6765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serangga adalah sistem peredaran darah terbuka dengan jantung pembulu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353040" cy="2025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562720" y="299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429000" y="312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719520" y="3367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7600" y="2819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6400" y="31240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t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19920" y="2752560"/>
            <a:ext cx="144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ntung pembul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05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Sirkulasi Manu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838080"/>
            <a:ext cx="3962520" cy="265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 Peredaran Darah, fung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suplai O2 dan sari makanan dari sistem pencernaan ke seluruh jaringan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awa gas CO2 ke paru-pa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embalikan sisa metabolisme ke ginjal untuk disekresi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ga suhu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distribusikan hormon-hormon untuk mengatur fungsi sel-sel tubu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648320"/>
            <a:ext cx="39625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 Limfatik, fung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alirkan cairan interst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transpor lemak dari maka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fasilitasi reaksi im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33920" y="22093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457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Sistem Sirkulasi Manu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240" y="1066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stem peredaran 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5238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 sirkulasi pada manusia adalah sistem peredaran darah tertutup dan sistem peredaran darah tungg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259092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649" t="0" r="0" b="4952"/>
          <a:stretch/>
        </p:blipFill>
        <p:spPr>
          <a:xfrm>
            <a:off x="1600200" y="2590920"/>
            <a:ext cx="254304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3880" y="54100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omponen darah: plasma darah dan sel-sel dara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5877" t="2220" r="0" b="0"/>
          <a:stretch/>
        </p:blipFill>
        <p:spPr>
          <a:xfrm>
            <a:off x="5516640" y="1981080"/>
            <a:ext cx="3093840" cy="4267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457200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eritrosit yang berbentuk bikonka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ritr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192" t="5921" r="6889" b="2226"/>
          <a:stretch/>
        </p:blipFill>
        <p:spPr>
          <a:xfrm>
            <a:off x="457200" y="1371600"/>
            <a:ext cx="2819520" cy="2809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4100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euk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8955" t="4357" r="4485" b="0"/>
          <a:stretch/>
        </p:blipFill>
        <p:spPr>
          <a:xfrm>
            <a:off x="4419720" y="1219320"/>
            <a:ext cx="312264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191120" y="60199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nis-jenis leukosit: (a) granulosit dan (b) agranulos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5257800"/>
            <a:ext cx="274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mbentukan benang-benang fibrin yang menyebabkan luka tertut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762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rombo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39625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ema proses pembekuan dar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5877" t="3861" r="0" b="0"/>
          <a:stretch/>
        </p:blipFill>
        <p:spPr>
          <a:xfrm>
            <a:off x="914400" y="1390680"/>
            <a:ext cx="2438280" cy="379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24360" y="136692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o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6760" y="134604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okin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70320" y="126684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geluark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10320" y="2362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Prot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28600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tamin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25440" y="2343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rom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99960" y="322416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Fibrin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880" y="312408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ja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3800" y="320040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Fib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53920" y="25146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on Ca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152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708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339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48040" y="1676520"/>
            <a:ext cx="1452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05720" y="26668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5335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Golongan darah dan transfusi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3806" t="4633" r="2852" b="7517"/>
          <a:stretch/>
        </p:blipFill>
        <p:spPr>
          <a:xfrm>
            <a:off x="380880" y="2438280"/>
            <a:ext cx="4419720" cy="171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685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ongan darah dan unsur pokok aglutinogen serta aglutin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5673" t="5840" r="5441" b="8517"/>
          <a:stretch/>
        </p:blipFill>
        <p:spPr>
          <a:xfrm>
            <a:off x="5257800" y="2133720"/>
            <a:ext cx="3581280" cy="3352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876920" y="1263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ji serum golongan A, B, AB, dan 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Transport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533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Alat-alat 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95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an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572000" cy="3579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50011" t="0" r="4759" b="0"/>
          <a:stretch/>
        </p:blipFill>
        <p:spPr>
          <a:xfrm>
            <a:off x="6172200" y="3352680"/>
            <a:ext cx="1778040" cy="2362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4759" t="0" r="47626" b="0"/>
          <a:stretch/>
        </p:blipFill>
        <p:spPr>
          <a:xfrm>
            <a:off x="6019920" y="838080"/>
            <a:ext cx="193176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541008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gian-bagian jantung manus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57150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ran darah dalam jantung saat diastol dan sisto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609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mbuluh d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arter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143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4789" r="0" b="10985"/>
          <a:stretch/>
        </p:blipFill>
        <p:spPr>
          <a:xfrm>
            <a:off x="2057400" y="1603440"/>
            <a:ext cx="3505320" cy="341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0" r="0" b="7746"/>
          <a:stretch/>
        </p:blipFill>
        <p:spPr>
          <a:xfrm>
            <a:off x="5486400" y="1523880"/>
            <a:ext cx="2998800" cy="33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8176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ktur ven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533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Peredaran d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94360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edaran darah manusia: (a) sistem peredaran darah pulmonalis dan (b) sistem peredaran darah sistemi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5949" t="8824" r="38101" b="23509"/>
          <a:stretch/>
        </p:blipFill>
        <p:spPr>
          <a:xfrm>
            <a:off x="609480" y="1143000"/>
            <a:ext cx="358164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60717" t="0" r="0" b="0"/>
          <a:stretch/>
        </p:blipFill>
        <p:spPr>
          <a:xfrm>
            <a:off x="4876920" y="838080"/>
            <a:ext cx="2514600" cy="5180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28600" y="152280"/>
            <a:ext cx="18288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stem Sirkulasi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2:01:04Z</dcterms:created>
  <dc:creator>Ir. El Khobar MN M.Eng</dc:creator>
  <dc:description/>
  <dc:language>en-US</dc:language>
  <cp:lastModifiedBy>MiKiCuN</cp:lastModifiedBy>
  <dcterms:modified xsi:type="dcterms:W3CDTF">2007-05-18T09:32:10Z</dcterms:modified>
  <cp:revision>8</cp:revision>
  <dc:subject/>
  <dc:title>BAB 5 SISTEM TRANSPORTASI</dc:title>
</cp:coreProperties>
</file>