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734-01F1-46DC-BA0B-6637E5AA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77E-558D-4359-8E5E-7AEC30B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F7B-F419-4A54-800F-D6D91137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1BB-CB0C-445A-B3E8-D25EF9E2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968-0C09-4939-B0EF-6F03BAD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26F-B684-4020-BF7A-09B4B32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960-5AB0-42F0-A991-6BC6F27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7A8-56DB-4773-B8A5-D9BC25A4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850-0CBD-4106-A1C5-89AEB8B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A1F-9663-46CD-A676-C33253E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63D-B4C4-40D6-84A0-A12EC33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76B-238B-4FCA-AC07-1C506F07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DFF64-16F3-44A0-9D62-A6CDBCA94C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8B56F-5C87-479B-9FC9-68C87E9DE73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39:01Z</dcterms:created>
  <dc:creator>최봉수</dc:creator>
  <dc:description/>
  <dc:language>en-US</dc:language>
  <cp:lastModifiedBy>맛있다 군만두</cp:lastModifiedBy>
  <dcterms:modified xsi:type="dcterms:W3CDTF">2024-10-01T03:10:40Z</dcterms:modified>
  <cp:revision>3</cp:revision>
  <dc:subject/>
  <dc:title>슬라이드 1</dc:title>
</cp:coreProperties>
</file>