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9C19-FF23-4CE4-8884-BC4F6632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6E3-8C3A-424E-9DFB-675AEE58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FA3C-DA06-439E-ADD6-4A7EA62A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5B9-9B19-4B41-9A9A-AF0F1E47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7D4-4B50-491D-9D1B-F0CCCD5F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F26-E86E-424A-8C96-1914DECC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B2F-D578-4CFA-B815-AE435FBA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19A-F16D-4B85-AD26-C66F8B09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D13-8DF9-4BC4-A700-98F39D2F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0D5-5DFC-4C6D-8909-6092FC67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2302-349C-492C-BB6B-15EFD9D3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216-4454-42A0-8EF0-4D0C3ABD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2F2176-09F9-4F31-9AD0-F99941651AD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1DCEE-9452-4F03-AF64-1F05E7D4D55A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7:39:01Z</dcterms:created>
  <dc:creator>최봉수</dc:creator>
  <dc:description/>
  <dc:language>en-US</dc:language>
  <cp:lastModifiedBy>맛있다 군만두</cp:lastModifiedBy>
  <dcterms:modified xsi:type="dcterms:W3CDTF">2024-10-01T03:10:40Z</dcterms:modified>
  <cp:revision>3</cp:revision>
  <dc:subject/>
  <dc:title>슬라이드 1</dc:title>
</cp:coreProperties>
</file>