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</p:sldIdLst>
  <p:sldSz cx="9144000" cy="6858000"/>
  <p:notesSz cx="7088188" cy="9024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7088400" cy="90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"/>
          <p:cNvSpPr/>
          <p:nvPr/>
        </p:nvSpPr>
        <p:spPr>
          <a:xfrm>
            <a:off x="0" y="0"/>
            <a:ext cx="7086600" cy="9024840"/>
          </a:xfrm>
          <a:custGeom>
            <a:avLst/>
            <a:gdLst>
              <a:gd name="textAreaLeft" fmla="*/ 360 w 7086600"/>
              <a:gd name="textAreaRight" fmla="*/ 7086240 w 7086600"/>
              <a:gd name="textAreaTop" fmla="*/ 360 h 9024840"/>
              <a:gd name="textAreaBottom" fmla="*/ 9024480 h 9024840"/>
            </a:gdLst>
            <a:ahLst/>
            <a:rect l="textAreaLeft" t="textAreaTop" r="textAreaRight" b="textAreaBottom"/>
            <a:pathLst>
              <a:path w="21600" h="27507">
                <a:moveTo>
                  <a:pt x="4" y="0"/>
                </a:moveTo>
                <a:arcTo wR="4" hR="4" stAng="16200000" swAng="-5400000"/>
                <a:lnTo>
                  <a:pt x="0" y="27503"/>
                </a:lnTo>
                <a:arcTo wR="4" hR="4" stAng="10800000" swAng="-5400000"/>
                <a:lnTo>
                  <a:pt x="21596" y="2750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0" y="0"/>
            <a:ext cx="3070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dt" idx="17"/>
          </p:nvPr>
        </p:nvSpPr>
        <p:spPr>
          <a:xfrm>
            <a:off x="4013280" y="0"/>
            <a:ext cx="3068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8640" cy="33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9e5dc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body"/>
          </p:nvPr>
        </p:nvSpPr>
        <p:spPr>
          <a:xfrm>
            <a:off x="708120" y="4286160"/>
            <a:ext cx="566712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0" y="8572680"/>
            <a:ext cx="3070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4013280" y="8572320"/>
            <a:ext cx="3068640" cy="4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42C40-EC1D-4375-86A2-5FF42C895CA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1C200-7F86-4F7A-8ACF-5EBE44F34F0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4DF82-1A02-4D8B-9A1E-E08FFC60227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66D82-711B-445E-917C-0A79D44322B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6303F-A7E1-46C4-AEE3-D9AFEB15DA4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83842-F547-4827-A7DE-6D4C76DC2B6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15DB6-8194-4439-838E-2AF6270C18B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280C9-70DC-42DE-82A0-F5D6BCC4319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C8CA6-330E-4899-B9D7-545699FB509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A257B-3328-4B08-9A5A-B5293B300B5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D5E4E-8164-43BC-BF92-00B51C4E646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D9060-693D-4E77-8F9E-6D23DE75B33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19355-AEF4-4A4C-93E9-0ED06E0491B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179F8-DF19-47E0-B07C-350898CCC9A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D9A77-F6D7-49B8-A325-A21BD53C341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005FF-5B5C-41F7-B1E9-100071E04C9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A8452-3CD3-486B-8BBE-936AD4648F7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AF2A4-B7BD-4488-8DEB-3D8CACAA77A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C248B-A1B0-42AB-A78F-2EDF4ACA029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44B60-36A4-4A22-86CA-8546B4FF260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1E678-1730-40A3-8166-A890BF49A33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B8956-C91C-4676-BAEC-4D219D7749F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49C8B-E0C9-45A3-98C9-F1B34F8137D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F563E-3960-4C97-AE97-EA05D123597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44DDE-E264-4EC6-AE6E-88A4BB16EAE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995C9-4CEC-4043-AFCA-70E100B5AEF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72382-314B-40C0-94D0-1F6D0E7CC65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60638-9E12-4DDE-890C-F82CC5B307F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F8907-58A6-44F4-84E1-D9A7F8330A6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3A73E-6A7C-4F0C-8397-E01E536E4F8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16299-1BE6-402D-9CC5-43D8B38D5DC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62665-4A4C-42FF-9251-CC6E5F03EC1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1D0EF-3756-44DA-A3F6-4A0139E4AE9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66A08-F09A-4947-851F-17077208A43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15507-C95D-4915-BD3E-6DC02136E01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464A5-9922-4C48-A76F-8FB217AEE6B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2E8F5-5A23-4273-8185-5DEBBA756DB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9E14B-7EF0-4687-8003-AE716DE8634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267D1-9FD1-44BE-9159-1659DD3F05D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B2AF2-FB58-4FD1-AD8B-BBB7F5D0328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DEBC7-0EF0-4E36-B2D3-CC21D261C18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54036-879C-48D3-AC83-5C447580557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26283-F047-42B3-B242-1556083A84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64392-FD08-46B3-8B9C-AF32DDAB12F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060BF-1B8E-4D94-A249-4253004B42C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B2BCF-D8D5-46E0-9D14-B42D787A900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28DE1-9929-43F8-8A8F-48E40B5637E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C2AAB-DEAE-4CD5-A6DF-A4AC9BDB196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7B71C-B309-486D-8AFE-C0F72224479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6ECC0-FB2D-4D91-9158-CDB07348650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72FAD-F31D-402E-9A99-5BAE5F7D795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37851-AC67-4913-AF8C-B381DA36448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2782F-6BC5-444B-A000-A9FFE105212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4013280" y="8572680"/>
            <a:ext cx="3070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70284D-F193-4649-96BC-AC1BB7615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4979F-88AD-45D5-A6C2-E8688ECE97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4526E-2BE4-4C82-9F4E-F069BF40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09E0B-ABE4-428F-A337-11412A18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A5560-ADAE-4D15-A590-786526A5F1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0FD26-0627-4624-A71F-814372C91E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448D4-D457-4947-8C3F-C0B9DD97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F5050-6004-4D79-92D7-25B39CE7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9126C-B64C-4373-B824-D68DBB7F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37AC5-F79F-4A06-981F-131D4486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A2F54-B05A-4687-97E0-621F3180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A97C0-E6D9-494F-913A-AAF97396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82682-FCB6-4EA4-B566-34E0EF89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D1971-76B6-4975-B97B-FDAB184A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8EEB4-F9A3-4756-91D6-7410AEC1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399C2-51C2-45F1-9CE5-3A81A0C8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EB921-2757-4AD5-94DE-46CD3164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AC0A6-A40D-4490-89F8-550364B833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5A54-E74D-45E3-8A7C-0EA8BE7236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636E-7A9E-407A-8B0B-D1B91F2E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651A-A979-48A9-B3FF-213624D7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5C57-A99C-4A5E-9032-B49C5C6F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CCC0-E7C0-484D-8685-BD24122B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5490E-C834-4E04-89FA-5F4DD7B6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634A-A44A-491F-96B4-1997E75A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B9B1-B748-4888-BA20-D3D2FB1F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D85C-F20B-40D8-B874-C487EEF7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841C-C83C-45D3-BEFF-6FD65305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05B0-2FC0-47CF-BF78-EFCDAA9E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6DDE-61F8-462C-ABEB-CF44432F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335C-CAC1-46CF-9C5F-6F88002AAC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9C713-5343-487A-AE42-02572FC632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BD9A4-CFC7-4892-9B15-5BC847C2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D1B56-71DB-4F47-93CE-35E215F2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8AEE-8D33-43C8-8063-2225B4AA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B7E45-9DC7-4EC4-970B-8F770B98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2681F-F50A-4EA5-BD11-FA08C1AD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1EDF4-308A-496D-ABAD-98DD4CA4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A4DF4-8D62-4DB4-90C2-A454F559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AC690-B978-443F-8B50-D36122D5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0AEB2-BA7B-4583-9D85-9093437E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354CE-C859-4B05-98CB-787A9B45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E8A78-A63F-4850-ADD5-1AF2D572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ED3F2-3000-48D6-90AF-11F828E774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9444D4-A8E4-4965-92BF-7DE7FE7FE8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9766D-14B7-4A65-9B0C-07F09052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C16816-DB9A-46D2-9B99-854C193B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FE365F-1C24-4D12-93A5-5E11EBB3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B1B3B3-4926-4D7A-B3C3-3F7A2C03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1B4056-9943-4571-84C1-549F53A6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87EBD1-22C9-4A2D-A755-39B7058D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401B73-0AE2-4262-BFB5-76ECD477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CE790A-09BA-438C-B7E0-1CE9A94A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26B793-DB80-47AF-9785-DD170721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5B23F6-DB88-46FE-8503-EB4E632D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4F83A2-6019-4644-9CB3-06342584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982F9-A2FD-4C53-898B-68944B07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BBA085-9129-4F8D-A214-DCA47AF8C0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688FA-8A0C-4AD4-930E-24DDE6236A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3BC4F-07AA-45B3-A1F0-C21C3D28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2F1DE-21B1-4720-A99D-A33237EE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C70C9-75FA-411F-93DD-17EE9510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4C0F5-0A79-427C-877A-1992ECE3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74A85-EA98-493C-A2FC-20E5FBB0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51CFC-DFF5-4D05-A239-7A2FE5D0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B7FD5-43BC-465B-AE07-73E143CC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01A33-D13D-486F-ACAE-FBFD7362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3F869-2F4D-476C-98DA-5AE2CE3E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77A01-69FD-475A-B42A-D887F832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88BD2-443A-4E87-9A69-6D397AC8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7D446-9DE5-4382-8EDF-6B8B555793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8496DB-F6C1-494C-BD34-D9A9551166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2A0F1B-4CBC-48AE-81C5-272FD387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607CF2-695A-4AD6-886F-A71D5198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12F91B-FA4B-4E1B-9127-7AFB8ABD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10E35C-6238-4D16-ABF6-7E4F2161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76FD7-996B-47BA-8FC4-287B4790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575EC-EC9A-4E84-8799-2D2EDA4D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2D0F6-C9EB-4229-80DC-AE99523E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E942D0-FF9E-4367-9807-9F735F5E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06723B-9C50-4FFB-9955-DED4774E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1470AA-4543-4B99-AB1A-FFDCECEB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7C8CBB-86E7-491F-AF25-67B440B6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46993F-EDC0-4B07-AF7D-6DB9A91499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60FD0E-A376-42EE-B576-7E0DE62180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0AF9DE-E6BF-4C20-9541-DEEAB414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576B4E-9213-4A81-875C-79D03EC3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12DCED-3BA9-45F3-B2B8-A3C02081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77755E-14AC-4ADF-B590-3882BF9B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58794-BE3D-4D90-B857-8186027D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7FD185-66E5-410A-BE9F-C3A1281C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F19023-0F99-435E-AA41-5654D136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775CEE-2B44-45AB-ABFC-CE3D8057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B7B6E8-7EA9-44DE-A3C6-2E8F8E95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E5813C-4C65-4485-AE4D-F9F64F51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9CBA57-4D03-4FCA-BEA8-BE9A22F3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2CFC20-B1F4-4B92-9365-D464C66C35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880" y="6246360"/>
            <a:ext cx="266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360" y="1209240"/>
            <a:ext cx="531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028221-8801-450E-8428-2F7FF0D7043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9e5dc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e9e5dc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41FC84-8771-4E8E-9332-F989AA33B141}" type="slidenum">
              <a:rPr b="1" lang="en-US" sz="1400" spc="-1" strike="noStrike">
                <a:solidFill>
                  <a:srgbClr val="e9e5dc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91DE8C-7DC1-4D55-A7AE-A3C0CC3D6A9A}" type="slidenum"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-360" y="1239480"/>
            <a:ext cx="531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D1D9C1-14C3-4901-BB87-3D3948C6C8CF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-360" y="1239480"/>
            <a:ext cx="531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F85A7D-C805-4F10-B6FE-6FC7447B2A52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2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696464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BDB0C9-40E8-4E29-9EEC-859CA352B57D}" type="slidenum">
              <a:rPr b="1" lang="en-US" sz="1400" spc="-1" strike="noStrike">
                <a:solidFill>
                  <a:srgbClr val="696464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4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62B94E-2599-4E7D-A05B-7A53FF058FA0}" type="slidenum">
              <a:rPr b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5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6"/>
          </p:nvPr>
        </p:nvSpPr>
        <p:spPr>
          <a:xfrm>
            <a:off x="6410160" y="-360"/>
            <a:ext cx="532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C87E8A-831A-4B63-8A11-33C9CA7BF617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2362320" y="604980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DEPARTMENT OF OBSTETRICS AND GYNEC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1494000" y="1773360"/>
            <a:ext cx="6619680" cy="19699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3"/>
          <p:cNvSpPr/>
          <p:nvPr/>
        </p:nvSpPr>
        <p:spPr>
          <a:xfrm>
            <a:off x="0" y="6095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FEU-NRM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1400" spc="-1" strike="noStrike">
                <a:solidFill>
                  <a:srgbClr val="000000"/>
                </a:solidFill>
                <a:latin typeface="Arial"/>
              </a:rPr>
              <a:t>INTITUTE OF MEDIC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612720" y="1600200"/>
            <a:ext cx="8153280" cy="49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uses electrolyte shift and changes in cellular transport of various ions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Na &amp; water enter skeletal musc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K+ Loss to extracellular flu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 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Survival is reduced in acute hemorrhagic shock when blood alone, compared with blood and lactated Ringer solution, is administered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66047"/>
                </a:solidFill>
                <a:latin typeface="Tw Cen MT"/>
              </a:rPr>
              <a:t>Hypovolemic Sho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Estimation of Blood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533520" y="1676520"/>
            <a:ext cx="8183520" cy="46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isual inspec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inaccu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half the measured lo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 obstetrics - part or all of the hemorrhage may be concealed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3733920" y="3813120"/>
            <a:ext cx="4724280" cy="3044880"/>
          </a:xfrm>
          <a:prstGeom prst="rect">
            <a:avLst/>
          </a:prstGeom>
          <a:ln w="0">
            <a:noFill/>
          </a:ln>
        </p:spPr>
      </p:pic>
      <p:sp>
        <p:nvSpPr>
          <p:cNvPr id="403" name="Oval 4"/>
          <p:cNvSpPr/>
          <p:nvPr/>
        </p:nvSpPr>
        <p:spPr>
          <a:xfrm>
            <a:off x="3352680" y="3581280"/>
            <a:ext cx="2210040" cy="2895840"/>
          </a:xfrm>
          <a:prstGeom prst="ellipse">
            <a:avLst/>
          </a:prstGeom>
          <a:noFill/>
          <a:ln w="381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Estimation of Blood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533520" y="1676520"/>
            <a:ext cx="818352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cute hemorrhage - the immediate hematocrit may not reflect actual blood l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the loss of 1000 m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 hematocrit  ↓ 3 vol% in the first h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rapid infusion of intravenous crystalloids causes rapid equilib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During an episode of acute significant hemorrhage, the initial hematocrit is always the high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Estimation of Blood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533520" y="1523880"/>
            <a:ext cx="8183520" cy="61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Urine output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One of the most important "vital signs“ in woman with obstetrical hemorrh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Rate of urine formation reflects the adequacy of renal perfusion, and in turn the perfusion to other vital org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Urine flow of at least 30-60 mL per hour should be maintain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In potentially serious hemorrhage, an indwelling catheter should be inserted promptly to measure urine flow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Estimation of Blood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533520" y="1752480"/>
            <a:ext cx="818352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Potent diuretics (Furosemide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invalidate the relationship between urine flow and renal perfu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it is contraindicated in hypovolemic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Causes venodil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 ↓ ↓ ↓ cardiac venous return, ↓ ↓ ↓ cardiac out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w Cen MT"/>
              </a:rPr>
              <a:t>Resuscitation and Acute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04920" y="1752480"/>
            <a:ext cx="8488080" cy="51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dentify presence of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SimSun"/>
              </a:rPr>
              <a:t>uterine atony, retained placental fra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SimSun"/>
              </a:rPr>
              <a:t>genital tract lac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t least one or two intravenous infusion systems of large calibermust be established promptly to allow rapid administration of crystalloid solutions and bl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 operating room, surgical team, and anesthesiologist should always be immediately availab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management of specific causes of postpartum hemorrhage were discussed earlier in this chap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696464"/>
                </a:solidFill>
                <a:latin typeface="Tw Cen MT"/>
              </a:rPr>
              <a:t>Fluid Replac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612720" y="1600200"/>
            <a:ext cx="8153280" cy="53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w Cen MT"/>
              </a:rPr>
              <a:t>Crystalloid solu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used for initial volume resusc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rapidly equilibrate into the extravascular space and only 20 % of crystalloid remains in the circulation of critically ill patients after 1 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Initial fluid infusion would involve about three times as much crystalloid as the estimated blood l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Blood Replac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1600200"/>
            <a:ext cx="838512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rdiac output does not substantively decrease until the hemoglobin concentration falls to about 7 g/d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ministered in cases of acute bleeding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rapid blood infusion if the hematocrit is less than 25 volume 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transfusion if the hematocrit is less than 24 volume 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if hemoglobin is less than 8 g/d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if there is imminent surgery, acute operative blood loss, acute hypoxia, vascular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" descr=""/>
          <p:cNvPicPr/>
          <p:nvPr/>
        </p:nvPicPr>
        <p:blipFill>
          <a:blip r:embed="rId1"/>
          <a:stretch/>
        </p:blipFill>
        <p:spPr>
          <a:xfrm>
            <a:off x="2206800" y="3273480"/>
            <a:ext cx="6029280" cy="341928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2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w Cen MT"/>
              </a:rPr>
              <a:t>Whole Blood and Blood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609480" y="1905120"/>
            <a:ext cx="8153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7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Compatible whole blood is ideal for treatment of hypovolemia from catastrophic acute hemorrh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Whole Bloo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57200" y="1676520"/>
            <a:ext cx="818352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0 days shelf lif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70% of the transfused red cells function for at least 24 hours following transfus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 unit raises the hematocrit by 3 to 4 vol%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places many coagulation factors, especially fibrinoge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s plasma expands hypovolemia from hemorrhag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696464"/>
                </a:solidFill>
                <a:latin typeface="Tw Cen MT"/>
              </a:rPr>
              <a:t>SHO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12720" y="1219320"/>
          <a:ext cx="8155080" cy="4740120"/>
        </p:xfrm>
        <a:graphic>
          <a:graphicData uri="http://schemas.openxmlformats.org/drawingml/2006/table">
            <a:tbl>
              <a:tblPr/>
              <a:tblGrid>
                <a:gridCol w="3197160"/>
                <a:gridCol w="2516400"/>
                <a:gridCol w="2441520"/>
              </a:tblGrid>
              <a:tr h="496800"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PH" sz="2400" spc="-1" strike="noStrike">
                          <a:solidFill>
                            <a:srgbClr val="ffffff"/>
                          </a:solidFill>
                          <a:latin typeface="Tw Cen MT"/>
                          <a:ea typeface="Arial"/>
                        </a:rPr>
                        <a:t>CA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PH" sz="2400" spc="-1" strike="noStrike">
                          <a:solidFill>
                            <a:srgbClr val="ffffff"/>
                          </a:solidFill>
                          <a:latin typeface="Tw Cen MT"/>
                          <a:ea typeface="Arial"/>
                        </a:rPr>
                        <a:t>DUE 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1093680">
                <a:tc>
                  <a:txBody>
                    <a:bodyPr lIns="90000" rIns="90000" tIns="6084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PH" sz="28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Hypovolemic Sh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590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PH" sz="24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Decrease blood 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5688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PH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Hemorrh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PH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Vomi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PH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Diarrhe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094040">
                <a:tc>
                  <a:txBody>
                    <a:bodyPr lIns="90000" rIns="90000" tIns="6084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PH" sz="28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Cardiogenic Sh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590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PH" sz="24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Pump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5688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PH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M.I/heart faill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PH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Arrythmi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PH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(AV) blo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1027080">
                <a:tc>
                  <a:txBody>
                    <a:bodyPr lIns="90000" rIns="90000" tIns="6084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PH" sz="28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Septic Sh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590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PH" sz="24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Massive decrease TP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5688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PH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Endotoxi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028520">
                <a:tc>
                  <a:txBody>
                    <a:bodyPr lIns="90000" rIns="90000" tIns="6084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PH" sz="28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Anaphylactic Sh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590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PH" sz="24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Massive decrease TP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5688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PH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Allergic reaction (histamine releas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Packed Red Blood Ce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533520" y="1752480"/>
            <a:ext cx="818352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1unit of whole blood have a hematocrit of 60 to 70 vol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 unit of packed red blood cells contains the same volume of erythrocytes as whole blood and also raises the hematocrit by 3 to 4 vol%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acked red blood cell and crystalloid infusion are the mainstays of transfusion therapy for most cases of obstetrical hemorrh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Platel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533520" y="1752480"/>
            <a:ext cx="818352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referable to give platelets obtained by apheresis from one don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generally cannot be stored more than 5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 bleeding woma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platelet count should be maintained above 50,000/L with the infusion of platelet concent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Fresh-Frozen Plas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612720" y="1600200"/>
            <a:ext cx="8153280" cy="55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mponent is prepared by separating plasma from whole blood and then freezing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ource of all stable and labile clotting factors, including fibrin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Choice if fibrinogen level of less than 100 mg/dL or sufficiently prolonged prothrombin or partial thromboplastin times in a woman with surgical bleeding (at 10 to 15 mL/k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often used in the acute treatment of women with consumptive or dilutional coagul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Cryoprecipit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612720" y="1600200"/>
            <a:ext cx="815328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s component is prepared from fresh-frozen plasm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ntains factor VIII: C, factor VIII: von Willebrand factor, fibrinogen factor XIII (about 200 mg), and fibronectin in less than 15 mL of the plasma from which it was deri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deal source of fibrinogen if levels are dangerously low and there is oozing from surgical in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Dilutional Coagulopath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2"/>
          <p:cNvSpPr/>
          <p:nvPr/>
        </p:nvSpPr>
        <p:spPr>
          <a:xfrm>
            <a:off x="1295280" y="1752480"/>
            <a:ext cx="6553440" cy="68580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2800" spc="-1" strike="noStrike">
                <a:solidFill>
                  <a:srgbClr val="ffffff"/>
                </a:solidFill>
                <a:latin typeface="Tw Cen MT"/>
              </a:rPr>
              <a:t>MASSIVE BLOOD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3"/>
          <p:cNvSpPr/>
          <p:nvPr/>
        </p:nvSpPr>
        <p:spPr>
          <a:xfrm>
            <a:off x="1371600" y="2895480"/>
            <a:ext cx="6553080" cy="685800"/>
          </a:xfrm>
          <a:prstGeom prst="roundRect">
            <a:avLst>
              <a:gd name="adj" fmla="val 16667"/>
            </a:avLst>
          </a:prstGeom>
          <a:solidFill>
            <a:srgbClr val="eac1bc"/>
          </a:solidFill>
          <a:ln w="10080">
            <a:solidFill>
              <a:srgbClr val="d3481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w Cen MT"/>
                <a:ea typeface="Arial"/>
              </a:rPr>
              <a:t>REPLACEMENT WITH CRYSTALLOID SOLUTIONS AND PACKED RED BLOOD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4"/>
          <p:cNvSpPr/>
          <p:nvPr/>
        </p:nvSpPr>
        <p:spPr>
          <a:xfrm>
            <a:off x="1295280" y="4114800"/>
            <a:ext cx="6553440" cy="68580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2400" spc="-1" strike="noStrike">
                <a:solidFill>
                  <a:srgbClr val="ffffff"/>
                </a:solidFill>
                <a:latin typeface="Tw Cen MT"/>
              </a:rPr>
              <a:t>DECREASE PLATELETS AND SOLUBLE CLOTTING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Oval 5"/>
          <p:cNvSpPr/>
          <p:nvPr/>
        </p:nvSpPr>
        <p:spPr>
          <a:xfrm>
            <a:off x="2743200" y="5334120"/>
            <a:ext cx="3733920" cy="1218960"/>
          </a:xfrm>
          <a:prstGeom prst="ellipse">
            <a:avLst/>
          </a:prstGeom>
          <a:solidFill>
            <a:srgbClr val="d7d1c7"/>
          </a:solidFill>
          <a:ln w="10080">
            <a:solidFill>
              <a:srgbClr val="a28e6a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  <a:ea typeface="Arial"/>
              </a:rPr>
              <a:t>Dilutional Coagul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6"/>
          <p:cNvSpPr/>
          <p:nvPr/>
        </p:nvSpPr>
        <p:spPr>
          <a:xfrm>
            <a:off x="4267080" y="251460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AutoShape 7"/>
          <p:cNvSpPr/>
          <p:nvPr/>
        </p:nvSpPr>
        <p:spPr>
          <a:xfrm>
            <a:off x="4267080" y="365760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AutoShape 8"/>
          <p:cNvSpPr/>
          <p:nvPr/>
        </p:nvSpPr>
        <p:spPr>
          <a:xfrm>
            <a:off x="42670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609480" y="1752480"/>
            <a:ext cx="818352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mpairs hemostasis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further contributes to blood los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Thrombocytopenia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most frequent coagulation defect found in women with blood loss and multiple transfu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mponent replacement is rarely necessary with acute replacement of 5 to 10 units of packed red blood cells or less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2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Dilutional Coagulopath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Type and Screen versus Crossm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612720" y="1600200"/>
            <a:ext cx="815328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gnificant risk for hemorrhage - typing and screening or crossmatching is essential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creening procedure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mixing the maternal serum with standard reagent red cells that contain the antigens with which most of the common clinically significant antibodies react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ossmatch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involves the use of actual donor erythrocytes rather than standard red cell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Autotransf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2"/>
          <p:cNvSpPr/>
          <p:nvPr/>
        </p:nvSpPr>
        <p:spPr>
          <a:xfrm>
            <a:off x="612720" y="182880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 data shows that intraoperative blood salvage and autotransfusion is safe in obstetrical patient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Tw Cen MT"/>
              </a:rPr>
              <a:t>Autologous Transf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Tw Cen MT"/>
              </a:rPr>
              <a:t>Advantag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w Cen MT"/>
                <a:ea typeface="SimSun"/>
              </a:rPr>
              <a:t>Only minimal requirements need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9b2d1f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w Cen MT"/>
                <a:ea typeface="SimSun"/>
              </a:rPr>
              <a:t>Hemoglobin concentration: 11g/dl;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9b2d1f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w Cen MT"/>
                <a:ea typeface="SimSun"/>
              </a:rPr>
              <a:t>Hematocrit of 34 volumes perc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66047"/>
                </a:solidFill>
                <a:latin typeface="Tw Cen MT"/>
              </a:rPr>
              <a:t>Hypovolemic Sho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503280" y="1828800"/>
            <a:ext cx="818352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hock from hemorrhage evolves through several stag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RLY in the course of massive bleed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1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mean arterial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1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stroke vol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1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cardiac out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1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central venous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1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pulmonary capillary wedg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3"/>
          <p:cNvSpPr/>
          <p:nvPr/>
        </p:nvSpPr>
        <p:spPr>
          <a:xfrm>
            <a:off x="762120" y="3505320"/>
            <a:ext cx="380880" cy="251460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Complications of Blood Transf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2"/>
          <p:cNvSpPr/>
          <p:nvPr/>
        </p:nvSpPr>
        <p:spPr>
          <a:xfrm>
            <a:off x="612720" y="1905120"/>
            <a:ext cx="8153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Each unit of blood or any component is associated with risk of exposure to blood-borne infe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Hemolytic Transfusion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Transfusion-Related Acute Lung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Bacterial Cont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Viral Trans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Red-Cell Substitu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3 varieties of these substitu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Perfluorochemi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Liposome-encapsulated hemoglob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Hemoglobin-based oxygen carr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2362320" y="604980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DEPARTMENT OF OBSTETRICS AND GYNEC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0" y="6095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FEU-NRM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1400" spc="-1" strike="noStrike">
                <a:solidFill>
                  <a:srgbClr val="000000"/>
                </a:solidFill>
                <a:latin typeface="Arial"/>
              </a:rPr>
              <a:t>INTITUTE OF MEDIC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79280" y="1492200"/>
            <a:ext cx="864072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5400" spc="-1" strike="noStrike">
                <a:solidFill>
                  <a:srgbClr val="ffff00"/>
                </a:solidFill>
                <a:latin typeface="Tw Cen MT"/>
              </a:rPr>
              <a:t>CONSUMPTIVE COAGULOPATHY</a:t>
            </a:r>
            <a:br>
              <a:rPr sz="5400"/>
            </a:br>
            <a:r>
              <a:rPr b="0" lang="en-PH" sz="4400" spc="-1" strike="noStrike">
                <a:solidFill>
                  <a:srgbClr val="e9e5dc"/>
                </a:solidFill>
                <a:latin typeface="Tw Cen MT"/>
              </a:rPr>
              <a:t>(Disseminated Intravascular Disease)</a:t>
            </a: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612720" y="68400"/>
            <a:ext cx="81532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w Cen MT"/>
              </a:rPr>
              <a:t>Consumptive Coagulopathy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w Cen MT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Tw Cen MT"/>
              </a:rPr>
              <a:t>Disseminated Intravascular Diseas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457200" y="1981080"/>
            <a:ext cx="818352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mplex disorder of the clotting mechanism, in which coagulation factors are consumed at an accelerated rate, with generalized fibrin deposition and thrombosis, hemorrhages and further depletion of the coagulation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612720" y="98280"/>
            <a:ext cx="815328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w Cen MT"/>
              </a:rPr>
              <a:t>Consumptive Coagulopathy</a:t>
            </a:r>
            <a:br>
              <a:rPr sz="4000"/>
            </a:br>
            <a:r>
              <a:rPr b="0" lang="en-US" sz="3600" spc="-1" strike="noStrike">
                <a:solidFill>
                  <a:srgbClr val="ff0000"/>
                </a:solidFill>
                <a:latin typeface="Tw Cen MT"/>
              </a:rPr>
              <a:t>(Disseminated Intravascular Diseas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612720" y="1905120"/>
            <a:ext cx="8153280" cy="42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 process may be acute or chr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usually triggered by the entry of large amounts of thromboplastic substances in to the circulation,  resulting from any of the wide variety or severe diseases and traumas.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Pregnancy Hypercoagul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regnancy normally induces appreciable increases in the concentrations of coagulation factors I (fibrinogen), VII, VIII, IX, and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agulation and plasmin activity is normally decreased antepar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ncreased activation of platelet, clotting, and fibrinolytic mechanisms : increases in fibrinopeptid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Tw Cen MT"/>
              </a:rPr>
              <a:t>Pathological Activation of Coag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Picture 3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1"/>
          <p:cNvSpPr/>
          <p:nvPr/>
        </p:nvSpPr>
        <p:spPr>
          <a:xfrm>
            <a:off x="612720" y="68400"/>
            <a:ext cx="81532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Tw Cen MT"/>
              </a:rPr>
              <a:t>Mechanism of Consumptive Coagulopat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CAUSES OF D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bruptio placent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UFD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mniotic Fluid embolism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ptic Abortion and obstetric sepsi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clampsi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DIA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612720" y="1905120"/>
            <a:ext cx="81532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t least 3 out of the following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Prothrombi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Platelet c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Fibrinogen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Fibrinogen/ fibrin degradation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533520" y="1521000"/>
            <a:ext cx="818352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↑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rteriovenous oxygen content difference reflects   ↑ tissue oxygen extrac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lood flow to capillary beds - controlled by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arteriol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(resistance vessels that in turn are partially controlled by the CN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70% total blood volume is contained in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venul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(passive resistance vessels controlled by humoral factors)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techolamine release during hemorrhage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causes an ↑ in venular tone -&gt; autotransfusion from this capacitance reservoi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66047"/>
                </a:solidFill>
                <a:latin typeface="Tw Cen MT"/>
              </a:rPr>
              <a:t>Hypovolemic Sho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Amnionic Fluid Embo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612720" y="175248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mplex disorder classically characterized by the abrupt onset of hypotension, hypoxia, and consumptive coagul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" descr=""/>
          <p:cNvPicPr/>
          <p:nvPr/>
        </p:nvPicPr>
        <p:blipFill>
          <a:blip r:embed="rId1"/>
          <a:stretch/>
        </p:blipFill>
        <p:spPr>
          <a:xfrm>
            <a:off x="1523880" y="0"/>
            <a:ext cx="6019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"/>
          <p:cNvSpPr/>
          <p:nvPr/>
        </p:nvSpPr>
        <p:spPr>
          <a:xfrm>
            <a:off x="533520" y="1523880"/>
            <a:ext cx="818352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fter a brief initial phase of pulmonary  and systematic hypertension, there is decreased systemic hypertension, there is decreased systemic vascular resistance and left ventricular stroke work index.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nsient but profound oxygen desaturation is often seen in the initial phase, resulting in neurological injury in most survivor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 women who lived by the initial cardiovascular collapse, a secondary phase of lung injury and coagulopathy often ensu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1"/>
          <p:cNvSpPr/>
          <p:nvPr/>
        </p:nvSpPr>
        <p:spPr>
          <a:xfrm>
            <a:off x="60948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Amnionic Fluid Embo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Picture 3" descr=""/>
          <p:cNvPicPr/>
          <p:nvPr/>
        </p:nvPicPr>
        <p:blipFill>
          <a:blip r:embed="rId1"/>
          <a:srcRect l="0" t="0" r="158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Amniotic Fluid Embolism: Dia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detection of squamous cells or other debris of fetal origin in the central pulmonary circulation was believed to be pathognomonic for amnionic fluid embo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is finding is neither sensitive nor specific, and the diagnosis is generally made by identifying clinically characteristic signs and sympt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 less typical cases, diagnosis is contingent on careful exclusion of other cau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Clinical Find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Hypoten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Fetal dist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Pulmonary edema or A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ardiopulmonary ar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yan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omen who survive long enough to receive any treatment other than cardiopulmonary resuscitation should receive therapy directed at oxygenation and support of the failing myocard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There are no data that any type of intervention improves maternal prognosis with amnionic fluid embo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Pro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2"/>
          <p:cNvSpPr/>
          <p:nvPr/>
        </p:nvSpPr>
        <p:spPr>
          <a:xfrm>
            <a:off x="612720" y="1600200"/>
            <a:ext cx="8153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the syndrome likely is underdiagnosed in all but the most severe cas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Profound neurological impairment is common in survivor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only 8 percent of women who had a cardiac arrest in conjunction with initial symptoms survived neurologically intact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Outcome is also poor for fetuses and is related to the cardiac arrest-to-delivery interval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Overall neonatal survival is 70 percent, but almost half suffer residual neurological impair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Septicem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fections that lead to bacteremia and septic shock in obstetrics are most commonly due to septic abortion, antepartum pyelonephritis, or puerperal sepsi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Coagulopath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thal properties of bacterial toxins, and especially endotoxins, are undoubtedly mediated largely by disruption of vascular endothelium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dotoxin activates the extrinsic clotting mechanism through cytokine-induced tissue factor expression on the surface of activated monocyt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765000" y="380880"/>
            <a:ext cx="8153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66047"/>
                </a:solidFill>
                <a:latin typeface="Tw Cen MT"/>
              </a:rPr>
              <a:t>     </a:t>
            </a: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Compensatory Mecha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2"/>
          <p:cNvSpPr/>
          <p:nvPr/>
        </p:nvSpPr>
        <p:spPr>
          <a:xfrm>
            <a:off x="533520" y="1905120"/>
            <a:ext cx="1981080" cy="761760"/>
          </a:xfrm>
          <a:prstGeom prst="roundRect">
            <a:avLst>
              <a:gd name="adj" fmla="val 16667"/>
            </a:avLst>
          </a:prstGeom>
          <a:solidFill>
            <a:srgbClr val="eac1bc"/>
          </a:solidFill>
          <a:ln w="10080">
            <a:solidFill>
              <a:srgbClr val="d3481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PH" sz="2000" spc="-1" strike="noStrike">
                <a:solidFill>
                  <a:srgbClr val="000000"/>
                </a:solidFill>
                <a:latin typeface="Tw Cen MT"/>
                <a:ea typeface="Arial"/>
              </a:rPr>
              <a:t>HYPOVOL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3"/>
          <p:cNvSpPr/>
          <p:nvPr/>
        </p:nvSpPr>
        <p:spPr>
          <a:xfrm>
            <a:off x="3505320" y="1905120"/>
            <a:ext cx="4647960" cy="137160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SimSun"/>
              </a:rPr>
              <a:t>mean arterial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SimSun"/>
              </a:rPr>
              <a:t>stroke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SimSun"/>
              </a:rPr>
              <a:t>cardiac output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SimSu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4"/>
          <p:cNvSpPr/>
          <p:nvPr/>
        </p:nvSpPr>
        <p:spPr>
          <a:xfrm>
            <a:off x="3809880" y="2133720"/>
            <a:ext cx="457200" cy="99036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2666880" y="2133720"/>
            <a:ext cx="6858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6"/>
          <p:cNvSpPr/>
          <p:nvPr/>
        </p:nvSpPr>
        <p:spPr>
          <a:xfrm>
            <a:off x="3962520" y="4038480"/>
            <a:ext cx="3276360" cy="2057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3520" indent="-26352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heart r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ystemic and pulmonary vascular resist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yocardial contract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7238880" y="4038480"/>
            <a:ext cx="457200" cy="19814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5562720" y="3352680"/>
            <a:ext cx="380880" cy="60984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Abor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612720" y="1600200"/>
            <a:ext cx="8153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9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arkable blood loss may occur as the consequence of abor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9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emorrhage during early pregnancy is less likely to be severe unless abortion was induced and the procedure was traumatic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9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regnancy is more advanced, the mechanisms responsible for hemorrhage are most often the same as those described for placental abruption and placenta previa—that is, the disruption of a large number of maternal blood vessels at the site of placental implant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Coagulation Def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612720" y="1600200"/>
            <a:ext cx="815328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9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arious disruption of the coagulation mechanism as the consequence of abortion may develop in the following circumstances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9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Prolonged retention of a dead fetus, as already describ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9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The sepsis syndrome, a notorious caus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9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Medical induction with a prostaglandi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9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During instrumental termination of the pregnanc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9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Intrauterine instillation of hypertonic saline or urea solu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6035760" cy="603576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2"/>
          <p:cNvSpPr/>
          <p:nvPr/>
        </p:nvSpPr>
        <p:spPr>
          <a:xfrm>
            <a:off x="2666880" y="2209680"/>
            <a:ext cx="6477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e9e5dc"/>
                </a:solidFill>
                <a:latin typeface="Tw Cen MT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2362320" y="604980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Oval 1"/>
          <p:cNvSpPr/>
          <p:nvPr/>
        </p:nvSpPr>
        <p:spPr>
          <a:xfrm>
            <a:off x="5562720" y="4343400"/>
            <a:ext cx="3504960" cy="1828800"/>
          </a:xfrm>
          <a:prstGeom prst="ellipse">
            <a:avLst/>
          </a:prstGeom>
          <a:solidFill>
            <a:srgbClr val="eac1bc"/>
          </a:solidFill>
          <a:ln w="10080">
            <a:solidFill>
              <a:srgbClr val="d3481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selective, centrally-mediated arteriolar constri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765000" y="380880"/>
            <a:ext cx="8153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66047"/>
                </a:solidFill>
                <a:latin typeface="Tw Cen MT"/>
              </a:rPr>
              <a:t>     </a:t>
            </a: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Compensatory Mecha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3"/>
          <p:cNvSpPr/>
          <p:nvPr/>
        </p:nvSpPr>
        <p:spPr>
          <a:xfrm>
            <a:off x="1752480" y="4572000"/>
            <a:ext cx="4648320" cy="137160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3520" algn="ctr">
              <a:lnSpc>
                <a:spcPct val="100000"/>
              </a:lnSpc>
              <a:tabLst>
                <a:tab algn="l" pos="0"/>
                <a:tab algn="l" pos="26496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redistribution of cardiac output and blood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2743200" y="1600200"/>
            <a:ext cx="3276720" cy="2057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3520" indent="-26352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heart r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ystemic and pulmonary vascular resist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yocardial contract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2514600" y="1600200"/>
            <a:ext cx="457200" cy="198108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6"/>
          <p:cNvSpPr/>
          <p:nvPr/>
        </p:nvSpPr>
        <p:spPr>
          <a:xfrm>
            <a:off x="4191120" y="3886200"/>
            <a:ext cx="60948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"/>
          <p:cNvSpPr/>
          <p:nvPr/>
        </p:nvSpPr>
        <p:spPr>
          <a:xfrm>
            <a:off x="5105520" y="1828800"/>
            <a:ext cx="3504960" cy="1828800"/>
          </a:xfrm>
          <a:prstGeom prst="ellipse">
            <a:avLst/>
          </a:prstGeom>
          <a:solidFill>
            <a:srgbClr val="eac1bc"/>
          </a:solidFill>
          <a:ln w="10080">
            <a:solidFill>
              <a:srgbClr val="d3481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selective, centrally-mediated arteriolar constri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765000" y="380880"/>
            <a:ext cx="8153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66047"/>
                </a:solidFill>
                <a:latin typeface="Tw Cen MT"/>
              </a:rPr>
              <a:t>     </a:t>
            </a: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Compensatory Mecha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1371600" y="2057400"/>
            <a:ext cx="4648320" cy="137160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3520" algn="ctr">
              <a:lnSpc>
                <a:spcPct val="100000"/>
              </a:lnSpc>
              <a:tabLst>
                <a:tab algn="l" pos="0"/>
                <a:tab algn="l" pos="26496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redistribution of cardiac output and blood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4114800"/>
            <a:ext cx="221004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PH" sz="2400" spc="-1" strike="noStrike">
                <a:solidFill>
                  <a:srgbClr val="000000"/>
                </a:solidFill>
                <a:latin typeface="Tw Cen MT"/>
              </a:rPr>
              <a:t>B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PH" sz="2400" spc="-1" strike="noStrike">
                <a:solidFill>
                  <a:srgbClr val="000000"/>
                </a:solidFill>
                <a:latin typeface="Tw Cen MT"/>
              </a:rPr>
              <a:t>HE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PH" sz="2400" spc="-1" strike="noStrike">
                <a:solidFill>
                  <a:srgbClr val="000000"/>
                </a:solidFill>
                <a:latin typeface="Tw Cen MT"/>
              </a:rPr>
              <a:t>ADRENAL G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2819520" y="3505320"/>
            <a:ext cx="457200" cy="53316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286000" y="3505320"/>
            <a:ext cx="457200" cy="53316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7"/>
          <p:cNvSpPr/>
          <p:nvPr/>
        </p:nvSpPr>
        <p:spPr>
          <a:xfrm>
            <a:off x="1828800" y="3505320"/>
            <a:ext cx="457200" cy="53316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8"/>
          <p:cNvSpPr/>
          <p:nvPr/>
        </p:nvSpPr>
        <p:spPr>
          <a:xfrm>
            <a:off x="4267080" y="4114800"/>
            <a:ext cx="243864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w Cen MT"/>
              </a:rPr>
              <a:t>Kidn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w Cen MT"/>
              </a:rPr>
              <a:t>Splanchnic b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w Cen MT"/>
              </a:rPr>
              <a:t>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w Cen MT"/>
              </a:rPr>
              <a:t>Ute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>
            <a:off x="5105520" y="35812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612720" y="22860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Blood volume deficit &gt; 25 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1"/>
          <a:srcRect l="4626" t="0" r="3318" b="5335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cxnSp>
        <p:nvCxnSpPr>
          <p:cNvPr id="394" name="AutoShape 4"/>
          <p:cNvCxnSpPr/>
          <p:nvPr/>
        </p:nvCxnSpPr>
        <p:spPr>
          <a:xfrm flipV="1" rot="10800000">
            <a:off x="3961800" y="764640"/>
            <a:ext cx="381600" cy="39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round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Blood volume deficit &gt; 25 perc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rcRect l="0" t="40149" r="0" b="0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5:04:48Z</dcterms:created>
  <dc:creator>Carla L. dela Cruz, MD.</dc:creator>
  <dc:description/>
  <dc:language>en-US</dc:language>
  <cp:lastModifiedBy>joseph c. nash</cp:lastModifiedBy>
  <dcterms:modified xsi:type="dcterms:W3CDTF">2012-05-10T00:27:03Z</dcterms:modified>
  <cp:revision>29</cp:revision>
  <dc:subject/>
  <dc:title>Hypovolemic Shock and Disseminated Intravascular Disease</dc:title>
</cp:coreProperties>
</file>