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</p:sldIdLst>
  <p:sldSz cx="9144000" cy="6858000"/>
  <p:notesSz cx="7088188" cy="9024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7088400" cy="90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"/>
          <p:cNvSpPr/>
          <p:nvPr/>
        </p:nvSpPr>
        <p:spPr>
          <a:xfrm>
            <a:off x="0" y="0"/>
            <a:ext cx="7086600" cy="9024840"/>
          </a:xfrm>
          <a:custGeom>
            <a:avLst/>
            <a:gdLst>
              <a:gd name="textAreaLeft" fmla="*/ 360 w 7086600"/>
              <a:gd name="textAreaRight" fmla="*/ 7086240 w 7086600"/>
              <a:gd name="textAreaTop" fmla="*/ 360 h 9024840"/>
              <a:gd name="textAreaBottom" fmla="*/ 9024480 h 9024840"/>
            </a:gdLst>
            <a:ahLst/>
            <a:rect l="textAreaLeft" t="textAreaTop" r="textAreaRight" b="textAreaBottom"/>
            <a:pathLst>
              <a:path w="21600" h="27507">
                <a:moveTo>
                  <a:pt x="4" y="0"/>
                </a:moveTo>
                <a:arcTo wR="4" hR="4" stAng="16200000" swAng="-5400000"/>
                <a:lnTo>
                  <a:pt x="0" y="27503"/>
                </a:lnTo>
                <a:arcTo wR="4" hR="4" stAng="10800000" swAng="-5400000"/>
                <a:lnTo>
                  <a:pt x="21596" y="2750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2"/>
          <p:cNvSpPr/>
          <p:nvPr/>
        </p:nvSpPr>
        <p:spPr>
          <a:xfrm>
            <a:off x="0" y="0"/>
            <a:ext cx="307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dt" idx="17"/>
          </p:nvPr>
        </p:nvSpPr>
        <p:spPr>
          <a:xfrm>
            <a:off x="4013280" y="0"/>
            <a:ext cx="306864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8640" cy="338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body"/>
          </p:nvPr>
        </p:nvSpPr>
        <p:spPr>
          <a:xfrm>
            <a:off x="708120" y="4286160"/>
            <a:ext cx="566712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0" y="8572680"/>
            <a:ext cx="307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sldNum" idx="18"/>
          </p:nvPr>
        </p:nvSpPr>
        <p:spPr>
          <a:xfrm>
            <a:off x="4013280" y="8572320"/>
            <a:ext cx="3068640" cy="4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16A79-BF30-47BF-B568-C0AEFC925F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CBB4A-B4EE-4D42-9256-3178D0B7A6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06C78-6364-4A62-9F80-E0266C67DC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ACBE0-761B-4DF4-AA51-6C0582207A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461C3-CF7A-4A2B-9AC7-A2DF8A4DB5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1BEE4-CDAC-4CC8-AF10-6C2E788919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AB4E0-75C5-4654-B9D9-D3CCFD135AD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80FA3-CEF7-43DD-B95D-8B7C9EEF5B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73AF3-9CA5-41E6-B83C-17B1C38D9D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65FD8-6089-4D86-8863-560EFA887A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A55B0-3741-447A-91BC-8D762AE91A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02043B-21AB-406D-8DFC-BA851D5C0A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26F17-AD2C-4C2B-A9BD-956DBF8B16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03B0E-F0BC-4E6A-B97F-9E38690DE5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6BE11-8B3B-4980-BBB7-8C76D65269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468F2-836A-44E0-9151-5D1998D5463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97FE8-3010-4AE5-8329-ED6A3530A3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60971A-C4E2-4ADD-96FE-EF7275C0141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0E2BF-6E4E-4114-88D2-FD1646C9101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847F0-7C22-47D5-A0DE-8AEFE12423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21EB2-B2CC-4E5D-84FC-78CD91C670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E02D3-7081-44FB-BAB8-8C9ADF10F6A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A61AA-35F2-4F01-BEBC-39CFA93FFD9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AF066-2DE3-4807-BBFF-1FB5A72BD37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32649-95CB-47E5-ABE3-BDD82BB412B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4ED9C-8FA3-4F1A-89FC-855166A554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BA01B-6394-4D20-B1EE-D2178FA3E15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EDF59F-42A8-416E-834F-083D0E0B6E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A0A90-7057-4C2F-9FDA-D85712B6D0D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8F2694-7271-4625-BAE1-CDAFD4AAA28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748FE-9273-4B74-B4ED-8490BAC470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16F93-BF56-4682-AC9A-E46AB9AB436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8E922-7B79-4020-AEA4-5E7DD03C51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B77CE-3F16-4973-AE18-566D4FD3670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41B70-5F6B-48E2-9EA5-E53B0F943DF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7CB02-0372-464B-8D7B-07474263060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4D594-9065-4994-A0BB-A7703CC752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BAA28-F438-47E3-9A96-D9CE72A460D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D843A-5F7C-40A7-941C-575A284E64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9C5EF-063E-4F9A-BCF8-9DFF2664AF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4298B-F129-49E1-B376-F146357975C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A1F45-DD6E-46EA-9A99-9BA8F29D2A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62828-4ABF-4D64-A17C-FA825EB0AE7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4F1CC-0427-401C-A0B0-252036BDFA2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B2F05-28BF-4187-A56C-EAEB138947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72FCD-424E-47A7-B6F8-5D77C122B1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06D0D-0401-4787-AEE6-CA25FFA3D2F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3ABAF-1DDE-4245-A276-973C260DC0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16FCE-368A-4473-B4A2-85DA324E45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09468-C760-462B-A287-777A65B5771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1EBB5-5B12-4A3F-8277-6CEC8FA392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EBFF9-5439-4FB6-82C9-28FD85F42A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4013280" y="8572680"/>
            <a:ext cx="306864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2B8C6-1D19-4C90-B77E-8AE308693B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10080" cy="33843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707760" y="4285800"/>
            <a:ext cx="566892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4013280" y="8572680"/>
            <a:ext cx="307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96C213-46C5-4941-BB9F-493119BF0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0C0B5-CCD0-470A-9704-1FE98C2363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AC679-09EE-445E-BF0F-24C4CB7B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DB25E-E79A-45E4-95B2-10742211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48AD-AF35-40D4-8935-85052BA097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FD4EA-404B-4927-B8E7-F84C8FD436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7A6D0E-3262-4518-A9FF-C5A13156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E02F4-5EC0-4318-AB7C-45EA65FF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7B243-37B2-48F9-A80B-03CF9B2B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8F1AF-D890-4EC2-A1F9-4214E8104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C2A46-3CA1-4C82-B541-378CBA239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8015E-B03C-401D-949A-E3BDEC75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1E81D-AE51-49A6-B829-25F52677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ED5D7-63EF-44EA-B767-0B3C739F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3BEB8-F2BB-4DC0-BB7C-6D377872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AEF78-6975-4F32-9233-621FB715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00F06-7364-4CDF-BEF4-C4810FB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362BE-DF4D-4BF7-8862-D4B5D40C8A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8A68-0D45-4675-9213-57C8C7DFAF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2D04-8780-4593-ACE0-30879E2D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AB35-0DE4-43A6-AA09-D8A001E3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0C42-CC94-4A92-BB7E-5FE6D083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C2FB-6942-4A8F-9130-A8814259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36B7-2D67-4F0A-AB2B-36DA3B16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D170-6460-4741-9B6E-7B742004E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5208-17DE-4529-87FE-FFC83521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A6C9-3456-45B7-A0BB-EAF601FF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0115-EEF2-467F-93F1-6E6E2BAC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FCB1-A7DB-4E60-954F-058051AC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2F98-F780-4B0E-8909-0CD69D5D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3EBE-F8A3-4ABF-AFF5-C91681D34D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4FABC-1A03-489E-83B2-A78338347C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D8B20-45AA-442B-A6B9-DE00AEF4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04176-D458-46EE-8D8F-04E1CD5E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8E35-186D-456D-B467-CF1AB060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40638-7FA2-42E9-AB03-1D5F6617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BF17D3-3C3F-4852-A833-14EBD181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DD16A6-8549-4584-B573-EDB9FA75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971E08-0713-417D-8859-2E4B4B62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61B96-D74A-441F-8055-9BB9931B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F0CFF-A865-482D-9061-099ECC60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E45B99-1B2E-439B-8950-73ACAA99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C801D-99BD-4838-87DC-CA965E53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10281-532F-4F3C-93E5-1CE7338BD2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5A245-87BC-4B1B-AC91-536281D7E1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6C8AC-B77B-47B0-B193-C37DCCA6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6ED25-39D6-4F28-B474-3C881BFD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02E791-D050-4C1D-B890-CEB98B57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786EA9-2488-4C95-9EC7-E338E61D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ADC785-8087-4ABA-BA4E-8C8F1D6A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CA16E8-A86E-45C2-B2D4-EE5B4063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E275EB-C1FC-42C2-94A8-01515677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569AC1-FF32-445B-B26C-FC0DB4CE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1C8243-EB63-4EB9-AC52-34ADDDB3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C89FEF-F3F5-4FF2-9226-1445D8CF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4B2F4A-5278-4187-90F1-AF8B8FA8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F41C-2058-4196-9216-FEE2B7AB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E1EE1-9DED-4115-B902-D8F0CAD240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4AB9-DEEC-436D-9432-BA45D91948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8C8ED-DF74-478D-9E4E-1FA28EC8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08748-07DF-4E5F-9E0D-E1CFD1A2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CB5E1-5825-44F3-BD99-199566A7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CB32B-B1AE-4727-92D3-1D490A68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963E-1C77-4057-81C6-129F4EE9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6FB43-1E2B-4C9A-ADFC-BE8EE9F6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84A7-112C-4815-B110-303E01F4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A597B-AEE1-4B49-B593-014A393D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C545-D1C5-498C-BFAF-2F3C4784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5E4C-178B-480F-A0FF-0C998AE6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CAB43-2BF1-496F-A13C-A07775E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F8614-4A8A-4899-BF8B-E1476100ED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EB29A-3EEB-4BBA-8DB7-DC39C23236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D66C4-F33B-4C2D-ADDE-884DEC21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4D8AE-3725-4D1F-9C5F-82D5C063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11014A-8956-4875-AD71-AC378A84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20473-6254-47A8-9FBE-2850893A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A312AA-A951-4C7E-B6EF-EBC6E934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60F0F-78F6-4AB5-9AA6-29850B40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0752A-717D-461F-B3EA-163BF12A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88A103-7E1F-4DF3-8F73-BBF2736C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65147A-BD11-4380-8117-02BE5416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9F1543-31C7-4BEC-9C01-3683AF54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AF382-C3DE-421C-9942-AE4C96AC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448798-15C6-459E-8052-82E0DFDC01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F025CD-8A21-4155-8C78-E1630615CB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D0C434-4D2E-4A10-B815-CACCF450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7A85A1-07C9-4277-A5FE-2DFF274C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5161ED-C460-47A6-8093-C365AEB3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EA0C11-3081-41E8-8B0A-551C364E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C5AB-B214-4E31-8E13-16C147F7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8151840" cy="45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F2260D-5B0A-4CDC-9E51-74CEBA7F9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340258-370D-43DF-813F-B5C6EF2E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4F6580-BF08-4885-9F1E-AE81C1D6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5684AE-3218-4968-87FE-83DFC6E2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3600"/>
            <a:ext cx="81518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7DE0D4-DA1E-4C01-A88B-52A38D51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160" y="16002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160" y="3963600"/>
            <a:ext cx="3978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A103A9-48D0-4439-B0CE-B7C4C902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24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5400" y="16002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24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5400" y="3963600"/>
            <a:ext cx="26247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909B9F-D4EA-4C48-BF49-E3502ADD10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880" y="6246360"/>
            <a:ext cx="266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609480" y="6246720"/>
            <a:ext cx="54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-360" y="1209240"/>
            <a:ext cx="531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EC43F4-AAA5-48DB-AA7E-2C7BBEDE747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9e5dc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76320" y="6068520"/>
            <a:ext cx="2055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8001000" y="228600"/>
            <a:ext cx="8366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e9e5dc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BD8435-A513-408D-A95D-6F37FC7DE4FA}" type="slidenum">
              <a:rPr b="1" lang="en-US" sz="1400" spc="-1" strike="noStrike">
                <a:solidFill>
                  <a:srgbClr val="e9e5dc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0" y="1752120"/>
            <a:ext cx="12938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505B0D-F501-4D08-B15A-DC27F781A30E}" type="slidenum"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247919-E61E-4340-B1F6-7573E591407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9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-360" y="1239480"/>
            <a:ext cx="531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1A601A-67D6-4096-9791-C00F66402F67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1"/>
          </p:nvPr>
        </p:nvSpPr>
        <p:spPr>
          <a:xfrm>
            <a:off x="609588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2"/>
          </p:nvPr>
        </p:nvSpPr>
        <p:spPr>
          <a:xfrm>
            <a:off x="-360" y="6248520"/>
            <a:ext cx="53172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696464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7DFC9B-4295-4CDD-9963-07D69F367DC4}" type="slidenum">
              <a:rPr b="1" lang="en-US" sz="1400" spc="-1" strike="noStrike">
                <a:solidFill>
                  <a:srgbClr val="696464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6248520" y="6248160"/>
            <a:ext cx="2665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14"/>
          </p:nvPr>
        </p:nvSpPr>
        <p:spPr>
          <a:xfrm>
            <a:off x="-360" y="4667400"/>
            <a:ext cx="14461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78175B-1688-405E-835C-01AA5DED9338}" type="slidenum">
              <a:rPr b="1" lang="en-US" sz="28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15184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96464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18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5"/>
          </p:nvPr>
        </p:nvSpPr>
        <p:spPr>
          <a:xfrm>
            <a:off x="6553080" y="6248160"/>
            <a:ext cx="22082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45720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6"/>
          </p:nvPr>
        </p:nvSpPr>
        <p:spPr>
          <a:xfrm>
            <a:off x="6410160" y="-360"/>
            <a:ext cx="532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D68AE2-9E42-4F58-8B58-3E09E5C604FD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DEPARTMENT OF OBSTETRICS AND GYNEC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1494000" y="1773360"/>
            <a:ext cx="6619680" cy="19699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3"/>
          <p:cNvSpPr/>
          <p:nvPr/>
        </p:nvSpPr>
        <p:spPr>
          <a:xfrm>
            <a:off x="0" y="6095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FEU-NR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Arial"/>
              </a:rPr>
              <a:t>INTITUTE OF MEDIC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612720" y="1600200"/>
            <a:ext cx="815328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uses electrolyte shift and changes in cellular transport of various ions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Na &amp; water enter skeletal musc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K+ Loss to extracellular flu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 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urvival is reduced in acute hemorrhagic shock when blood alone, compared with blood and lactated Ringer solution, is administere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Hypovolemic Sh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Estimation of Blood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533520" y="1676520"/>
            <a:ext cx="8183520" cy="46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isual inspec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inaccur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half the measured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obstetrics - part or all of the hemorrhage may be conceale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3733920" y="3813120"/>
            <a:ext cx="4724280" cy="3044880"/>
          </a:xfrm>
          <a:prstGeom prst="rect">
            <a:avLst/>
          </a:prstGeom>
          <a:ln w="0">
            <a:noFill/>
          </a:ln>
        </p:spPr>
      </p:pic>
      <p:sp>
        <p:nvSpPr>
          <p:cNvPr id="403" name="Oval 4"/>
          <p:cNvSpPr/>
          <p:nvPr/>
        </p:nvSpPr>
        <p:spPr>
          <a:xfrm>
            <a:off x="3352680" y="3581280"/>
            <a:ext cx="2210040" cy="2895840"/>
          </a:xfrm>
          <a:prstGeom prst="ellipse">
            <a:avLst/>
          </a:prstGeom>
          <a:noFill/>
          <a:ln w="38160">
            <a:solidFill>
              <a:srgbClr val="9b2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Estimation of Blood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533520" y="1676520"/>
            <a:ext cx="818352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cute hemorrhage - the immediate hematocrit may not reflect actual blood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the loss of 1000 mL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 hematocrit  ↓ 3 vol% in the first h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rapid infusion of intravenous crystalloids causes rapid equilib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During an episode of acute significant hemorrhage, the initial hematocrit is always the high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Estimation of Blood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533520" y="1523880"/>
            <a:ext cx="8183520" cy="61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Urine output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One of the most important "vital signs“ in woman with obstetrical hemorrh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Rate of urine formation reflects the adequacy of renal perfusion, and in turn the perfusion to other vital org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Urine flow of at least 30-60 mL per hour should be maintaine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In potentially serious hemorrhage, an indwelling catheter should be inserted promptly to measure urine flow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Estimation of Blood Lo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533520" y="1752480"/>
            <a:ext cx="81835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otent diuretics (Furosemide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invalidate the relationship between urine flow and renal perfu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it is contraindicated in hypovolemic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Causes venodil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 ↓ ↓ ↓ cardiac venous return, ↓ ↓ ↓ cardiac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Resuscitation and Acute Man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04920" y="1752480"/>
            <a:ext cx="848808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dentify presence of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SimSun"/>
              </a:rPr>
              <a:t>uterine atony, retained placental fra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SimSun"/>
              </a:rPr>
              <a:t>genital tract lac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t least one or two intravenous infusion systems of large calibermust be established promptly to allow rapid administration of crystalloid solutions and blo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 operating room, surgical team, and anesthesiologist should always be immediately availab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management of specific causes of postpartum hemorrhage were discussed earlier in this chap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696464"/>
                </a:solidFill>
                <a:latin typeface="Tw Cen MT"/>
              </a:rPr>
              <a:t>Fluid Replac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612720" y="1600200"/>
            <a:ext cx="8153280" cy="53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w Cen MT"/>
              </a:rPr>
              <a:t>Crystalloid sol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used for initial volume resusc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rapidly equilibrate into the extravascular space and only 20 % of crystalloid remains in the circulation of critically ill patients after 1 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Initial fluid infusion would involve about three times as much crystalloid as the estimated blood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Blood Replac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1600200"/>
            <a:ext cx="838512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rdiac output does not substantively decrease until the hemoglobin concentration falls to about 7 g/d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dministered in cases of acute bleeding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rapid blood infusion if the hematocrit is less than 25 volume 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transfusion if the hematocrit is less than 24 volume 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if hemoglobin is less than 8 g/d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if there is imminent surgery, acute operative blood loss, acute hypoxia, vascular collap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1" descr=""/>
          <p:cNvPicPr/>
          <p:nvPr/>
        </p:nvPicPr>
        <p:blipFill>
          <a:blip r:embed="rId1"/>
          <a:stretch/>
        </p:blipFill>
        <p:spPr>
          <a:xfrm>
            <a:off x="2206800" y="3273480"/>
            <a:ext cx="6029280" cy="341928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Whole Blood and Blood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3"/>
          <p:cNvSpPr/>
          <p:nvPr/>
        </p:nvSpPr>
        <p:spPr>
          <a:xfrm>
            <a:off x="609480" y="1905120"/>
            <a:ext cx="8153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7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Compatible whole blood is ideal for treatment of hypovolemia from catastrophic acute hemorrha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Whole Bloo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57200" y="1676520"/>
            <a:ext cx="818352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40 days shelf lif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70% of the transfused red cells function for at least 24 hours following transfus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 unit raises the hematocrit by 3 to 4 vol%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laces many coagulation factors, especially fibrinoge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s plasma expands hypovolemia from hemorrhag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696464"/>
                </a:solidFill>
                <a:latin typeface="Tw Cen MT"/>
              </a:rPr>
              <a:t>SH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12720" y="1219320"/>
          <a:ext cx="8155080" cy="4740120"/>
        </p:xfrm>
        <a:graphic>
          <a:graphicData uri="http://schemas.openxmlformats.org/drawingml/2006/table">
            <a:tbl>
              <a:tblPr/>
              <a:tblGrid>
                <a:gridCol w="3197160"/>
                <a:gridCol w="2516400"/>
                <a:gridCol w="2441520"/>
              </a:tblGrid>
              <a:tr h="496800"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400" spc="-1" strike="noStrike">
                          <a:solidFill>
                            <a:srgbClr val="ffffff"/>
                          </a:solidFill>
                          <a:latin typeface="Tw Cen MT"/>
                          <a:ea typeface="Arial"/>
                        </a:rPr>
                        <a:t>CAUS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59040" bIns="46800" anchor="t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400" spc="-1" strike="noStrike">
                          <a:solidFill>
                            <a:srgbClr val="ffffff"/>
                          </a:solidFill>
                          <a:latin typeface="Tw Cen MT"/>
                          <a:ea typeface="Arial"/>
                        </a:rPr>
                        <a:t>DUE T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093680">
                <a:tc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8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Hypovolemic Sh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4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Decrease blood 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Hemorrh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Vomit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Diarrhe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94040">
                <a:tc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Cardiogenic Sh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Pump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M.I/heart faill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Arrythmi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(AV) bloc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027080">
                <a:tc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Septic Sh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Massive decrease TP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Endotoxi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28520">
                <a:tc>
                  <a:txBody>
                    <a:bodyPr lIns="90000" rIns="90000" tIns="6084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8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Anaphylactic Sh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59040" bIns="46800" anchor="ctr">
                      <a:noAutofit/>
                    </a:bodyPr>
                    <a:p>
                      <a:pPr algn="ctr"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Massive decrease TP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56880" bIns="46800" anchor="ctr">
                      <a:noAutofit/>
                    </a:bodyPr>
                    <a:p>
                      <a:pPr>
                        <a:lnSpc>
                          <a:spcPct val="9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PH" sz="2000" spc="-1" strike="noStrike">
                          <a:solidFill>
                            <a:srgbClr val="000000"/>
                          </a:solidFill>
                          <a:latin typeface="Tw Cen MT"/>
                          <a:ea typeface="Arial"/>
                        </a:rPr>
                        <a:t>Allergic reaction (histamine releas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Packed Red Blood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533520" y="1752480"/>
            <a:ext cx="818352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1unit of whole blood have a hematocrit of 60 to 70 vol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A unit of packed red blood cells contains the same volume of erythrocytes as whole blood and also raises the hematocrit by 3 to 4 vol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acked red blood cell and crystalloid infusion are the mainstays of transfusion therapy for most cases of obstetrical hemorrha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Platel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533520" y="1752480"/>
            <a:ext cx="8183520" cy="41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eferable to give platelets obtained by apheresis from one don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generally cannot be stored more than 5 d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bleeding woma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platelet count should be maintained above 50,000/L with the infusion of platelet concent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Fresh-Frozen Plas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"/>
          <p:cNvSpPr/>
          <p:nvPr/>
        </p:nvSpPr>
        <p:spPr>
          <a:xfrm>
            <a:off x="612720" y="1600200"/>
            <a:ext cx="815328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onent is prepared by separating plasma from whole blood and then freezing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ource of all stable and labile clotting factors, including fibrinog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SimSun"/>
              </a:rPr>
              <a:t>Choice if fibrinogen level of less than 100 mg/dL or sufficiently prolonged prothrombin or partial thromboplastin times in a woman with surgical bleeding (at 10 to 15 mL/k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often used in the acute treatment of women with consumptive or dilutional 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ryoprecipit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612720" y="1600200"/>
            <a:ext cx="8153280" cy="52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s component is prepared from fresh-frozen plasm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ntains factor VIII: C, factor VIII: von Willebrand factor, fibrinogen factor XIII (about 200 mg), and fibronectin in less than 15 mL of the plasma from which it was der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deal source of fibrinogen if levels are dangerously low and there is oozing from surgical incis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Picture 3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Dilutional Coagulopat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2"/>
          <p:cNvSpPr/>
          <p:nvPr/>
        </p:nvSpPr>
        <p:spPr>
          <a:xfrm>
            <a:off x="1295280" y="1752480"/>
            <a:ext cx="6553440" cy="6858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800" spc="-1" strike="noStrike">
                <a:solidFill>
                  <a:srgbClr val="ffffff"/>
                </a:solidFill>
                <a:latin typeface="Tw Cen MT"/>
              </a:rPr>
              <a:t>MASSIVE BLOOD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AutoShape 3"/>
          <p:cNvSpPr/>
          <p:nvPr/>
        </p:nvSpPr>
        <p:spPr>
          <a:xfrm>
            <a:off x="1371600" y="2895480"/>
            <a:ext cx="6553080" cy="685800"/>
          </a:xfrm>
          <a:prstGeom prst="roundRect">
            <a:avLst>
              <a:gd name="adj" fmla="val 16667"/>
            </a:avLst>
          </a:prstGeom>
          <a:solidFill>
            <a:srgbClr val="eac1bc"/>
          </a:solidFill>
          <a:ln w="10080">
            <a:solidFill>
              <a:srgbClr val="d3481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w Cen MT"/>
                <a:ea typeface="Arial"/>
              </a:rPr>
              <a:t>REPLACEMENT WITH CRYSTALLOID SOLUTIONS AND PACKED RED BLOOD C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4"/>
          <p:cNvSpPr/>
          <p:nvPr/>
        </p:nvSpPr>
        <p:spPr>
          <a:xfrm>
            <a:off x="1295280" y="4114800"/>
            <a:ext cx="6553440" cy="6858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ffffff"/>
                </a:solidFill>
                <a:latin typeface="Tw Cen MT"/>
              </a:rPr>
              <a:t>DECREASE PLATELETS AND SOLUBLE CLOTTING FAC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Oval 5"/>
          <p:cNvSpPr/>
          <p:nvPr/>
        </p:nvSpPr>
        <p:spPr>
          <a:xfrm>
            <a:off x="2743200" y="5334120"/>
            <a:ext cx="3733920" cy="1218960"/>
          </a:xfrm>
          <a:prstGeom prst="ellipse">
            <a:avLst/>
          </a:prstGeom>
          <a:solidFill>
            <a:srgbClr val="d7d1c7"/>
          </a:solidFill>
          <a:ln w="10080">
            <a:solidFill>
              <a:srgbClr val="a28e6a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w Cen MT"/>
                <a:ea typeface="Arial"/>
              </a:rPr>
              <a:t>Dilutional 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4267080" y="2514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4267080" y="365760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4267080" y="4876920"/>
            <a:ext cx="3812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609480" y="1752480"/>
            <a:ext cx="81835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mpairs hemostasis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further contributes to blood los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Thrombocytopenia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most frequent coagulation defect found in women with blood loss and multiple transfu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ponent replacement is rarely necessary with acute replacement of 5 to 10 units of packed red blood cells or less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Dilutional Coagulopat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Type and Screen versus Crossm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612720" y="1600200"/>
            <a:ext cx="815328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gnificant risk for hemorrhage - typing and screening or crossmatching is essential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creening procedur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mixing the maternal serum with standard reagent red cells that contain the antigens with which most of the common clinically significant antibodies react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ossmatch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involves the use of actual donor erythrocytes rather than standard red cell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Autotrans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2"/>
          <p:cNvSpPr/>
          <p:nvPr/>
        </p:nvSpPr>
        <p:spPr>
          <a:xfrm>
            <a:off x="612720" y="182880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 data shows that intraoperative blood salvage and autotransfusion is safe in obstetrical patient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000000"/>
                </a:solidFill>
                <a:latin typeface="Tw Cen MT"/>
              </a:rPr>
              <a:t>Autologous Trans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Tw Cen MT"/>
              </a:rPr>
              <a:t>Advantag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3200" spc="-1" strike="noStrike">
                <a:solidFill>
                  <a:srgbClr val="000000"/>
                </a:solidFill>
                <a:latin typeface="Tw Cen MT"/>
                <a:ea typeface="SimSun"/>
              </a:rPr>
              <a:t>Only minimal requirements neede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9b2d1f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w Cen MT"/>
                <a:ea typeface="SimSun"/>
              </a:rPr>
              <a:t>Hemoglobin concentration: 11g/dl; 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buClr>
                <a:srgbClr val="9b2d1f"/>
              </a:buClr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Tw Cen MT"/>
                <a:ea typeface="SimSun"/>
              </a:rPr>
              <a:t>Hematocrit of 34 volumes perc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Hypovolemic Sh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503280" y="1828800"/>
            <a:ext cx="818352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hock from hemorrhage evolves through several stag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RLY in the course of massive bleed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mean arterial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stroke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cardiac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central venous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14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pulmonary capillary wedg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3"/>
          <p:cNvSpPr/>
          <p:nvPr/>
        </p:nvSpPr>
        <p:spPr>
          <a:xfrm>
            <a:off x="762120" y="3505320"/>
            <a:ext cx="380880" cy="251460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mplications of Blood Trans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2"/>
          <p:cNvSpPr/>
          <p:nvPr/>
        </p:nvSpPr>
        <p:spPr>
          <a:xfrm>
            <a:off x="612720" y="1905120"/>
            <a:ext cx="8153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Each unit of blood or any component is associated with risk of exposure to blood-borne infe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Hemolytic Transfusion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Transfusion-Related Acute Lung Inj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Bacterial Cont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Viral Trans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Red-Cell Substitu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3 varieties of these substit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Perfluorochemi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Liposome-encapsulated hemoglob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Hemoglobin-based oxygen carri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DEPARTMENT OF OBSTETRICS AND GYNEC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0" y="60958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1800" spc="-1" strike="noStrike">
                <a:solidFill>
                  <a:srgbClr val="000000"/>
                </a:solidFill>
                <a:latin typeface="Arial"/>
              </a:rPr>
              <a:t>FEU-NRM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1400" spc="-1" strike="noStrike">
                <a:solidFill>
                  <a:srgbClr val="000000"/>
                </a:solidFill>
                <a:latin typeface="Arial"/>
              </a:rPr>
              <a:t>INTITUTE OF MEDIC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9280" y="1492200"/>
            <a:ext cx="864072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5400" spc="-1" strike="noStrike">
                <a:solidFill>
                  <a:srgbClr val="ffff00"/>
                </a:solidFill>
                <a:latin typeface="Tw Cen MT"/>
              </a:rPr>
              <a:t>CONSUMPTIVE COAGULOPATHY</a:t>
            </a:r>
            <a:br>
              <a:rPr sz="5400"/>
            </a:br>
            <a:r>
              <a:rPr b="0" lang="en-PH" sz="4400" spc="-1" strike="noStrike">
                <a:solidFill>
                  <a:srgbClr val="e9e5dc"/>
                </a:solidFill>
                <a:latin typeface="Tw Cen MT"/>
              </a:rPr>
              <a:t>(Disseminated Intravascular Disease)</a:t>
            </a:r>
            <a:endParaRPr b="0" lang="en-US" sz="4400" spc="-1" strike="noStrike">
              <a:solidFill>
                <a:srgbClr val="e9e5dc"/>
              </a:solidFill>
              <a:latin typeface="Tw Cen MT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"/>
          <p:cNvSpPr/>
          <p:nvPr/>
        </p:nvSpPr>
        <p:spPr>
          <a:xfrm>
            <a:off x="612720" y="68400"/>
            <a:ext cx="81532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Consumptive Coagulopathy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Tw Cen MT"/>
              </a:rPr>
              <a:t>Disseminated Intravascular Disea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457200" y="1981080"/>
            <a:ext cx="818352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lex disorder of the clotting mechanism, in which coagulation factors are consumed at an accelerated rate, with generalized fibrin deposition and thrombosis, hemorrhages and further depletion of the coagulation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"/>
          <p:cNvSpPr/>
          <p:nvPr/>
        </p:nvSpPr>
        <p:spPr>
          <a:xfrm>
            <a:off x="612720" y="98280"/>
            <a:ext cx="815328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w Cen MT"/>
              </a:rPr>
              <a:t>Consumptive Coagulopathy</a:t>
            </a:r>
            <a:br>
              <a:rPr sz="4000"/>
            </a:br>
            <a:r>
              <a:rPr b="0" lang="en-US" sz="3600" spc="-1" strike="noStrike">
                <a:solidFill>
                  <a:srgbClr val="ff0000"/>
                </a:solidFill>
                <a:latin typeface="Tw Cen MT"/>
              </a:rPr>
              <a:t>(Disseminated Intravascular Disea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2"/>
          <p:cNvSpPr/>
          <p:nvPr/>
        </p:nvSpPr>
        <p:spPr>
          <a:xfrm>
            <a:off x="612720" y="1905120"/>
            <a:ext cx="8153280" cy="42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e process may be acute or chro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usually triggered by the entry of large amounts of thromboplastic substances in to the circulation,  resulting from any of the wide variety or severe diseases and traumas.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Pregnancy Hypercoagul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Pregnancy normally induces appreciable increases in the concentrations of coagulation factors I (fibrinogen), VII, VIII, IX, and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agulation and plasmin activity is normally decreased antepar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ncreased activation of platelet, clotting, and fibrinolytic mechanisms : increases in fibrinopeptide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Tw Cen MT"/>
              </a:rPr>
              <a:t>Pathological Activation of Coag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3" name="Picture 3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612720" y="68400"/>
            <a:ext cx="81532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66047"/>
                </a:solidFill>
                <a:latin typeface="Tw Cen MT"/>
              </a:rPr>
              <a:t>Mechanism of Consumptive Coagulopat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AUSES OF DI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bruptio placent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UFD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mniotic Fluid embolism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ptic Abortion and obstetric seps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clamps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DIA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612720" y="1905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At least 3 out of the following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Prothrombi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Platelet co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Fibrinogen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  <a:ea typeface="SimSun"/>
              </a:rPr>
              <a:t>Fibrinogen/ fibrin degradation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533520" y="1521000"/>
            <a:ext cx="818352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↑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rteriovenous oxygen content difference reflects   ↑ tissue oxygen extrac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ood flow to capillary beds - controlled by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arteriol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resistance vessels that in turn are partially controlled by the CNS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70% total blood volume is contained in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venule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(passive resistance vessels controlled by humoral factors)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techolamine release during hemorrhage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550"/>
              </a:spcBef>
              <a:buClr>
                <a:srgbClr val="d34817"/>
              </a:buClr>
              <a:buFont typeface="Wingdings 2" charset="2"/>
              <a:buChar char="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causes an ↑ in venular tone -&gt; autotransfusion from this capacitance reservoi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Hypovolemic Sho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Amnionic Fluid Embo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612720" y="17524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omplex disorder classically characterized by the abrupt onset of hypotension, hypoxia, and consumptive coagulopat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1" descr=""/>
          <p:cNvPicPr/>
          <p:nvPr/>
        </p:nvPicPr>
        <p:blipFill>
          <a:blip r:embed="rId1"/>
          <a:stretch/>
        </p:blipFill>
        <p:spPr>
          <a:xfrm>
            <a:off x="152388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"/>
          <p:cNvSpPr/>
          <p:nvPr/>
        </p:nvSpPr>
        <p:spPr>
          <a:xfrm>
            <a:off x="533520" y="1523880"/>
            <a:ext cx="818352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fter a brief initial phase of pulmonary  and systematic hypertension, there is decreased systemic hypertension, there is decreased systemic vascular resistance and left ventricular stroke work index.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ransient but profound oxygen desaturation is often seen in the initial phase, resulting in neurological injury in most survivor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 women who lived by the initial cardiovascular collapse, a secondary phase of lung injury and coagulopathy often ensu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1"/>
          <p:cNvSpPr/>
          <p:nvPr/>
        </p:nvSpPr>
        <p:spPr>
          <a:xfrm>
            <a:off x="60948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Amnionic Fluid Embol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3" descr=""/>
          <p:cNvPicPr/>
          <p:nvPr/>
        </p:nvPicPr>
        <p:blipFill>
          <a:blip r:embed="rId1"/>
          <a:srcRect l="0" t="0" r="158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Amniotic Fluid Embolism: Dia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detection of squamous cells or other debris of fetal origin in the central pulmonary circulation was believed to be pathognomonic for amnionic fluid embo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is finding is neither sensitive nor specific, and the diagnosis is generally made by identifying clinically characteristic signs and sympto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n less typical cases, diagnosis is contingent on careful exclusion of other cau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linical Find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Hypoten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Fetal di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Pulmonary edema or A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ardiopulmonary a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yan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Women who survive long enough to receive any treatment other than cardiopulmonary resuscitation should receive therapy directed at oxygenation and support of the failing myocard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There are no data that any type of intervention improves maternal prognosis with amnionic fluid embo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Progn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612720" y="160020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the syndrome likely is underdiagnosed in all but the most severe cas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Profound neurological impairment is common in survivors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w Cen MT"/>
              </a:rPr>
              <a:t>only 8 percent of women who had a cardiac arrest in conjunction with initial symptoms survived neurologically intact</a:t>
            </a: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Outcome is also poor for fetuses and is related to the cardiac arrest-to-delivery interval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w Cen MT"/>
              </a:rPr>
              <a:t>Overall neonatal survival is 70 percent, but almost half suffer residual neurological impair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Septicem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fections that lead to bacteremia and septic shock in obstetrics are most commonly due to septic abortion, antepartum pyelonephritis, or puerperal sepsis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agulopat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ethal properties of bacterial toxins, and especially endotoxins, are undoubtedly mediated largely by disruption of vascular endothelium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buClr>
                <a:srgbClr val="9b2d1f"/>
              </a:buClr>
              <a:buFont typeface="Wingdings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ndotoxin activates the extrinsic clotting mechanism through cytokine-induced tissue factor expression on the surface of activated monocyt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765000" y="3808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     </a:t>
            </a: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mpensatory Mech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2"/>
          <p:cNvSpPr/>
          <p:nvPr/>
        </p:nvSpPr>
        <p:spPr>
          <a:xfrm>
            <a:off x="533520" y="190512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eac1bc"/>
          </a:solidFill>
          <a:ln w="10080">
            <a:solidFill>
              <a:srgbClr val="d3481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2000" spc="-1" strike="noStrike">
                <a:solidFill>
                  <a:srgbClr val="000000"/>
                </a:solidFill>
                <a:latin typeface="Tw Cen MT"/>
                <a:ea typeface="Arial"/>
              </a:rPr>
              <a:t>HYPOVOLEM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3"/>
          <p:cNvSpPr/>
          <p:nvPr/>
        </p:nvSpPr>
        <p:spPr>
          <a:xfrm>
            <a:off x="3505320" y="1905120"/>
            <a:ext cx="4647960" cy="13716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mean arterial pres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stroke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cardiac output</a:t>
            </a:r>
            <a:r>
              <a:rPr b="0" lang="en-US" sz="2800" spc="-1" strike="noStrike">
                <a:solidFill>
                  <a:srgbClr val="ffffff"/>
                </a:solidFill>
                <a:latin typeface="Tw Cen MT"/>
                <a:ea typeface="SimSu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4"/>
          <p:cNvSpPr/>
          <p:nvPr/>
        </p:nvSpPr>
        <p:spPr>
          <a:xfrm>
            <a:off x="3809880" y="2133720"/>
            <a:ext cx="457200" cy="99036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2666880" y="2133720"/>
            <a:ext cx="6858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6"/>
          <p:cNvSpPr/>
          <p:nvPr/>
        </p:nvSpPr>
        <p:spPr>
          <a:xfrm>
            <a:off x="3962520" y="4038480"/>
            <a:ext cx="327636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art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ystemic and pulmonary vascular resist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yocardial contract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7238880" y="4038480"/>
            <a:ext cx="457200" cy="19814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5562720" y="3352680"/>
            <a:ext cx="380880" cy="60984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Abor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612720" y="160020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arkable blood loss may occur as the consequence of abor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morrhage during early pregnancy is less likely to be severe unless abortion was induced and the procedure was traumatic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pregnancy is more advanced, the mechanisms responsible for hemorrhage are most often the same as those described for placental abruption and placenta previa—that is, the disruption of a large number of maternal blood vessels at the site of placental implantatio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agulation Def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2"/>
          <p:cNvSpPr/>
          <p:nvPr/>
        </p:nvSpPr>
        <p:spPr>
          <a:xfrm>
            <a:off x="612720" y="1600200"/>
            <a:ext cx="815328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90000"/>
              </a:lnSpc>
              <a:spcBef>
                <a:spcPts val="700"/>
              </a:spcBef>
              <a:buClr>
                <a:srgbClr val="9b2d1f"/>
              </a:buClr>
              <a:buFont typeface="Wingdings 2" charset="2"/>
              <a:buChar char="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arious disruption of the coagulation mechanism as the consequence of abortion may develop in the following circumstances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Prolonged retention of a dead fetus, as already describe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The sepsis syndrome, a notorious caus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Medical induction with a prostaglandi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During instrumental termination of the pregnancy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546120" indent="-200160">
              <a:lnSpc>
                <a:spcPct val="90000"/>
              </a:lnSpc>
              <a:spcBef>
                <a:spcPts val="550"/>
              </a:spcBef>
              <a:buClr>
                <a:srgbClr val="d34817"/>
              </a:buClr>
              <a:buFont typeface="Verdana"/>
              <a:buChar char="◦"/>
              <a:tabLst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SimSun"/>
              </a:rPr>
              <a:t>Intrauterine instillation of hypertonic saline or urea solut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857160"/>
                <a:tab algn="l" pos="1771560"/>
                <a:tab algn="l" pos="2685960"/>
                <a:tab algn="l" pos="3600360"/>
                <a:tab algn="l" pos="4514760"/>
                <a:tab algn="l" pos="5429160"/>
                <a:tab algn="l" pos="6343560"/>
                <a:tab algn="l" pos="7257960"/>
                <a:tab algn="l" pos="8172360"/>
                <a:tab algn="l" pos="9086760"/>
                <a:tab algn="l" pos="10001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6035760" cy="603576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2"/>
          <p:cNvSpPr/>
          <p:nvPr/>
        </p:nvSpPr>
        <p:spPr>
          <a:xfrm>
            <a:off x="2666880" y="2209680"/>
            <a:ext cx="64771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4400" spc="-1" strike="noStrike">
                <a:solidFill>
                  <a:srgbClr val="e9e5dc"/>
                </a:solidFill>
                <a:latin typeface="Tw Cen MT"/>
              </a:rPr>
              <a:t>THANK YOU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2362320" y="604980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Oval 1"/>
          <p:cNvSpPr/>
          <p:nvPr/>
        </p:nvSpPr>
        <p:spPr>
          <a:xfrm>
            <a:off x="5562720" y="4343400"/>
            <a:ext cx="3504960" cy="1828800"/>
          </a:xfrm>
          <a:prstGeom prst="ellipse">
            <a:avLst/>
          </a:prstGeom>
          <a:solidFill>
            <a:srgbClr val="eac1bc"/>
          </a:solidFill>
          <a:ln w="10080">
            <a:solidFill>
              <a:srgbClr val="d3481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elective, centrally-mediated arteriolar constr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765000" y="3808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     </a:t>
            </a: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mpensatory Mech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1752480" y="4572000"/>
            <a:ext cx="4648320" cy="13716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3520" algn="ctr">
              <a:lnSpc>
                <a:spcPct val="100000"/>
              </a:lnSpc>
              <a:tabLst>
                <a:tab algn="l" pos="0"/>
                <a:tab algn="l" pos="26496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redistribution of cardiac output and bloo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2743200" y="1600200"/>
            <a:ext cx="3276720" cy="2057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heart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ystemic and pulmonary vascular resist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6352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yocardial contract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2514600" y="1600200"/>
            <a:ext cx="457200" cy="198108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6"/>
          <p:cNvSpPr/>
          <p:nvPr/>
        </p:nvSpPr>
        <p:spPr>
          <a:xfrm>
            <a:off x="4191120" y="3886200"/>
            <a:ext cx="60948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"/>
          <p:cNvSpPr/>
          <p:nvPr/>
        </p:nvSpPr>
        <p:spPr>
          <a:xfrm>
            <a:off x="5105520" y="1828800"/>
            <a:ext cx="3504960" cy="1828800"/>
          </a:xfrm>
          <a:prstGeom prst="ellipse">
            <a:avLst/>
          </a:prstGeom>
          <a:solidFill>
            <a:srgbClr val="eac1bc"/>
          </a:solidFill>
          <a:ln w="10080">
            <a:solidFill>
              <a:srgbClr val="d3481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elective, centrally-mediated arteriolar constri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765000" y="380880"/>
            <a:ext cx="8153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66047"/>
                </a:solidFill>
                <a:latin typeface="Tw Cen MT"/>
              </a:rPr>
              <a:t>     </a:t>
            </a:r>
            <a:r>
              <a:rPr b="0" lang="en-US" sz="4400" spc="-1" strike="noStrike">
                <a:solidFill>
                  <a:srgbClr val="ff0000"/>
                </a:solidFill>
                <a:latin typeface="Tw Cen MT"/>
              </a:rPr>
              <a:t>Compensatory Mechanis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1371600" y="2057400"/>
            <a:ext cx="4648320" cy="1371600"/>
          </a:xfrm>
          <a:prstGeom prst="roundRect">
            <a:avLst>
              <a:gd name="adj" fmla="val 1666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4960" indent="-263520" algn="ctr">
              <a:lnSpc>
                <a:spcPct val="100000"/>
              </a:lnSpc>
              <a:tabLst>
                <a:tab algn="l" pos="0"/>
                <a:tab algn="l" pos="26496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w Cen MT"/>
              </a:rPr>
              <a:t>redistribution of cardiac output and blood volu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4114800"/>
            <a:ext cx="221004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Tw Cen MT"/>
              </a:rPr>
              <a:t>BR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Tw Cen MT"/>
              </a:rPr>
              <a:t>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PH" sz="2400" spc="-1" strike="noStrike">
                <a:solidFill>
                  <a:srgbClr val="000000"/>
                </a:solidFill>
                <a:latin typeface="Tw Cen MT"/>
              </a:rPr>
              <a:t>ADRENAL GLA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2819520" y="35053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286000" y="35053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7"/>
          <p:cNvSpPr/>
          <p:nvPr/>
        </p:nvSpPr>
        <p:spPr>
          <a:xfrm>
            <a:off x="1828800" y="3505320"/>
            <a:ext cx="457200" cy="5331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AutoShape 8"/>
          <p:cNvSpPr/>
          <p:nvPr/>
        </p:nvSpPr>
        <p:spPr>
          <a:xfrm>
            <a:off x="4267080" y="4114800"/>
            <a:ext cx="243864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w Cen MT"/>
              </a:rPr>
              <a:t>Kidn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w Cen MT"/>
              </a:rPr>
              <a:t>Splanchnic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w Cen MT"/>
              </a:rPr>
              <a:t>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PH" sz="2400" spc="-1" strike="noStrike">
                <a:solidFill>
                  <a:srgbClr val="000000"/>
                </a:solidFill>
                <a:latin typeface="Tw Cen MT"/>
              </a:rPr>
              <a:t>Ute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9"/>
          <p:cNvSpPr/>
          <p:nvPr/>
        </p:nvSpPr>
        <p:spPr>
          <a:xfrm>
            <a:off x="5105520" y="358128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34817"/>
          </a:solidFill>
          <a:ln w="1908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612720" y="2286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w Cen MT"/>
              </a:rPr>
              <a:t>Blood volume deficit &gt; 25 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3" descr=""/>
          <p:cNvPicPr/>
          <p:nvPr/>
        </p:nvPicPr>
        <p:blipFill>
          <a:blip r:embed="rId1"/>
          <a:srcRect l="4626" t="0" r="3318" b="5335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cxnSp>
        <p:nvCxnSpPr>
          <p:cNvPr id="394" name="AutoShape 4"/>
          <p:cNvCxnSpPr/>
          <p:nvPr/>
        </p:nvCxnSpPr>
        <p:spPr>
          <a:xfrm flipV="1" rot="10800000">
            <a:off x="3961800" y="764640"/>
            <a:ext cx="381600" cy="39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round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Blood volume deficit &gt; 25 perc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rcRect l="0" t="40149" r="0" b="0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5:04:48Z</dcterms:created>
  <dc:creator>Carla L. dela Cruz, MD.</dc:creator>
  <dc:description/>
  <dc:language>en-US</dc:language>
  <cp:lastModifiedBy>joseph c. nash</cp:lastModifiedBy>
  <dcterms:modified xsi:type="dcterms:W3CDTF">2012-05-10T00:27:03Z</dcterms:modified>
  <cp:revision>29</cp:revision>
  <dc:subject/>
  <dc:title>Hypovolemic Shock and Disseminated Intravascular Disease</dc:title>
</cp:coreProperties>
</file>