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C20-7BF2-4159-8CD4-D0F4FBB5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DB-073B-46FA-9068-225CAF8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8ED-07E8-4188-825A-A6D26E67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154-6B40-46AA-8188-C0EDE8DE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4B9F-33CC-4CC4-9A54-E18DC270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A16C-00A9-492C-A565-1BB4559C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D3F-5114-4FC7-B052-B058304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B09-E93B-44D5-A76D-F1602C1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082-AFAA-4F97-8B22-8BBF7FC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39D-1053-4179-AEA9-4F5C0BA2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FD7-524E-4C45-A78B-10E01C5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A93-103D-432F-BBFA-B82033B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466-30A7-4042-A8EB-F48B16C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1734-0EAF-4C0A-A79A-2B7F87C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041-28BB-4C58-BD56-3AAB374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8DC4-51EF-4F1C-8C89-C39E715C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87D-2AA1-4894-B8F1-202B1E89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1B6-DD55-4238-B2E8-41656925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08B-DF2C-476B-A020-253E66D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54F-D084-46FB-AEFC-36DE3DD7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518-D438-4408-8976-29D6A261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C39-ED0C-4CE7-B088-537B160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7B9-8AC3-4FB9-81C8-8D3AA21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B9C-112F-49F1-9D6C-7E53313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F0AA-513B-4ABC-9207-3CFE4ABA5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214-F949-4D2E-B5BD-1EEF072EC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6666cc"/>
                </a:solidFill>
                <a:latin typeface="Comic Sans MS"/>
              </a:rPr>
              <a:t>HUNDE WELPE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15280"/>
            <a:ext cx="29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"/>
              </a:rPr>
              <a:t>PPS BY CAR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1430280"/>
            <a:ext cx="6480000" cy="473544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6480000" cy="478944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1376280"/>
            <a:ext cx="6480000" cy="475308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449360"/>
            <a:ext cx="6661080" cy="468000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392120"/>
            <a:ext cx="6480000" cy="477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wheel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1:13:12Z</dcterms:created>
  <dc:creator>CARLO</dc:creator>
  <dc:description>www.funny.lu</dc:description>
  <dc:language>en-US</dc:language>
  <cp:lastModifiedBy>Smets</cp:lastModifiedBy>
  <dcterms:modified xsi:type="dcterms:W3CDTF">2009-05-09T05:34:52Z</dcterms:modified>
  <cp:revision>2</cp:revision>
  <dc:subject/>
  <dc:title> HUNDE WELPEN </dc:title>
</cp:coreProperties>
</file>