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F71-7453-47CC-9F3B-5DE599DB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D0A-18B6-471E-946C-8BD21EFC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3F9-778A-4FA0-AC88-8278F6AB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F8E-7D46-4A50-8E6C-EAAF5362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65A4-AF17-4A8E-A7E7-FB19D77B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A65-8DE3-4DA2-AFC9-16B1CBC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BAAB-776F-4F89-80F8-D2DDCF8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D984-8099-46E5-A52C-4CEFDA6C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055-9A11-439A-AF13-1FC76EF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FC0A-6C19-4465-B132-62774668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DC0A-4D74-4D08-A1D9-9C4C495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997-9067-49DE-8FEF-740CE857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1207-38CC-4FE6-B60C-5829A0A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3CD5-A55F-4253-A19D-745C175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D044-FE57-4DCB-BBEA-6B84383F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9160-861C-4AE1-87BD-1B6F1668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A40D-7574-486E-843A-B7D86DF4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86E-D6C9-43D3-A853-1902DD3E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AFF-EC7E-4707-9C3E-A2900B0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1B6-623E-4622-8C37-EF8C8D2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442-27C4-415A-AD20-68DAFE18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1E9-4386-470F-BBA8-5DA81DC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CD2-A65A-42F9-9A44-C450DC2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9AE-0F14-4623-822D-E10926FF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0DD3-2DE0-494A-9267-E5B615EB1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D1BA-D741-4241-8D8A-31137CB0B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6666cc"/>
                </a:solidFill>
                <a:latin typeface="Comic Sans MS"/>
              </a:rPr>
              <a:t>HUNDE WELPE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15280"/>
            <a:ext cx="29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"/>
              </a:rPr>
              <a:t>PPS BY CAR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1430280"/>
            <a:ext cx="6480000" cy="473544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6480000" cy="478944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6480000" cy="475308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449360"/>
            <a:ext cx="6661080" cy="468000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392120"/>
            <a:ext cx="6480000" cy="477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wheel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1:13:12Z</dcterms:created>
  <dc:creator>CARLO</dc:creator>
  <dc:description>www.funny.lu</dc:description>
  <dc:language>en-US</dc:language>
  <cp:lastModifiedBy>Smets</cp:lastModifiedBy>
  <dcterms:modified xsi:type="dcterms:W3CDTF">2009-05-09T05:34:52Z</dcterms:modified>
  <cp:revision>2</cp:revision>
  <dc:subject/>
  <dc:title> HUNDE WELPEN </dc:title>
</cp:coreProperties>
</file>