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media/image7.jpeg" ContentType="image/jpeg"/>
  <Override PartName="/ppt/media/image18.gif" ContentType="image/gif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Katastroof%20-%20Zo%20zat%20als%20100000%20man.wav" ContentType="audio/x-wav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498-56DE-4829-B74A-C451EA69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476-118B-482C-B2A0-50FEA396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31B-7DD5-46D7-A4D8-4569DA3D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EBAB-7D0F-4478-89D8-A4284FB8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7B53-A22A-4166-8967-EC3DFFD8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862-7861-4DE7-9828-BA941BDD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6826-2356-4C06-BA4D-17512471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06F0-EAC9-4A36-81B5-898D44A7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D6F-7C7E-44C2-8588-23D4AAD2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C4F-33FB-477C-8E27-B7A93BB1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0FE-B434-409B-B3F7-945A83AC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8B4-55AA-4298-ACA1-966D158C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B05E-7AEF-4440-83EC-CD5599900F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Katastroof%20-%20Zo%20zat%20als%20100000%20man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981000"/>
            <a:ext cx="5759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Feesten            kan              plezant zijn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ircle/>
    <p:sndAc>
      <p:stSnd>
        <p:snd r:embed="rId1" name="Katastroof%20-%20Zo%20zat%20als%20100000%20ma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2920" y="316080"/>
            <a:ext cx="8316720" cy="6225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" y="282600"/>
            <a:ext cx="8388000" cy="6291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000" y="334800"/>
            <a:ext cx="8388000" cy="6186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44600" y="398520"/>
            <a:ext cx="8254800" cy="6060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14270" b="8960"/>
          <a:stretch/>
        </p:blipFill>
        <p:spPr>
          <a:xfrm>
            <a:off x="431640" y="404640"/>
            <a:ext cx="8280720" cy="6048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8466" r="8240" b="565"/>
          <a:stretch/>
        </p:blipFill>
        <p:spPr>
          <a:xfrm>
            <a:off x="341280" y="345960"/>
            <a:ext cx="8460000" cy="6166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7281" r="9075" b="1832"/>
          <a:stretch/>
        </p:blipFill>
        <p:spPr>
          <a:xfrm>
            <a:off x="439560" y="374760"/>
            <a:ext cx="8263080" cy="6107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6360" y="584280"/>
            <a:ext cx="7991280" cy="56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8822" b="8009"/>
          <a:stretch/>
        </p:blipFill>
        <p:spPr>
          <a:xfrm>
            <a:off x="449280" y="382680"/>
            <a:ext cx="8244000" cy="6092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97964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8353440" cy="612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304920"/>
            <a:ext cx="8207280" cy="6248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" y="331920"/>
            <a:ext cx="8388000" cy="6194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6680" y="298440"/>
            <a:ext cx="8269200" cy="625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6920" y="422280"/>
            <a:ext cx="8748720" cy="601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28600"/>
            <a:ext cx="8532720" cy="6399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280" y="376200"/>
            <a:ext cx="8460000" cy="6105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4640" y="303120"/>
            <a:ext cx="8334720" cy="6251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07:12Z</dcterms:created>
  <dc:creator>Windows</dc:creator>
  <dc:description/>
  <dc:language>en-US</dc:language>
  <cp:lastModifiedBy>Smets</cp:lastModifiedBy>
  <dcterms:modified xsi:type="dcterms:W3CDTF">2009-01-23T05:17:57Z</dcterms:modified>
  <cp:revision>8</cp:revision>
  <dc:subject/>
  <dc:title>FEESTEN</dc:title>
</cp:coreProperties>
</file>