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7.jpeg" ContentType="image/jpeg"/>
  <Override PartName="/ppt/media/image18.gif" ContentType="image/gi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Katastroof%20-%20Zo%20zat%20als%20100000%20man.wav" ContentType="audio/x-wav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76D-9788-4404-87AE-5577D88B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04D-10F1-4F74-921A-8566DDE1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B77-6BA0-4837-99C4-2A70C97F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00F-C547-4404-81AC-213E9EC1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6AF-5B5B-4589-BADD-6D57A6DE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486-5CCC-4E76-B99C-AEC931CF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7CC-19D2-4B50-8970-0CF96131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F21-BEFE-433B-9156-D68F22D1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4AF-AF6A-49B6-8C6C-D74BE97C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33D-41DB-4D50-8F0D-5C40665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4ED-978C-42DE-B7F9-4DDED288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33D-FBBB-484B-92B7-55865A56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A319-2901-4D4E-BC2D-F838C7CF11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Katastroof%20-%20Zo%20zat%20als%20100000%20man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981000"/>
            <a:ext cx="5759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eesten            kan              plezant zijn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ircle/>
    <p:sndAc>
      <p:stSnd>
        <p:snd r:embed="rId1" name="Katastroof%20-%20Zo%20zat%20als%20100000%20ma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2920" y="316080"/>
            <a:ext cx="8316720" cy="6225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" y="282600"/>
            <a:ext cx="8388000" cy="629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" y="334800"/>
            <a:ext cx="8388000" cy="6186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4600" y="398520"/>
            <a:ext cx="8254800" cy="6060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14270" b="8960"/>
          <a:stretch/>
        </p:blipFill>
        <p:spPr>
          <a:xfrm>
            <a:off x="431640" y="404640"/>
            <a:ext cx="8280720" cy="604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8466" r="8240" b="565"/>
          <a:stretch/>
        </p:blipFill>
        <p:spPr>
          <a:xfrm>
            <a:off x="341280" y="345960"/>
            <a:ext cx="8460000" cy="6166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7281" r="9075" b="1832"/>
          <a:stretch/>
        </p:blipFill>
        <p:spPr>
          <a:xfrm>
            <a:off x="439560" y="374760"/>
            <a:ext cx="8263080" cy="6107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6360" y="584280"/>
            <a:ext cx="7991280" cy="56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8822" b="8009"/>
          <a:stretch/>
        </p:blipFill>
        <p:spPr>
          <a:xfrm>
            <a:off x="449280" y="382680"/>
            <a:ext cx="8244000" cy="6092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8353440" cy="612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04920"/>
            <a:ext cx="8207280" cy="6248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331920"/>
            <a:ext cx="8388000" cy="619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6680" y="298440"/>
            <a:ext cx="8269200" cy="625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6920" y="422280"/>
            <a:ext cx="8748720" cy="601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00"/>
            <a:ext cx="8532720" cy="639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280" y="376200"/>
            <a:ext cx="8460000" cy="6105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4640" y="303120"/>
            <a:ext cx="8334720" cy="6251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07:12Z</dcterms:created>
  <dc:creator>Windows</dc:creator>
  <dc:description/>
  <dc:language>en-US</dc:language>
  <cp:lastModifiedBy>Smets</cp:lastModifiedBy>
  <dcterms:modified xsi:type="dcterms:W3CDTF">2009-01-23T05:17:57Z</dcterms:modified>
  <cp:revision>8</cp:revision>
  <dc:subject/>
  <dc:title>FEESTEN</dc:title>
</cp:coreProperties>
</file>