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D566-1BB9-4129-B28C-463C0CB4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6CDC-3B34-4BC8-8308-32AF1E995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AE3A-EBAC-4A92-8C75-8BC6AF5DB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FD25-A199-4FE9-A0C5-BE3DD5F99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8524-1E10-4393-AD91-1B34D3E86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C6EE-DCA8-4173-8A14-D3DF1C49D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FE00-E730-41F7-84DC-9AD455406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0A31-9983-45F4-B890-8AF6EFCE6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7254-078F-4D63-9A81-4BBA1EA98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2103-AE6E-4AE2-8927-FD4EE15A9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78EF-FD4D-4AD2-92C2-49C89E7E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2D9E-A467-4FCA-BA6B-EEAE4A49C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E954-2D98-44F0-89F0-8F291D4BC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BA72-3E86-4FB0-B88E-6C2FD926A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3C26-6A67-4B21-888A-69BD6D53B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3C9-E5DC-4CB4-B94E-3BDCE3DE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AA2-716D-49E0-9800-A1FB8A0F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9D3-D2EC-40BC-B9EE-842AB39F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446-FF87-43B5-B502-4330A890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D6D-C761-4B0D-8519-049278B7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30D-DE5B-431F-868A-D30DDCF5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1A7-751F-42E4-A656-0789CAF1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E70-BD41-4976-90A2-277F16BB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CB2-D451-44B1-8F87-209748E1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4B9-951F-4BFE-A227-276C61C2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2C4-9751-4474-ACDD-EC9E362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30A-D7ED-4915-8B40-64E46681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DDC0-5A78-4408-9948-AC2F04EB2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76960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Resep dan Gambaran Kepribadian Suks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Bagaimana pribadi sukses mendapatkan dirin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[suatu dinamika pribadi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Self Confidence (Kepercayaan Diri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Arial"/>
              </a:rPr>
              <a:t>Kepercayaan diri dibangun atas pengalaman sukses. Ketika kita pertama kali memulai sesuatu, kemungkinan besar kepercayaan diri kita kecil karena kita belum belajar dari pengalaman bahwa kita bisa sukses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Arial"/>
              </a:rPr>
              <a:t>Ini berlaku entah belajar sepeda, berbicara di depan publik, atau dalam aktivitas lainnya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Teknik penting untuk memupuk kepercayaan diri adalah dengan mengingat setiap kesuksesan yang dicapai di masa lalu dan berusaha melupakan kegagalan di masa lal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upaya sukses yang seharusnya diingat, dikuatkan dan</a:t>
            </a:r>
            <a:r>
              <a:rPr b="1" lang="id-ID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direnungka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Kalau kita amati kesuksesan orang lain, hampir semua kesuksesannya tidak</a:t>
            </a:r>
            <a:r>
              <a:rPr b="0" lang="id-ID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pernah dilalui melalui jalan yang lempang, tetapi mereka justru menempuhnya secara zig-zag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Gunakanlah kekeliruan-kekeliruan dan kesalahan-kesalahan sebagai cara untuk belajar, lalu singkirkanlah itu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ri pikiran ki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Self Acceptance (Penerimaan Diri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Arial"/>
              </a:rPr>
              <a:t>Penerimaan diri artinya menerima diri kita sekarang secara apa adanya,dengan segala kesalahan, kelemahan, kekurangan, kekeliruan serta asetdan kekuatan-kekuatan kita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Arial"/>
              </a:rPr>
              <a:t>Kita harus menyadari kesalahan-kesalahan dan kekurangan-kekurangan kita sebelum kita dapat mengoreksinya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97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engubah citra diri  </a:t>
            </a:r>
            <a:r>
              <a:rPr b="0" lang="sv-SE" sz="3900" spc="-1" strike="noStrike">
                <a:solidFill>
                  <a:srgbClr val="000000"/>
                </a:solidFill>
                <a:latin typeface="Arial"/>
              </a:rPr>
              <a:t>tidaklah berarti mengubah diri Anda, melainkan mengubah gambaran mentalAnda, estimasi Anda, konsepsi Anda dan kesadaran Anda akan diri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97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900" spc="-1" strike="noStrike">
                <a:solidFill>
                  <a:srgbClr val="000000"/>
                </a:solidFill>
                <a:latin typeface="Arial"/>
              </a:rPr>
              <a:t>Kita bisa mengubah kepribadian kita, tetapi tak dapat mengubah diri dasar kita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97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900" spc="-1" strike="noStrike">
                <a:solidFill>
                  <a:srgbClr val="000000"/>
                </a:solidFill>
                <a:latin typeface="Arial"/>
              </a:rPr>
              <a:t>Belajarlah diri Anda apa adanya dan mulailah dari sana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97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fffff"/>
                </a:solidFill>
                <a:latin typeface="Aharoni"/>
                <a:ea typeface="Aharoni"/>
              </a:rPr>
              <a:t>Kisah Suk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Berikan satu kisah sukses yang Anda ketahui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2 people talking.gif"/>
          <p:cNvPicPr/>
          <p:nvPr/>
        </p:nvPicPr>
        <p:blipFill>
          <a:blip r:embed="rId1"/>
          <a:stretch/>
        </p:blipFill>
        <p:spPr>
          <a:xfrm>
            <a:off x="2133720" y="3429000"/>
            <a:ext cx="43718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ff"/>
                </a:solidFill>
                <a:latin typeface="Aharoni"/>
                <a:ea typeface="Aharoni"/>
              </a:rPr>
              <a:t>1. </a:t>
            </a:r>
            <a:r>
              <a:rPr b="1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Sense of Direction</a:t>
            </a:r>
            <a:r>
              <a:rPr b="1" lang="id-ID" sz="32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(Kesadaran akan Ara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adar akan sasaran yang layak dirai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p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utuskanlah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ubuh Anda takkan berfungsi dengan baik,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karena ada sebuah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har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asaran untuk diri sendi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asaran untuk orang lain, bukan karena kewajiban, </a:t>
            </a:r>
            <a:r>
              <a:rPr b="1" lang="id-ID" sz="3200" spc="-1" strike="noStrike">
                <a:solidFill>
                  <a:srgbClr val="000000"/>
                </a:solidFill>
                <a:latin typeface="Arial"/>
              </a:rPr>
              <a:t>tetapi karena Anda ma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arena alasan inilah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seringkali seseorang meninggal tidak lama setelah pensi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Aharoni"/>
                <a:ea typeface="Aharoni"/>
              </a:rPr>
              <a:t>2. Understanding (Pengertian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Pengertian</a:t>
            </a: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 itu</a:t>
            </a: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 bergantung kepada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komunikasi</a:t>
            </a: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 yang bai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Informasi yang tepat. </a:t>
            </a: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Anda tidak akan bereaksi tepat kalau informasi yang Anda tindaklanjuti itu keliru </a:t>
            </a: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diartikan. Jadi,</a:t>
            </a: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 pahami sifat yang benar</a:t>
            </a: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 shg </a:t>
            </a: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efekti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Kebanyakan kegagalan  dalam berhubungan antar manusia adalah karena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salah pengertian</a:t>
            </a: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441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Mengakui ketulusan orang lain ketika keliru, akan membantu melancarkan hubungan antar manusia dan melahirkan pengertian, ketimbang menganggapnya sengaja atau berniat jahat. Berbaik sang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441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Fakta : d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ua orang teman sedang berbisik-bisik dan berhenti ketika Anda datang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441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Opini: mereka sedang menggosipkan aku (reaksi negati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441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3.Courage (Keberani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beranian untuk bertindak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Seringkali perbedaan antara orang yang sukses dengan pecundang bukanlah karena kemampuan atau ide yang lebih baik, melainkan </a:t>
            </a:r>
            <a:r>
              <a:rPr b="1" lang="sv-SE" sz="3300" spc="-1" strike="noStrike">
                <a:solidFill>
                  <a:srgbClr val="000000"/>
                </a:solidFill>
                <a:latin typeface="Arial"/>
              </a:rPr>
              <a:t>keberanian untuk bertaruh atas ide</a:t>
            </a: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-idenya sendiri untuk </a:t>
            </a:r>
            <a:r>
              <a:rPr b="1" lang="sv-SE" sz="3300" spc="-1" strike="noStrike">
                <a:solidFill>
                  <a:srgbClr val="000000"/>
                </a:solidFill>
                <a:latin typeface="Arial"/>
              </a:rPr>
              <a:t>mengambil r</a:t>
            </a:r>
            <a:r>
              <a:rPr b="1" lang="id-ID" sz="3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v-SE" sz="3300" spc="-1" strike="noStrike">
                <a:solidFill>
                  <a:srgbClr val="000000"/>
                </a:solidFill>
                <a:latin typeface="Arial"/>
              </a:rPr>
              <a:t>siko</a:t>
            </a: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 yang diperhitungkan dan untuk bertindak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Lakukan</a:t>
            </a:r>
            <a:r>
              <a:rPr b="0" lang="id-ID" sz="3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 jangan menunggu atau berharap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481640" y="30780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Aharoni"/>
                <a:ea typeface="Aharoni"/>
              </a:rPr>
              <a:t>4.Charity (Amal/Belas kasi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39560"/>
            <a:ext cx="822960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Kepribadian sukses ditandai adanya minat dan menghargai sesaman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Mereka menghormati martabat, masalah, serta kebutuhan sesamany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rang-orang yang merasa bahwa manusia itu tidak penting, tidak mungkin menghormati dan menghargai dirinya sendi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alah satu metode yang paling dikenal dalam mengatasi rasa bersalah adalah berusaha berhenti mengutuk, membenci, menyalahkan orang lain atas kesalahan-kesalahan mere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Kembangkan citra diri yang lebih baik dan lebih memadai kalau Anda mulai merasa bahwa orang lain itu lebih berhar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Memperlakukan semua orang dengan hormat adalah amal, Anda tidak bisa memandangnya sebagai transaksi tetapi harus memandangnya sebagai sumbangan pada lingkun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ffff"/>
                </a:solidFill>
                <a:latin typeface="Arial"/>
              </a:rPr>
              <a:t>5.Esteem (Harga Diri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Dari segala perangkap serta kejatuhan dalam kehidupan, soal  harga diri adalah yang paling mematikan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Hal yang paling sulit diatasi adalah perasaan tidak mampu atau ungkapan ” Percuma, aku tak bisa melakukannya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300" spc="-1" strike="noStrike">
                <a:solidFill>
                  <a:srgbClr val="000000"/>
                </a:solidFill>
                <a:latin typeface="Arial"/>
              </a:rPr>
              <a:t>Waspadalah terhadap pencuri kebahagiaan yaitu kritikus di dalam diri sendiri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4:54:40Z</dcterms:created>
  <dc:creator>Ariadi Pandunegoro</dc:creator>
  <dc:description/>
  <dc:language>en-US</dc:language>
  <cp:lastModifiedBy>hp</cp:lastModifiedBy>
  <dcterms:modified xsi:type="dcterms:W3CDTF">2012-02-29T09:22:04Z</dcterms:modified>
  <cp:revision>37</cp:revision>
  <dc:subject/>
  <dc:title>Resep dan Gambaran Kepribadian Sukses</dc:title>
</cp:coreProperties>
</file>