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3B8-7D79-45FE-9675-EB17C1DD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65AE-8A94-453E-B162-1FB9936A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14B-77A2-45E2-B06C-ED5D43DC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5F2-0072-499D-BFEC-32666AD9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663F-B083-4347-91BF-58167588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C7FF-4734-4078-A56F-DFAD5D6D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C3D-EC0A-4B30-9C29-D52433D2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26B-04C7-44B3-84F9-FE237E6CB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A97-57AF-4896-834E-0BE5E612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3A5-CBA0-420F-A3DC-4EEC39A6F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233-D731-423F-8463-CB990891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B35-957B-4D61-B913-271640320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D64-7852-44AA-A0D3-3DBA3BEC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040-8552-4E96-88C3-E6B71968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7298-7BBB-4CB5-83E0-BA71F107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BE6-E6BD-48DB-A620-E434279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56D-2530-4F77-98B3-F2F0E90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77A-6B6D-4477-9B1D-4DEA081C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18E-5895-4014-8E96-D3DFE9D5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861-F2D5-4BC7-96D5-1D78C73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8AD-CE45-4971-8C02-55222F2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E72-8DD8-46F8-9941-81D86B6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4CF-2370-4C59-8E69-62256AF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2E5-7E76-45D6-B911-8F3D5127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EF2-D5EB-4FD5-82A9-0A98E2B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EF4-F961-49FC-B54A-5BCA8A5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881-515B-440E-B54D-27F0011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4018-9A59-439A-9D0B-04234468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Resep dan Gambaran Kepribadian Suks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Bagaimana pribadi sukses mendapatkan diri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[suatu dinamika pribadi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Self Confidence (Kepercayaan Dir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Kepercayaan diri dibangun atas pengalaman sukses. Ketika kita pertama kali memulai sesuatu, kemungkinan besar kepercayaan diri kita kecil karena kita belum belajar dari pengalaman bahwa kita bisa sukses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Ini berlaku entah belajar sepeda, berbicara di depan publik, atau dalam aktivitas lainny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Teknik penting untuk memupuk kepercayaan diri adalah dengan mengingat setiap kesuksesan yang dicapai di masa lalu dan berusaha melupakan kegagalan di masa lal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upaya sukses yang seharusnya diingat, dikuatkan dan</a:t>
            </a:r>
            <a:r>
              <a:rPr b="1" lang="id-ID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direnungka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Kalau kita amati kesuksesan orang lain, hampir semua kesuksesannya tidak</a:t>
            </a: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pernah dilalui melalui jalan yang lempang, tetapi mereka justru menempuhnya secara zig-za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Gunakanlah kekeliruan-kekeliruan dan kesalahan-kesalahan sebagai cara untuk belajar, lalu singkirkanlah itu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i pikiran ki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Self Acceptance (Penerimaan Dir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Penerimaan diri artinya menerima diri kita sekarang secara apa adanya,dengan segala kesalahan, kelemahan, kekurangan, kekeliruan serta asetdan kekuatan-kekuatan kita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Kita harus menyadari kesalahan-kesalahan dan kekurangan-kekurangan kita sebelum kita dapat mengoreksiny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engubah citra diri  </a:t>
            </a: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tidaklah berarti mengubah diri Anda, melainkan mengubah gambaran mentalAnda, estimasi Anda, konsepsi Anda dan kesadaran Anda akan diri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Kita bisa mengubah kepribadian kita, tetapi tak dapat mengubah diri dasar kita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Belajarlah diri Anda apa adanya dan mulailah dari sana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ff"/>
                </a:solidFill>
                <a:latin typeface="Aharoni"/>
                <a:ea typeface="Aharoni"/>
              </a:rPr>
              <a:t>Kisah Suk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erikan satu kisah sukses yang Anda ketahui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 people talking.gif"/>
          <p:cNvPicPr/>
          <p:nvPr/>
        </p:nvPicPr>
        <p:blipFill>
          <a:blip r:embed="rId1"/>
          <a:stretch/>
        </p:blipFill>
        <p:spPr>
          <a:xfrm>
            <a:off x="2133720" y="3429000"/>
            <a:ext cx="43718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ff"/>
                </a:solidFill>
                <a:latin typeface="Aharoni"/>
                <a:ea typeface="Aharoni"/>
              </a:rPr>
              <a:t>1.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Sense of Direction</a:t>
            </a:r>
            <a:r>
              <a:rPr b="1" lang="id-ID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(Kesadaran akan Ara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dar akan sasaran yang layak dirai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p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tuskanla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ubuh Anda takkan berfungsi dengan baik,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arena ada sebuah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har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saran untuk diri sendi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saran untuk orang lain, bukan karena kewajiban, </a:t>
            </a: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tetapi karena Anda m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arena alasan inilah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eringkali seseorang meninggal tidak lama setelah pensi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Aharoni"/>
                <a:ea typeface="Aharoni"/>
              </a:rPr>
              <a:t>2. Understanding (Pengertian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Pengertian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itu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bergantung kepada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komunikasi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yang bai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Informasi yang tepat. 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Anda tidak akan bereaksi tepat kalau informasi yang Anda tindaklanjuti itu keliru 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diartikan. Jadi,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pahami sifat yang benar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shg 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efekti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Kebanyakan kegagalan  dalam berhubungan antar manusia adalah karena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salah pengertian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engakui ketulusan orang lain ketika keliru, akan membantu melancarkan hubungan antar manusia dan melahirkan pengertian, ketimbang menganggapnya sengaja atau berniat jahat. Berbaik sang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Fakta : d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a orang teman sedang berbisik-bisik dan berhenti ketika Anda datang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pini: mereka sedang menggosipkan aku (reaksi negati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3.Courage (Kebera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beranian untuk bertinda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Seringkali perbedaan antara orang yang sukses dengan pecundang bukanlah karena kemampuan atau ide yang lebih baik, melainkan 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keberanian untuk bertaruh atas ide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-idenya sendiri untuk 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mengambil r</a:t>
            </a:r>
            <a:r>
              <a:rPr b="1" lang="id-ID" sz="3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siko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 yang diperhitungkan dan untuk bertinda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Lakukan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 jangan menunggu atau berharap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481640" y="30780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Aharoni"/>
                <a:ea typeface="Aharoni"/>
              </a:rPr>
              <a:t>4.Charity (Amal/Belas kasi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39560"/>
            <a:ext cx="822960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epribadian sukses ditandai adanya minat dan menghargai sesaman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reka menghormati martabat, masalah, serta kebutuhan sesamany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rang-orang yang merasa bahwa manusia itu tidak penting, tidak mungkin menghormati dan menghargai dirinya sendi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alah satu metode yang paling dikenal dalam mengatasi rasa bersalah adalah berusaha berhenti mengutuk, membenci, menyalahkan orang lain atas kesalahan-kesalahan mer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embangkan citra diri yang lebih baik dan lebih memadai kalau Anda mulai merasa bahwa orang lain itu lebih berh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mperlakukan semua orang dengan hormat adalah amal, Anda tidak bisa memandangnya sebagai transaksi tetapi harus memandangnya sebagai sumbangan pada lingkun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ffff"/>
                </a:solidFill>
                <a:latin typeface="Arial"/>
              </a:rPr>
              <a:t>5.Esteem (Harga Dir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Dari segala perangkap serta kejatuhan dalam kehidupan, soal  harga diri adalah yang paling mematikan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Hal yang paling sulit diatasi adalah perasaan tidak mampu atau ungkapan ” Percuma, aku tak bisa melakukannya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Waspadalah terhadap pencuri kebahagiaan yaitu kritikus di dalam diri sendiri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54:40Z</dcterms:created>
  <dc:creator>Ariadi Pandunegoro</dc:creator>
  <dc:description/>
  <dc:language>en-US</dc:language>
  <cp:lastModifiedBy>hp</cp:lastModifiedBy>
  <dcterms:modified xsi:type="dcterms:W3CDTF">2012-02-29T09:22:04Z</dcterms:modified>
  <cp:revision>37</cp:revision>
  <dc:subject/>
  <dc:title>Resep dan Gambaran Kepribadian Sukses</dc:title>
</cp:coreProperties>
</file>