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343FA-57B6-4BAB-BB93-F73452ECA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ED86C-F13C-438A-8CD2-D9DBE76BA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5916E-EDF6-4AB7-B8F5-A9172EC0B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F2804-92C7-4B29-995F-4571F23D6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0B7F3-F870-45D6-9411-F2E0E05EC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BE677-8C40-420C-AA5B-3127A8E0F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C7ECA-DB49-45FB-B8F7-179D10C51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38D47-D33F-4F67-B375-3F60E6805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F66D2-D9C9-476E-9B12-792CD82FD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5F30D-B77F-4858-8251-D16B46887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3F489-3274-4916-85C5-D212BC46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ACBCD-DFF1-4376-85EB-C3D426065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BC567-ADBC-4A0E-971C-BD020924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E1ED5-7025-42A6-83AE-79E90D56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107BA-87A0-489E-97CB-2938116E1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62449-2A8C-4CFE-A976-9B042B02E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DE4A2-9D02-4E10-A3F4-545998A03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90112-5EE3-45A8-95E9-F83C3416F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CFB45-C17D-4C6D-9822-EBBC95B7A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7A616-69A9-4DF0-8A6C-1B8A57B6E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9072F-CF58-47FD-9277-E5EFCC048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E12AF-B1F8-45C0-8066-CBC5A2DB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E1A75-C906-4DF1-9628-8E7C1C63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C9555-7558-4D18-A5F0-69174AE0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C2179-DFB1-4AEA-9BBA-FBFCBC8DDFA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66F1-6380-4214-BF4E-A2D5B98AF2D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0" y="106668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PROFILAKSIS  </a:t>
            </a:r>
            <a:br>
              <a:rPr sz="5400"/>
            </a:b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  PASCA PAJANAN</a:t>
            </a:r>
            <a:br>
              <a:rPr sz="6100"/>
            </a:br>
            <a:br>
              <a:rPr sz="6100"/>
            </a:br>
            <a:br>
              <a:rPr sz="6100"/>
            </a:br>
            <a:r>
              <a:rPr b="0" lang="en-US" sz="61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61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6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40960" y="495360"/>
            <a:ext cx="69454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200" spc="-1" strike="noStrike">
                <a:solidFill>
                  <a:srgbClr val="ffff00"/>
                </a:solidFill>
                <a:latin typeface="Book Antiqua"/>
                <a:ea typeface="Times New Roman"/>
              </a:rPr>
              <a:t>Alur PPP pada pajanan HIV:</a:t>
            </a:r>
            <a:r>
              <a:rPr b="1" lang="id-ID" sz="2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200"/>
            </a:br>
            <a:r>
              <a:rPr b="1" lang="id-ID" sz="22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1" lang="id-ID" sz="2100" spc="-1" strike="noStrike">
                <a:solidFill>
                  <a:srgbClr val="ffff00"/>
                </a:solidFill>
                <a:latin typeface="Arial"/>
              </a:rPr>
              <a:t>Menentukan Kategori/ status HIV sumber pajanan  (KS-HIV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03560" y="1828800"/>
            <a:ext cx="3968640" cy="33336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Arial Narrow"/>
              </a:rPr>
              <a:t>Bagaimanakah Status HIV dari Sumber Pajanan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403280" y="5965920"/>
            <a:ext cx="1081080" cy="342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KS HIV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391520" y="4267080"/>
            <a:ext cx="1008000" cy="520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KS HIV </a:t>
            </a:r>
            <a:r>
              <a:rPr b="0" lang="id-ID" sz="1400" spc="-1" strike="noStrike">
                <a:solidFill>
                  <a:srgbClr val="000000"/>
                </a:solidFill>
                <a:latin typeface="Arial Narrow"/>
              </a:rPr>
              <a:t>tidak tah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2666880"/>
            <a:ext cx="1224000" cy="33336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HIV (-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157560" y="2685960"/>
            <a:ext cx="747720" cy="33336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HIV (+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1" name=""/>
          <p:cNvCxnSpPr>
            <a:stCxn id="176" idx="2"/>
            <a:endCxn id="180" idx="0"/>
          </p:cNvCxnSpPr>
          <p:nvPr/>
        </p:nvCxnSpPr>
        <p:spPr>
          <a:xfrm rot="5400000">
            <a:off x="3597480" y="2095560"/>
            <a:ext cx="524160" cy="656280"/>
          </a:xfrm>
          <a:prstGeom prst="bentConnector3">
            <a:avLst>
              <a:gd name="adj1" fmla="val 4996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76" idx="2"/>
            <a:endCxn id="183" idx="0"/>
          </p:cNvCxnSpPr>
          <p:nvPr/>
        </p:nvCxnSpPr>
        <p:spPr>
          <a:xfrm flipH="1" rot="16200000">
            <a:off x="4645080" y="1703520"/>
            <a:ext cx="546480" cy="1462680"/>
          </a:xfrm>
          <a:prstGeom prst="bentConnector3">
            <a:avLst>
              <a:gd name="adj1" fmla="val 49967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6" idx="2"/>
            <a:endCxn id="185" idx="0"/>
          </p:cNvCxnSpPr>
          <p:nvPr/>
        </p:nvCxnSpPr>
        <p:spPr>
          <a:xfrm flipH="1" rot="16200000">
            <a:off x="5774760" y="573840"/>
            <a:ext cx="524160" cy="3699720"/>
          </a:xfrm>
          <a:prstGeom prst="bentConnector3">
            <a:avLst>
              <a:gd name="adj1" fmla="val 4996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76" idx="2"/>
            <a:endCxn id="179" idx="0"/>
          </p:cNvCxnSpPr>
          <p:nvPr/>
        </p:nvCxnSpPr>
        <p:spPr>
          <a:xfrm rot="5400000">
            <a:off x="2413800" y="893520"/>
            <a:ext cx="505440" cy="3042360"/>
          </a:xfrm>
          <a:prstGeom prst="bentConnector3">
            <a:avLst>
              <a:gd name="adj1" fmla="val 4996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85" name=""/>
          <p:cNvSpPr/>
          <p:nvPr/>
        </p:nvSpPr>
        <p:spPr>
          <a:xfrm>
            <a:off x="7240680" y="2685960"/>
            <a:ext cx="1292040" cy="5270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Arial Narrow"/>
              </a:rPr>
              <a:t>Tak diketahui sumberny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9640" y="3371760"/>
            <a:ext cx="1224000" cy="3445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000066"/>
                </a:solidFill>
                <a:latin typeface="Arial Narrow"/>
              </a:rPr>
              <a:t>Tak perlu PP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00000" y="4537080"/>
            <a:ext cx="2087640" cy="8366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Arial Narrow"/>
              </a:rPr>
              <a:t>Pajanan dengan titer rendah, mis. Asimtomatik dan CD4 tingg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83" idx="2"/>
            <a:endCxn id="178" idx="0"/>
          </p:cNvCxnSpPr>
          <p:nvPr/>
        </p:nvCxnSpPr>
        <p:spPr>
          <a:xfrm flipH="1" rot="16200000">
            <a:off x="6257160" y="2627640"/>
            <a:ext cx="1032480" cy="2247120"/>
          </a:xfrm>
          <a:prstGeom prst="bentConnector3">
            <a:avLst>
              <a:gd name="adj1" fmla="val 49982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"/>
          <p:cNvCxnSpPr>
            <a:stCxn id="185" idx="2"/>
            <a:endCxn id="178" idx="0"/>
          </p:cNvCxnSpPr>
          <p:nvPr/>
        </p:nvCxnSpPr>
        <p:spPr>
          <a:xfrm flipH="1" rot="16200000">
            <a:off x="7364520" y="3735000"/>
            <a:ext cx="1054800" cy="10080"/>
          </a:xfrm>
          <a:prstGeom prst="bentConnector3">
            <a:avLst>
              <a:gd name="adj1" fmla="val 49982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>
            <a:off x="3564000" y="4546440"/>
            <a:ext cx="2448000" cy="97020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Arial Narrow"/>
              </a:rPr>
              <a:t>Pajanan dengan titer tinggi, mis. AIDS lanjut, infeksi HIV primer, VL yang meningkat atau tinggi atau CD4 renda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79" idx="2"/>
            <a:endCxn id="187" idx="0"/>
          </p:cNvCxnSpPr>
          <p:nvPr/>
        </p:nvCxnSpPr>
        <p:spPr>
          <a:xfrm flipH="1" rot="16200000">
            <a:off x="962640" y="3182760"/>
            <a:ext cx="372240" cy="6840"/>
          </a:xfrm>
          <a:prstGeom prst="bentConnector3">
            <a:avLst>
              <a:gd name="adj1" fmla="val 49951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3" name=""/>
          <p:cNvSpPr/>
          <p:nvPr/>
        </p:nvSpPr>
        <p:spPr>
          <a:xfrm>
            <a:off x="4284720" y="5950080"/>
            <a:ext cx="1008000" cy="342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KS HIV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003640" y="2708280"/>
            <a:ext cx="1292400" cy="5270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Arial Narrow"/>
              </a:rPr>
              <a:t>Tak diketahu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80" idx="2"/>
            <a:endCxn id="188" idx="0"/>
          </p:cNvCxnSpPr>
          <p:nvPr/>
        </p:nvCxnSpPr>
        <p:spPr>
          <a:xfrm rot="5400000">
            <a:off x="1978920" y="2984400"/>
            <a:ext cx="1518480" cy="1588320"/>
          </a:xfrm>
          <a:prstGeom prst="bentConnector3">
            <a:avLst>
              <a:gd name="adj1" fmla="val 49988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"/>
          <p:cNvCxnSpPr>
            <a:stCxn id="180" idx="2"/>
            <a:endCxn id="191" idx="0"/>
          </p:cNvCxnSpPr>
          <p:nvPr/>
        </p:nvCxnSpPr>
        <p:spPr>
          <a:xfrm flipH="1" rot="16200000">
            <a:off x="3396600" y="3154680"/>
            <a:ext cx="1527840" cy="1256400"/>
          </a:xfrm>
          <a:prstGeom prst="bentConnector3">
            <a:avLst>
              <a:gd name="adj1" fmla="val 49988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6" name=""/>
          <p:cNvCxnSpPr>
            <a:stCxn id="188" idx="2"/>
            <a:endCxn id="177" idx="0"/>
          </p:cNvCxnSpPr>
          <p:nvPr/>
        </p:nvCxnSpPr>
        <p:spPr>
          <a:xfrm flipV="1" rot="10800000">
            <a:off x="1944000" y="5373360"/>
            <a:ext cx="1080" cy="59292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91" idx="2"/>
            <a:endCxn id="193" idx="0"/>
          </p:cNvCxnSpPr>
          <p:nvPr/>
        </p:nvCxnSpPr>
        <p:spPr>
          <a:xfrm flipH="1" rot="16200000">
            <a:off x="4572000" y="5732280"/>
            <a:ext cx="434160" cy="2160"/>
          </a:xfrm>
          <a:prstGeom prst="bentConnector3">
            <a:avLst>
              <a:gd name="adj1" fmla="val 49792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8" name=""/>
          <p:cNvSpPr/>
          <p:nvPr/>
        </p:nvSpPr>
        <p:spPr>
          <a:xfrm>
            <a:off x="7164360" y="5300640"/>
            <a:ext cx="1440000" cy="936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000066"/>
                </a:solidFill>
                <a:latin typeface="Arial Narrow"/>
              </a:rPr>
              <a:t>Pada umumnya Tak perlu PPP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000066"/>
                </a:solidFill>
                <a:latin typeface="Arial Narrow"/>
              </a:rPr>
              <a:t>Perlu telaah kasus per kasu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9" name=""/>
          <p:cNvCxnSpPr>
            <a:stCxn id="178" idx="2"/>
            <a:endCxn id="198" idx="0"/>
          </p:cNvCxnSpPr>
          <p:nvPr/>
        </p:nvCxnSpPr>
        <p:spPr>
          <a:xfrm rot="5400000">
            <a:off x="7633440" y="5038560"/>
            <a:ext cx="513360" cy="11880"/>
          </a:xfrm>
          <a:prstGeom prst="bentConnector3">
            <a:avLst>
              <a:gd name="adj1" fmla="val 498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52680" y="189000"/>
            <a:ext cx="73404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200" spc="-1" strike="noStrike">
                <a:solidFill>
                  <a:srgbClr val="ffff00"/>
                </a:solidFill>
                <a:latin typeface="Book Antiqua"/>
                <a:ea typeface="Times New Roman"/>
              </a:rPr>
              <a:t>Alur PPP pada pajanan HIV</a:t>
            </a:r>
            <a:r>
              <a:rPr b="0" lang="id-ID" sz="2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200"/>
            </a:br>
            <a:r>
              <a:rPr b="0" lang="id-ID" sz="2200" spc="-1" strike="noStrike">
                <a:solidFill>
                  <a:srgbClr val="ffff00"/>
                </a:solidFill>
                <a:latin typeface="Arial"/>
              </a:rPr>
              <a:t>3. </a:t>
            </a:r>
            <a:r>
              <a:rPr b="0" lang="id-ID" sz="2200" spc="-1" strike="noStrike">
                <a:solidFill>
                  <a:srgbClr val="ffff00"/>
                </a:solidFill>
                <a:latin typeface="Arial"/>
                <a:ea typeface="Times New Roman"/>
              </a:rPr>
              <a:t>Menentukan Pengobatan Profilaksis Pasca Pajanan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304920" y="1143000"/>
          <a:ext cx="8388360" cy="5668920"/>
        </p:xfrm>
        <a:graphic>
          <a:graphicData uri="http://schemas.openxmlformats.org/drawingml/2006/table">
            <a:tbl>
              <a:tblPr/>
              <a:tblGrid>
                <a:gridCol w="1562040"/>
                <a:gridCol w="2467080"/>
                <a:gridCol w="4359240"/>
              </a:tblGrid>
              <a:tr h="11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ategori Pajanan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KP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ategori Sumber pajanan (KS HIV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2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komendasi  Pengobatan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7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(rendah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at tidak dianjurk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isiko toksisitas obat &gt; dari risiko terinfeksi HIV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(tinggi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timbangkan AZT + 3TC + Indinavir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+ Efavir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janan memiliki risiko yang perlu dipertimbangk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(rendah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anjurkan AZT + 3TC + Indinavir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+ Efavir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ebanyakan pajanan masuk dalan kategori in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70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atau 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anjurkan AZT + 3TC + indinavir atau nelfinavi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1159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171360" indent="-171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Anjuran pengobatan selama 4 minggu dengan </a:t>
                      </a:r>
                      <a:r>
                        <a:rPr b="0" lang="id-ID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osis: </a:t>
                      </a:r>
                      <a:br>
                        <a:rPr sz="1400"/>
                      </a:br>
                      <a:r>
                        <a:rPr b="0" lang="id-ID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AZT: 3 kali sehari @ 200 mg, atau 2 kali sehari @ 300mg</a:t>
                      </a:r>
                      <a:br>
                        <a:rPr sz="1400"/>
                      </a:br>
                      <a:r>
                        <a:rPr b="0" lang="id-ID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TC: 2 kali sehari @ 150mg</a:t>
                      </a:r>
                      <a:br>
                        <a:rPr sz="1400"/>
                      </a:br>
                      <a:r>
                        <a:rPr b="0" lang="id-ID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Indinavir: 3x sehari @ 800mg 1 jam sebelum makan atau 2 jam setelah makan dan banyak minum, diet rendah lemah</a:t>
                      </a: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/ Efaviren 1 x 600 m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CATAT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00"/>
                </a:solidFill>
                <a:latin typeface="Arial"/>
              </a:rPr>
              <a:t>Tanggal dan jam kejadian (pajana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00"/>
                </a:solidFill>
                <a:latin typeface="Arial"/>
              </a:rPr>
              <a:t>Uraian kejadian lebih rinc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00"/>
                </a:solidFill>
                <a:latin typeface="Arial"/>
              </a:rPr>
              <a:t>Sumber pajanan bila diketahu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00"/>
                </a:solidFill>
                <a:latin typeface="Arial"/>
              </a:rPr>
              <a:t>Pengobatan PPP secara rinci bila mendapatkanny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00"/>
                </a:solidFill>
                <a:latin typeface="Arial"/>
              </a:rPr>
              <a:t>Tindak lanj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00"/>
                </a:solidFill>
                <a:latin typeface="Arial"/>
              </a:rPr>
              <a:t>Hasil pengobat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00"/>
                </a:solidFill>
                <a:latin typeface="Arial"/>
              </a:rPr>
              <a:t>Simpan semua data pajan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676160" y="83808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id-ID" sz="3000" spc="-1" strike="noStrike">
                <a:solidFill>
                  <a:srgbClr val="ffff00"/>
                </a:solidFill>
                <a:latin typeface="Arial"/>
              </a:rPr>
              <a:t>Tatalaksana 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PP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676160" y="16765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00"/>
                </a:solidFill>
                <a:latin typeface="Arial"/>
              </a:rPr>
              <a:t>Konseling prates untuk petugas kesehatan yang terpaj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00"/>
                </a:solidFill>
                <a:latin typeface="Arial"/>
              </a:rPr>
              <a:t>Lakukan pemeriksaan aw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100" spc="-1" strike="noStrike">
                <a:solidFill>
                  <a:srgbClr val="ffff00"/>
                </a:solidFill>
                <a:latin typeface="Arial"/>
              </a:rPr>
              <a:t>HIV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100" spc="-1" strike="noStrike">
                <a:solidFill>
                  <a:srgbClr val="ffff00"/>
                </a:solidFill>
                <a:latin typeface="Arial"/>
              </a:rPr>
              <a:t>Hep B and C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100" spc="-1" strike="noStrike">
                <a:solidFill>
                  <a:srgbClr val="ffff00"/>
                </a:solidFill>
                <a:latin typeface="Arial"/>
              </a:rPr>
              <a:t>Syphilis</a:t>
            </a:r>
            <a:r>
              <a:rPr b="0" lang="en-US" sz="21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id-ID" sz="2100" spc="-1" strike="noStrike">
                <a:solidFill>
                  <a:srgbClr val="ffff00"/>
                </a:solidFill>
                <a:latin typeface="Arial"/>
              </a:rPr>
              <a:t> malaria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00"/>
                </a:solidFill>
                <a:latin typeface="Arial"/>
              </a:rPr>
              <a:t>Beri konseling untuk tidak menjadi donor darah, harus berperilaku seksual dan suntikan yang aman sampai hasil diketahu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00"/>
                </a:solidFill>
                <a:latin typeface="Arial"/>
              </a:rPr>
              <a:t>Konseling pasca tes dan berikan hasil tes awal secepat mungkin kepada terpaj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676160" y="609120"/>
            <a:ext cx="70102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00"/>
                </a:solidFill>
                <a:latin typeface="Arial"/>
              </a:rPr>
              <a:t>Informasi kepada orang yang terpaj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00"/>
                </a:solidFill>
                <a:latin typeface="Arial"/>
              </a:rPr>
              <a:t>Risiko transmisi HIV setelah Pajanan Darah = 0.3% jika sumber pasien adalah HIV positi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00"/>
                </a:solidFill>
                <a:latin typeface="Arial"/>
              </a:rPr>
              <a:t>Risiko transmisi sesuai dengan jenis kecelaka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00"/>
                </a:solidFill>
                <a:latin typeface="Arial"/>
              </a:rPr>
              <a:t>PPP tergantung pada kegawatan pajanan dan status HIV dari sumber pasi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00"/>
                </a:solidFill>
                <a:latin typeface="Arial"/>
              </a:rPr>
              <a:t>PPP tidak 100% efekti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00"/>
                </a:solidFill>
                <a:latin typeface="Arial"/>
              </a:rPr>
              <a:t>Minum AR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00"/>
                </a:solidFill>
                <a:latin typeface="Arial"/>
              </a:rPr>
              <a:t>Efek samping ARV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00"/>
                </a:solidFill>
                <a:latin typeface="Arial"/>
              </a:rPr>
              <a:t>Hindari hubungan seks yang tak terlindungi sampai konfirmasi setelah 3 bu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1676160" y="1980720"/>
            <a:ext cx="701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00"/>
                </a:solidFill>
                <a:latin typeface="Arial"/>
              </a:rPr>
              <a:t>Penjelasan yang jelas oleh dokter mengenai risiko dan tindakan yang dapat digunakan untuk melepaskan stress dan kegelisaha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00"/>
                </a:solidFill>
                <a:latin typeface="Arial"/>
              </a:rPr>
              <a:t>Keputusan PPP harus ditangan terpaja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00"/>
                </a:solidFill>
                <a:latin typeface="Arial"/>
              </a:rPr>
              <a:t>Tanda tangani formulir penolakan jika Petugas Kesehatan menolak PP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1676160" y="9144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900" spc="-1" strike="noStrike">
                <a:solidFill>
                  <a:srgbClr val="ffff00"/>
                </a:solidFill>
                <a:latin typeface="Arial"/>
              </a:rPr>
              <a:t>Informasi kepada orang yang terpaja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33360" y="304920"/>
            <a:ext cx="556236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900" spc="-1" strike="noStrike">
                <a:solidFill>
                  <a:srgbClr val="ffff00"/>
                </a:solidFill>
                <a:latin typeface="Arial"/>
              </a:rPr>
              <a:t>Follow up Laboratoris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990720"/>
          <a:ext cx="8458200" cy="5105160"/>
        </p:xfrm>
        <a:graphic>
          <a:graphicData uri="http://schemas.openxmlformats.org/drawingml/2006/table">
            <a:tbl>
              <a:tblPr/>
              <a:tblGrid>
                <a:gridCol w="2133720"/>
                <a:gridCol w="3102120"/>
                <a:gridCol w="3222360"/>
              </a:tblGrid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akt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Jika meminum PP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idak meminum PP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162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ata Dasar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Dalam waktu 8 hari)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IV, HCV, HBV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L, Transaminas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IV, HCV, HBV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inggu ke 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ransaminas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ransaminas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ulan ke 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IV, HCV, HBV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ransaminas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IV, HCV, HBV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ransaminas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ulan ke 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IV, HCV, HBV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ransaminas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IV, HCV, HBV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ransaminas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160" y="6858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00"/>
                </a:solidFill>
                <a:latin typeface="Arial"/>
              </a:rPr>
              <a:t>INGAT!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00"/>
                </a:solidFill>
                <a:latin typeface="Arial"/>
              </a:rPr>
              <a:t>HIV dan virus-virus lebih cenderung ditularkan melalu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500" spc="-1" strike="noStrike">
                <a:solidFill>
                  <a:srgbClr val="ffff00"/>
                </a:solidFill>
                <a:latin typeface="Arial"/>
              </a:rPr>
              <a:t>HUBUNGAN SEKSUAL atau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500" spc="-1" strike="noStrike">
                <a:solidFill>
                  <a:srgbClr val="ffff00"/>
                </a:solidFill>
                <a:latin typeface="Arial"/>
              </a:rPr>
              <a:t>melalui TRANSFUSI DARAH yang terkontaminasi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00"/>
                </a:solidFill>
                <a:latin typeface="Arial"/>
              </a:rPr>
              <a:t>Kemungkinan tertular sebagai akibat pajanan pada kecelakaan kerja lebih kec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00"/>
                </a:solidFill>
                <a:latin typeface="Arial"/>
              </a:rPr>
              <a:t>Follow up </a:t>
            </a:r>
            <a:r>
              <a:rPr b="0" lang="id-ID" sz="3900" spc="-1" strike="noStrike">
                <a:solidFill>
                  <a:srgbClr val="ffff00"/>
                </a:solidFill>
                <a:latin typeface="Arial"/>
              </a:rPr>
              <a:t>klini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752480" y="1676160"/>
            <a:ext cx="6632640" cy="37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00"/>
                </a:solidFill>
                <a:latin typeface="Arial"/>
              </a:rPr>
              <a:t>Amati tanda-tanda yang menunjukan serokonversi HIV (dalam 50-70%) dalam waktu 3 sampai 6 mingg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500" spc="-1" strike="noStrike">
                <a:solidFill>
                  <a:srgbClr val="ffff00"/>
                </a:solidFill>
                <a:latin typeface="Arial"/>
              </a:rPr>
              <a:t>Demam akut,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500" spc="-1" strike="noStrike">
                <a:solidFill>
                  <a:srgbClr val="ffff00"/>
                </a:solidFill>
                <a:latin typeface="Arial"/>
              </a:rPr>
              <a:t>Lymphadenopathy yang tersebar,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500" spc="-1" strike="noStrike">
                <a:solidFill>
                  <a:srgbClr val="ffff00"/>
                </a:solidFill>
                <a:latin typeface="Arial"/>
              </a:rPr>
              <a:t>Erupsi kuli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500" spc="-1" strike="noStrike">
                <a:solidFill>
                  <a:srgbClr val="ffff00"/>
                </a:solidFill>
                <a:latin typeface="Arial"/>
              </a:rPr>
              <a:t>Faringitis,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500" spc="-1" strike="noStrike">
                <a:solidFill>
                  <a:srgbClr val="ffff00"/>
                </a:solidFill>
                <a:latin typeface="Arial"/>
              </a:rPr>
              <a:t>Gejala-gejala flu non-specific,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500" spc="-1" strike="noStrike">
                <a:solidFill>
                  <a:srgbClr val="ffff00"/>
                </a:solidFill>
                <a:latin typeface="Arial"/>
              </a:rPr>
              <a:t>ulkus mulut atau area genital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160" y="837720"/>
            <a:ext cx="70102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900" spc="-1" strike="noStrike">
                <a:solidFill>
                  <a:srgbClr val="ffff00"/>
                </a:solidFill>
                <a:latin typeface="Arial"/>
              </a:rPr>
              <a:t>Evaluasi perilaku dan pengelolaan benda tajam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676160" y="2285640"/>
            <a:ext cx="7010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00"/>
                </a:solidFill>
                <a:latin typeface="Arial"/>
              </a:rPr>
              <a:t>Bila banyak kecelakaan telaah perilaku atau alat perlu digan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00"/>
                </a:solidFill>
                <a:latin typeface="Arial"/>
              </a:rPr>
              <a:t>Kurangi jahitan - ganti penggunaan ple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00"/>
                </a:solidFill>
                <a:latin typeface="Arial"/>
              </a:rPr>
              <a:t>Sejauh mungkin hindari suntikan – terbatas yang sangat perlu sa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00"/>
                </a:solidFill>
                <a:latin typeface="Arial"/>
              </a:rPr>
              <a:t>Hindari episiotomi yang tidak perl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500" spc="-1" strike="noStrike">
                <a:solidFill>
                  <a:srgbClr val="ffff00"/>
                </a:solidFill>
                <a:latin typeface="Arial"/>
              </a:rPr>
              <a:t>Profilaksis Pasca Pajanan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00"/>
                </a:solidFill>
                <a:latin typeface="Arial"/>
              </a:rPr>
              <a:t>Kewaspadaan Universal merupakan prioritas uta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00"/>
                </a:solidFill>
                <a:latin typeface="Arial"/>
              </a:rPr>
              <a:t>Setiap Rumah Sakit perlu memiliki protokol tatalaksan pasca pajanan/ pengobat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00"/>
                </a:solidFill>
                <a:latin typeface="Arial"/>
              </a:rPr>
              <a:t>Selalu melakukan pemantauan dan pencatatan setiap pajanan pada kecelakaan ker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160" y="76212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900" spc="-1" strike="noStrike">
                <a:solidFill>
                  <a:srgbClr val="ffff00"/>
                </a:solidFill>
                <a:latin typeface="Arial"/>
              </a:rPr>
              <a:t>Risiko Kecelakaan Kerja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00"/>
                </a:solidFill>
                <a:latin typeface="Arial"/>
              </a:rPr>
              <a:t>Risiko penularan HIV setelah tertusuk jarum dari klien HIV positif </a:t>
            </a:r>
            <a:r>
              <a:rPr b="0" lang="id-ID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id-ID" sz="2800" spc="-1" strike="noStrike">
                <a:solidFill>
                  <a:srgbClr val="ffff00"/>
                </a:solidFill>
                <a:latin typeface="Arial"/>
              </a:rPr>
              <a:t> 3 : 1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00"/>
                </a:solidFill>
                <a:latin typeface="Arial"/>
              </a:rPr>
              <a:t>Risiko penularan HBV setelah tertusuk jarum dari klien HBV positif </a:t>
            </a:r>
            <a:r>
              <a:rPr b="0" lang="id-ID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id-ID" sz="2800" spc="-1" strike="noStrike">
                <a:solidFill>
                  <a:srgbClr val="ffff00"/>
                </a:solidFill>
                <a:latin typeface="Arial"/>
              </a:rPr>
              <a:t> 27-37 : 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00"/>
                </a:solidFill>
                <a:latin typeface="Arial"/>
              </a:rPr>
              <a:t>Volume Percikan Darah terinfeksi HBV yang mampu menularkan HBV </a:t>
            </a:r>
            <a:r>
              <a:rPr b="0" lang="id-ID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id-ID" sz="2800" spc="-1" strike="noStrike">
                <a:solidFill>
                  <a:srgbClr val="ffff00"/>
                </a:solidFill>
                <a:latin typeface="Arial"/>
              </a:rPr>
              <a:t> 10</a:t>
            </a:r>
            <a:r>
              <a:rPr b="0" lang="id-ID" sz="2800" spc="-1" strike="noStrike" baseline="30000">
                <a:solidFill>
                  <a:srgbClr val="ffff00"/>
                </a:solidFill>
                <a:latin typeface="Arial"/>
              </a:rPr>
              <a:t>-8</a:t>
            </a:r>
            <a:r>
              <a:rPr b="0" lang="id-ID" sz="2800" spc="-1" strike="noStrike">
                <a:solidFill>
                  <a:srgbClr val="ffff00"/>
                </a:solidFill>
                <a:latin typeface="Arial"/>
              </a:rPr>
              <a:t>ml = 0.00000001 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47920" y="9140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500" spc="-1" strike="noStrike">
                <a:solidFill>
                  <a:srgbClr val="ffff00"/>
                </a:solidFill>
                <a:latin typeface="Arial"/>
              </a:rPr>
              <a:t>Risiko Penularan di </a:t>
            </a:r>
            <a:br>
              <a:rPr sz="3500"/>
            </a:br>
            <a:r>
              <a:rPr b="0" lang="id-ID" sz="3500" spc="-1" strike="noStrike">
                <a:solidFill>
                  <a:srgbClr val="ffff00"/>
                </a:solidFill>
                <a:latin typeface="Arial"/>
              </a:rPr>
              <a:t>Sarana Pelayanan Kesehatan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762120" y="2286000"/>
          <a:ext cx="7543800" cy="3352680"/>
        </p:xfrm>
        <a:graphic>
          <a:graphicData uri="http://schemas.openxmlformats.org/drawingml/2006/table">
            <a:tbl>
              <a:tblPr/>
              <a:tblGrid>
                <a:gridCol w="1627200"/>
                <a:gridCol w="2958120"/>
                <a:gridCol w="2958480"/>
              </a:tblGrid>
              <a:tr h="66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g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ra pajan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id-ID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esiko infeks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B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erkutane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0 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C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erkutane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 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I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erkutane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0.3 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I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ukokutane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0.03 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15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900" spc="-1" strike="noStrike">
                <a:solidFill>
                  <a:srgbClr val="ffff00"/>
                </a:solidFill>
                <a:latin typeface="Arial"/>
              </a:rPr>
              <a:t>Tindakan yang paling berisiko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71600" y="1980720"/>
            <a:ext cx="7237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00"/>
                </a:solidFill>
                <a:latin typeface="Arial"/>
              </a:rPr>
              <a:t>Pengambilan darah, penutupan kembali jarum sunti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00"/>
                </a:solidFill>
                <a:latin typeface="Arial"/>
              </a:rPr>
              <a:t>Memasukan dan menangani cairan I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00"/>
                </a:solidFill>
                <a:latin typeface="Arial"/>
              </a:rPr>
              <a:t>Oper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00"/>
                </a:solidFill>
                <a:latin typeface="Arial"/>
              </a:rPr>
              <a:t>Menangani darah atau cairan tubuh yang terinfeksi di laborator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00"/>
                </a:solidFill>
                <a:latin typeface="Arial"/>
              </a:rPr>
              <a:t>Membersihkan, menangani dan menghancurkan limbah sampah dan alat-alat medis yang terkontamin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00"/>
                </a:solidFill>
                <a:latin typeface="Arial"/>
              </a:rPr>
              <a:t>TERUTAMA DALAM KEADAAN TERBURU-BURU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1676160" y="2286000"/>
            <a:ext cx="70102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900" spc="-1" strike="noStrike">
                <a:solidFill>
                  <a:srgbClr val="ffff00"/>
                </a:solidFill>
                <a:latin typeface="Arial"/>
              </a:rPr>
              <a:t>Mutu pelayanan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900" spc="-1" strike="noStrike">
                <a:solidFill>
                  <a:srgbClr val="ffff00"/>
                </a:solidFill>
                <a:latin typeface="Arial"/>
              </a:rPr>
              <a:t>Keamanan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900" spc="-1" strike="noStrike">
                <a:solidFill>
                  <a:srgbClr val="ffff00"/>
                </a:solidFill>
                <a:latin typeface="Arial"/>
              </a:rPr>
              <a:t>Kesejahteraan pekerja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1676160" y="11430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900" spc="-1" strike="noStrike">
                <a:solidFill>
                  <a:srgbClr val="ffff00"/>
                </a:solidFill>
                <a:latin typeface="Arial"/>
              </a:rPr>
              <a:t>Kondisi lingkungan kerja mempengaruhi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676160" y="76212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00"/>
                </a:solidFill>
                <a:latin typeface="Arial"/>
              </a:rPr>
              <a:t>Kewaspadaan Universal membantu menciptakan lingkungan kerja yang ama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371240" y="2334960"/>
            <a:ext cx="7118280" cy="37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66"/>
                </a:solidFill>
                <a:latin typeface="Arial"/>
              </a:rPr>
              <a:t>Upaya meningkatkan keamanan dan lingkungan kerja yang kondusi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100" spc="-1" strike="noStrike">
                <a:solidFill>
                  <a:srgbClr val="ffff00"/>
                </a:solidFill>
                <a:latin typeface="Arial"/>
              </a:rPr>
              <a:t>Pemahaman para manager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ffff00"/>
                </a:solidFill>
                <a:latin typeface="Arial"/>
              </a:rPr>
              <a:t>risiko kerja dan cara pencegaha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ffff00"/>
                </a:solidFill>
                <a:latin typeface="Arial"/>
              </a:rPr>
              <a:t>tatalaksana kecelakaan kerj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100" spc="-1" strike="noStrike">
                <a:solidFill>
                  <a:srgbClr val="ffff00"/>
                </a:solidFill>
                <a:latin typeface="Arial"/>
              </a:rPr>
              <a:t>Penyediaan alat pelindung, bahan dan sarana perlengkapan KU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100" spc="-1" strike="noStrike">
                <a:solidFill>
                  <a:srgbClr val="ffff00"/>
                </a:solidFill>
                <a:latin typeface="Arial"/>
              </a:rPr>
              <a:t>Pengembangan kebijakan, prosedur kerja yang rinci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100" spc="-1" strike="noStrike">
                <a:solidFill>
                  <a:srgbClr val="ffff00"/>
                </a:solidFill>
                <a:latin typeface="Arial"/>
              </a:rPr>
              <a:t>Dukungan bagi tenaga kesehatan: stres, burnout, PPP, konseling pasca pajanan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100" spc="-1" strike="noStrike">
                <a:solidFill>
                  <a:srgbClr val="ffff00"/>
                </a:solidFill>
                <a:latin typeface="Arial"/>
              </a:rPr>
              <a:t>Supervisi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100" spc="-1" strike="noStrike">
                <a:solidFill>
                  <a:srgbClr val="ffff00"/>
                </a:solidFill>
                <a:latin typeface="Arial"/>
              </a:rPr>
              <a:t>Surveilan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114800" y="4495680"/>
            <a:ext cx="4716360" cy="150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erima kasih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ffff00"/>
                </a:solidFill>
                <a:latin typeface="Arial"/>
              </a:rPr>
              <a:t>Pajanan pada Kecelakaan Kerj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4920" y="1752480"/>
            <a:ext cx="3490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00"/>
                </a:solidFill>
                <a:latin typeface="Arial"/>
              </a:rPr>
              <a:t>Pajana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00"/>
                </a:solidFill>
                <a:latin typeface="Arial"/>
              </a:rPr>
              <a:t>Perlukaan kul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00"/>
                </a:solidFill>
                <a:latin typeface="Arial"/>
              </a:rPr>
              <a:t>Pajanan pada selaput muko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00"/>
                </a:solidFill>
                <a:latin typeface="Arial"/>
              </a:rPr>
              <a:t>Pajanan melalui kulit yang lu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00"/>
                </a:solidFill>
                <a:latin typeface="Arial"/>
              </a:rPr>
              <a:t>Gigitan yang berdar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4720" y="1752120"/>
            <a:ext cx="4402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00"/>
                </a:solidFill>
                <a:latin typeface="Arial"/>
              </a:rPr>
              <a:t>Bahan Pajan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00"/>
                </a:solidFill>
                <a:latin typeface="Arial"/>
              </a:rPr>
              <a:t>Dara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00"/>
                </a:solidFill>
                <a:latin typeface="Arial"/>
              </a:rPr>
              <a:t>Cairan bercampur darah yang kasat  m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00"/>
                </a:solidFill>
                <a:latin typeface="Arial"/>
              </a:rPr>
              <a:t>Cairan yang potensial terinfeksi: semen, cairan vagina, c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id-ID" sz="2400" spc="-1" strike="noStrike">
                <a:solidFill>
                  <a:srgbClr val="ffff00"/>
                </a:solidFill>
                <a:latin typeface="Arial"/>
              </a:rPr>
              <a:t> serebrospinal, c. sinovia, c. pleura, c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id-ID" sz="2400" spc="-1" strike="noStrike">
                <a:solidFill>
                  <a:srgbClr val="ffff00"/>
                </a:solidFill>
                <a:latin typeface="Arial"/>
              </a:rPr>
              <a:t> peritoneal, c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id-ID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id-ID" sz="2400" spc="-1" strike="noStrike">
                <a:solidFill>
                  <a:srgbClr val="ffff00"/>
                </a:solidFill>
                <a:latin typeface="Arial"/>
              </a:rPr>
              <a:t>mnion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id-ID" sz="2400" spc="-1" strike="noStrike">
                <a:solidFill>
                  <a:srgbClr val="ffff00"/>
                </a:solidFill>
                <a:latin typeface="Arial"/>
              </a:rPr>
              <a:t> c. perickardial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00"/>
                </a:solidFill>
                <a:latin typeface="Arial"/>
              </a:rPr>
              <a:t>Virus yang terkonsentras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124000" y="1773360"/>
            <a:ext cx="4465800" cy="41767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500" spc="-1" strike="noStrike">
                <a:solidFill>
                  <a:srgbClr val="ffff00"/>
                </a:solidFill>
                <a:latin typeface="Arial"/>
              </a:rPr>
              <a:t>Tatalaksana Pajananan</a:t>
            </a:r>
            <a:r>
              <a:rPr b="0" lang="en-US" sz="35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d-ID" sz="35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US" sz="3500" spc="-1" strike="noStrike">
                <a:solidFill>
                  <a:srgbClr val="ffff00"/>
                </a:solidFill>
                <a:latin typeface="Arial"/>
              </a:rPr>
              <a:t> 1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95640" y="2565360"/>
            <a:ext cx="4464000" cy="31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800" spc="-1" strike="noStrike">
                <a:solidFill>
                  <a:srgbClr val="00ff00"/>
                </a:solidFill>
                <a:latin typeface="Arial"/>
              </a:rPr>
              <a:t>Jangan Panik </a:t>
            </a:r>
            <a:r>
              <a:rPr b="0" lang="id-ID" sz="6600" spc="-1" strike="noStrike">
                <a:solidFill>
                  <a:srgbClr val="00ff00"/>
                </a:solidFill>
                <a:latin typeface="Arial"/>
              </a:rPr>
              <a:t>!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600" spc="-1" strike="noStrike">
                <a:solidFill>
                  <a:srgbClr val="ffff00"/>
                </a:solidFill>
                <a:latin typeface="Arial"/>
              </a:rPr>
              <a:t>Tapi  selesaikan dalam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800" spc="-1" strike="noStrike">
                <a:solidFill>
                  <a:srgbClr val="ffff00"/>
                </a:solidFill>
                <a:latin typeface="Arial"/>
              </a:rPr>
              <a:t>&lt;4 jam</a:t>
            </a:r>
            <a:r>
              <a:rPr b="0" lang="id-ID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012000" y="4365720"/>
            <a:ext cx="222552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758880"/>
            <a:ext cx="7010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900" spc="-1" strike="noStrike">
                <a:solidFill>
                  <a:srgbClr val="ffff00"/>
                </a:solidFill>
                <a:latin typeface="Arial"/>
              </a:rPr>
              <a:t>Tatalaksana Pajananan: 2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2280" y="2361960"/>
            <a:ext cx="17575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200" spc="-1" strike="noStrike">
                <a:solidFill>
                  <a:srgbClr val="ffff00"/>
                </a:solidFill>
                <a:latin typeface="Arial"/>
              </a:rPr>
              <a:t>Sege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1905120" y="1628280"/>
            <a:ext cx="678168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Luka tusuk </a:t>
            </a:r>
            <a:r>
              <a:rPr b="0" lang="id-ID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id-ID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bilas air mengalir dan sabun / antisepti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Pajanan mukosa mulut </a:t>
            </a:r>
            <a:r>
              <a:rPr b="0" lang="id-ID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id-ID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ludahkan dan kum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Pajanan mukosa mata </a:t>
            </a:r>
            <a:r>
              <a:rPr b="0" lang="id-ID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id-ID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irigasi dg air/ garam fisiolof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Pajanan mukosa hidung </a:t>
            </a:r>
            <a:r>
              <a:rPr b="0" lang="id-ID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id-ID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hembuskan keluar dan bersihkan dengan ai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00"/>
                </a:solidFill>
                <a:latin typeface="Arial"/>
              </a:rPr>
              <a:t>Jangan dihisap dengan mulut, jangan ditek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00"/>
                </a:solidFill>
                <a:latin typeface="Arial"/>
              </a:rPr>
              <a:t>Disinfeksi luka dan daerah sekitar kulit dengan salah satu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900" spc="-1" strike="noStrike">
                <a:solidFill>
                  <a:srgbClr val="ffff00"/>
                </a:solidFill>
                <a:latin typeface="Arial"/>
              </a:rPr>
              <a:t>Betadine </a:t>
            </a:r>
            <a:r>
              <a:rPr b="0" lang="id-ID" sz="1700" spc="-1" strike="noStrike">
                <a:solidFill>
                  <a:srgbClr val="ffff00"/>
                </a:solidFill>
                <a:latin typeface="Arial"/>
              </a:rPr>
              <a:t>(povidone iodine 2.5%)</a:t>
            </a:r>
            <a:r>
              <a:rPr b="0" lang="id-ID" sz="1900" spc="-1" strike="noStrike">
                <a:solidFill>
                  <a:srgbClr val="ffff00"/>
                </a:solidFill>
                <a:latin typeface="Arial"/>
              </a:rPr>
              <a:t> selama 5 mnt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900" spc="-1" strike="noStrike">
                <a:solidFill>
                  <a:srgbClr val="ffff00"/>
                </a:solidFill>
                <a:latin typeface="Arial"/>
              </a:rPr>
              <a:t>Alcohol 70% selama 3 mnt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00"/>
                </a:solidFill>
                <a:latin typeface="Arial"/>
              </a:rPr>
              <a:t>Catata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d-ID" sz="20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d-ID" sz="2000" spc="-1" strike="noStrike">
                <a:solidFill>
                  <a:srgbClr val="ffff00"/>
                </a:solidFill>
                <a:latin typeface="Arial"/>
              </a:rPr>
              <a:t>chlorhexidine cetrimide bekerja melawan HI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id-ID" sz="2000" spc="-1" strike="noStrike">
                <a:solidFill>
                  <a:srgbClr val="ffff00"/>
                </a:solidFill>
                <a:latin typeface="Arial"/>
              </a:rPr>
              <a:t> tetapi bukan HB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990720"/>
            <a:ext cx="7010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900" spc="-1" strike="noStrike">
                <a:solidFill>
                  <a:srgbClr val="ffff00"/>
                </a:solidFill>
                <a:latin typeface="Arial"/>
              </a:rPr>
              <a:t>Tatalaksana Pajananan</a:t>
            </a:r>
            <a:r>
              <a:rPr b="0" lang="en-US" sz="39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d-ID" sz="3900" spc="-1" strike="noStrike">
                <a:solidFill>
                  <a:srgbClr val="ffff00"/>
                </a:solidFill>
                <a:latin typeface="Arial"/>
              </a:rPr>
              <a:t>: 3</a:t>
            </a:r>
            <a:r>
              <a:rPr b="0" lang="en-US" sz="39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666520"/>
            <a:ext cx="233496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400" spc="-1" strike="noStrike">
                <a:solidFill>
                  <a:srgbClr val="ffff00"/>
                </a:solidFill>
                <a:latin typeface="Arial"/>
              </a:rPr>
              <a:t>Laporkan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2843280" y="1981080"/>
            <a:ext cx="5843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100" spc="-1" strike="noStrike">
                <a:solidFill>
                  <a:srgbClr val="ffff00"/>
                </a:solidFill>
                <a:latin typeface="Arial"/>
              </a:rPr>
              <a:t>Catat dan laporkan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00"/>
                </a:solidFill>
                <a:latin typeface="Arial"/>
              </a:rPr>
              <a:t>Panitia PIN, Panitia K3, Atasan langsu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00"/>
                </a:solidFill>
                <a:latin typeface="Arial"/>
              </a:rPr>
              <a:t>Agar secepat mungkin diberi PP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100" spc="-1" strike="noStrike">
                <a:solidFill>
                  <a:srgbClr val="ffff00"/>
                </a:solidFill>
                <a:latin typeface="Arial"/>
              </a:rPr>
              <a:t>Perlakukan sebagai keadaan darurat </a:t>
            </a:r>
            <a:r>
              <a:rPr b="0" lang="id-ID" sz="21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id-ID" sz="2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d-ID" sz="2000" spc="-1" strike="noStrike">
                <a:solidFill>
                  <a:srgbClr val="ffff00"/>
                </a:solidFill>
                <a:latin typeface="Arial"/>
              </a:rPr>
              <a:t>Obat PPP harus diberikan sesegera mungkin bila diperlukan (dalam 1-2 ja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100" spc="-1" strike="noStrike">
                <a:solidFill>
                  <a:srgbClr val="ffff00"/>
                </a:solidFill>
                <a:latin typeface="Arial"/>
              </a:rPr>
              <a:t>PPP setelah 72 jam tidak efektif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00"/>
                </a:solidFill>
                <a:latin typeface="Arial"/>
              </a:rPr>
              <a:t>Tetap berikan PPP bila pajanan risiko tinggi meski hingga satu minggu setelahnya (mak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00"/>
                </a:solidFill>
                <a:latin typeface="Arial"/>
              </a:rPr>
              <a:t>Pantau sesuai dengan protokol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x.</a:t>
            </a:r>
            <a:r>
              <a:rPr b="0" lang="id-ID" sz="2000" spc="-1" strike="noStrike">
                <a:solidFill>
                  <a:srgbClr val="ffff00"/>
                </a:solidFill>
                <a:latin typeface="Arial"/>
              </a:rPr>
              <a:t> AR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00"/>
                </a:solidFill>
                <a:latin typeface="Arial"/>
              </a:rPr>
              <a:t>Hitung sel darah, LFT, kepatuhan, dukung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758880"/>
            <a:ext cx="7010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900" spc="-1" strike="noStrike">
                <a:solidFill>
                  <a:srgbClr val="ffff00"/>
                </a:solidFill>
                <a:latin typeface="Arial"/>
              </a:rPr>
              <a:t>Tatalaksana Pajananan: 4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4920" y="2362320"/>
            <a:ext cx="33433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ffff00"/>
                </a:solidFill>
                <a:latin typeface="Arial"/>
              </a:rPr>
              <a:t>Pertimbangk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300" spc="-1" strike="noStrike">
                <a:solidFill>
                  <a:srgbClr val="ffff00"/>
                </a:solidFill>
                <a:latin typeface="Arial"/>
              </a:rPr>
              <a:t>Profilaksis Pasca Pajanan  (PPP)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50800" y="1980720"/>
            <a:ext cx="4535640" cy="32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500" spc="-1" strike="noStrike">
                <a:solidFill>
                  <a:srgbClr val="ffff00"/>
                </a:solidFill>
                <a:latin typeface="Arial"/>
              </a:rPr>
              <a:t>Didasarkan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300" spc="-1" strike="noStrike">
                <a:solidFill>
                  <a:srgbClr val="ffff00"/>
                </a:solidFill>
                <a:latin typeface="Arial"/>
              </a:rPr>
              <a:t>Derajat pajanan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300" spc="-1" strike="noStrike">
                <a:solidFill>
                  <a:srgbClr val="ffff00"/>
                </a:solidFill>
                <a:latin typeface="Arial"/>
              </a:rPr>
              <a:t>Status infeksi dari sumber pajanan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300" spc="-1" strike="noStrike">
                <a:solidFill>
                  <a:srgbClr val="ffff00"/>
                </a:solidFill>
                <a:latin typeface="Arial"/>
              </a:rPr>
              <a:t>Ketersediaan obat PPP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500" spc="-1" strike="noStrike">
                <a:solidFill>
                  <a:srgbClr val="ffff00"/>
                </a:solidFill>
                <a:latin typeface="Arial"/>
              </a:rPr>
              <a:t>Konseling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500" spc="-1" strike="noStrike">
                <a:solidFill>
                  <a:srgbClr val="ffff00"/>
                </a:solidFill>
                <a:latin typeface="Arial"/>
              </a:rPr>
              <a:t>Tindak lanjut dan Evaluasi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00"/>
                </a:solidFill>
                <a:latin typeface="Arial"/>
              </a:rPr>
              <a:t>PPP untuk Hepatitis B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28600" y="1143000"/>
          <a:ext cx="8610480" cy="5238720"/>
        </p:xfrm>
        <a:graphic>
          <a:graphicData uri="http://schemas.openxmlformats.org/drawingml/2006/table">
            <a:tbl>
              <a:tblPr/>
              <a:tblGrid>
                <a:gridCol w="2506680"/>
                <a:gridCol w="2214720"/>
                <a:gridCol w="1425240"/>
                <a:gridCol w="2463840"/>
              </a:tblGrid>
              <a:tr h="7369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Vaksinasi dan respon antibodi dari Petugas Kesehatan</a:t>
                      </a:r>
                      <a:r>
                        <a:rPr b="1" lang="id-ID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cc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Status infeksi Sumber Pajan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HBsAg</a:t>
                      </a:r>
                      <a:r>
                        <a:rPr b="0" lang="id-ID" sz="1400" spc="-1" strike="noStrike">
                          <a:solidFill>
                            <a:srgbClr val="ffff00"/>
                          </a:solidFill>
                          <a:latin typeface="Wingdings 2"/>
                          <a:ea typeface="Wingdings 2"/>
                        </a:rPr>
                        <a:t></a:t>
                      </a:r>
                      <a:r>
                        <a:rPr b="1" lang="id-ID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 positif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HBsAg negatif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Tidak tahu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sarana pemeriksaan (-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Belum divaksinas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1 dos HBIG + seri vaksinasi hepatitis B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Seri vaksinasi hepatitis 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Seri vaksinasi hepatitis 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Sumber pajanan berisiko tinggi </a:t>
                      </a:r>
                      <a:r>
                        <a:rPr b="0" lang="id-ID" sz="14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id-ID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 obati seperti pada HBsAg positi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Pernah divaksinas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cc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Diketahui sbg respond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Tidak perlu PP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Tidak perlu PP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Tidak perlu PP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Diketahui sbg non-respond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1 dosis HBI</a:t>
                      </a: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g</a:t>
                      </a:r>
                      <a:r>
                        <a:rPr b="0" lang="id-ID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 + ulangan seri vaksinasi hepatitis B atau 2 dosis HBI</a:t>
                      </a: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g</a:t>
                      </a:r>
                      <a:r>
                        <a:rPr b="0" lang="id-ID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Tidak perlu PP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Sumber pajanan berisiko tinggi </a:t>
                      </a:r>
                      <a:r>
                        <a:rPr b="0" lang="id-ID" sz="14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id-ID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 obati seperti pada HBsAg positi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95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Tidak diketahui status respon antibodiny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25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Anti-HBs terpajan</a:t>
                      </a:r>
                      <a:r>
                        <a:rPr b="0" lang="id-ID" sz="14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id-ID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00"/>
                        </a:buClr>
                        <a:buSzPct val="85000"/>
                        <a:buFont typeface="Wingdings" charset="2"/>
                        <a:buChar char=""/>
                        <a:tabLst>
                          <a:tab algn="l" pos="125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cukup - tidak perlu PPP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00"/>
                        </a:buClr>
                        <a:buSzPct val="85000"/>
                        <a:buFont typeface="Wingdings" charset="2"/>
                        <a:buChar char=""/>
                        <a:tabLst>
                          <a:tab algn="l" pos="125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tidak cukup - 1 dosis HBI</a:t>
                      </a: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g</a:t>
                      </a:r>
                      <a:r>
                        <a:rPr b="0" lang="id-ID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 + vaksin bost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Tidak perlu PP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25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Anti-HBs terpajan</a:t>
                      </a:r>
                      <a:r>
                        <a:rPr b="0" lang="id-ID" sz="14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id-ID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00"/>
                        </a:buClr>
                        <a:buSzPct val="85000"/>
                        <a:buFont typeface="Wingdings" charset="2"/>
                        <a:buChar char=""/>
                        <a:tabLst>
                          <a:tab algn="l" pos="125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cukup - tidak perlu PPP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00"/>
                        </a:buClr>
                        <a:buSzPct val="85000"/>
                        <a:buFont typeface="Wingdings" charset="2"/>
                        <a:buChar char=""/>
                        <a:tabLst>
                          <a:tab algn="l" pos="125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tidak cukup - 1 dosis HBI</a:t>
                      </a: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g</a:t>
                      </a:r>
                      <a:r>
                        <a:rPr b="0" lang="id-ID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 + vaksin bost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503280"/>
            <a:ext cx="701028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000" spc="-1" strike="noStrike">
                <a:solidFill>
                  <a:srgbClr val="ffff00"/>
                </a:solidFill>
                <a:latin typeface="Book Antiqua"/>
                <a:ea typeface="Times New Roman"/>
              </a:rPr>
              <a:t>Alur PPP pada pajanan HIV:</a:t>
            </a:r>
            <a:r>
              <a:rPr b="1" lang="id-ID" sz="2600" spc="-1" strike="noStrike">
                <a:solidFill>
                  <a:srgbClr val="ffff00"/>
                </a:solidFill>
                <a:latin typeface="Book Antiqua"/>
                <a:ea typeface="Times New Roman"/>
              </a:rPr>
              <a:t> </a:t>
            </a:r>
            <a:br>
              <a:rPr sz="2600"/>
            </a:br>
            <a:r>
              <a:rPr b="1" lang="id-ID" sz="2200" spc="-1" strike="noStrike">
                <a:solidFill>
                  <a:srgbClr val="ffff00"/>
                </a:solidFill>
                <a:latin typeface="Book Antiqua"/>
                <a:ea typeface="Times New Roman"/>
              </a:rPr>
              <a:t>1. Menentukan Kategori Pajanan (KP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26920" y="1676520"/>
            <a:ext cx="5473800" cy="57132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Arial Narrow"/>
              </a:rPr>
              <a:t>Sumber pajanan berupa darah, cairan berdarah, atau bahan lain yang berpotensi menularkan infeksi (OPIM), atau alat kesehatan yang tercemar dari salah satu bahan tersebu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2725560"/>
            <a:ext cx="53496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Arial Narrow"/>
              </a:rPr>
              <a:t>OPI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45360" y="2844720"/>
            <a:ext cx="1071720" cy="58428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000000"/>
                </a:solidFill>
                <a:latin typeface="Arial Narrow"/>
              </a:rPr>
              <a:t>Tak perlu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PP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86200" y="2708280"/>
            <a:ext cx="1838160" cy="3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Arial Narrow"/>
              </a:rPr>
              <a:t>Darah atau cairan berdara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0920" y="3908520"/>
            <a:ext cx="241128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66"/>
                </a:solidFill>
                <a:latin typeface="Arial Narrow"/>
              </a:rPr>
              <a:t>Kulit yg tak utuh atau selaput mukos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6" idx="2"/>
            <a:endCxn id="139" idx="1"/>
          </p:cNvCxnSpPr>
          <p:nvPr/>
        </p:nvCxnSpPr>
        <p:spPr>
          <a:xfrm flipH="1" rot="16200000">
            <a:off x="3410640" y="2400120"/>
            <a:ext cx="627840" cy="32292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36" idx="2"/>
            <a:endCxn id="137" idx="3"/>
          </p:cNvCxnSpPr>
          <p:nvPr/>
        </p:nvCxnSpPr>
        <p:spPr>
          <a:xfrm rot="5400000">
            <a:off x="2876760" y="2191320"/>
            <a:ext cx="631080" cy="74376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6" idx="3"/>
            <a:endCxn id="138" idx="0"/>
          </p:cNvCxnSpPr>
          <p:nvPr/>
        </p:nvCxnSpPr>
        <p:spPr>
          <a:xfrm>
            <a:off x="6300720" y="1962000"/>
            <a:ext cx="1481760" cy="88344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7308720" y="2276640"/>
            <a:ext cx="863640" cy="288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Arial"/>
              </a:rPr>
              <a:t>Tida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773520" y="3284640"/>
            <a:ext cx="2022480" cy="331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Arial Narrow"/>
              </a:rPr>
              <a:t>Macam pajanan yang terjad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39" idx="2"/>
            <a:endCxn id="145" idx="0"/>
          </p:cNvCxnSpPr>
          <p:nvPr/>
        </p:nvCxnSpPr>
        <p:spPr>
          <a:xfrm rot="5400000">
            <a:off x="4672800" y="3152880"/>
            <a:ext cx="243720" cy="20880"/>
          </a:xfrm>
          <a:prstGeom prst="bentConnector3">
            <a:avLst>
              <a:gd name="adj1" fmla="val 49556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3724200" y="3908520"/>
            <a:ext cx="14493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Arial Narrow"/>
              </a:rPr>
              <a:t>Kulit yang utu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6520" y="3898800"/>
            <a:ext cx="1509840" cy="378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Arial Narrow"/>
              </a:rPr>
              <a:t>Pajanan perkutane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92360" y="4500720"/>
            <a:ext cx="874800" cy="315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Volum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724200" y="4437000"/>
            <a:ext cx="1440000" cy="36036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000000"/>
                </a:solidFill>
                <a:latin typeface="Arial Narrow"/>
              </a:rPr>
              <a:t>Tak perlu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PP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84720" y="4437000"/>
            <a:ext cx="151164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Arial Narrow"/>
              </a:rPr>
              <a:t>Seberapa bera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45" idx="2"/>
            <a:endCxn id="140" idx="0"/>
          </p:cNvCxnSpPr>
          <p:nvPr/>
        </p:nvCxnSpPr>
        <p:spPr>
          <a:xfrm rot="5400000">
            <a:off x="2973960" y="2098440"/>
            <a:ext cx="293040" cy="3328200"/>
          </a:xfrm>
          <a:prstGeom prst="bentConnector3">
            <a:avLst>
              <a:gd name="adj1" fmla="val 49938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45" idx="2"/>
            <a:endCxn id="147" idx="0"/>
          </p:cNvCxnSpPr>
          <p:nvPr/>
        </p:nvCxnSpPr>
        <p:spPr>
          <a:xfrm rot="5400000">
            <a:off x="4470120" y="3594600"/>
            <a:ext cx="293040" cy="335880"/>
          </a:xfrm>
          <a:prstGeom prst="bentConnector3">
            <a:avLst>
              <a:gd name="adj1" fmla="val 49938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45" idx="2"/>
            <a:endCxn id="148" idx="0"/>
          </p:cNvCxnSpPr>
          <p:nvPr/>
        </p:nvCxnSpPr>
        <p:spPr>
          <a:xfrm flipH="1" rot="16200000">
            <a:off x="5670720" y="2728440"/>
            <a:ext cx="283320" cy="205776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79280" y="5091120"/>
            <a:ext cx="1800360" cy="7142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Arial Narrow"/>
              </a:rPr>
              <a:t>Sedik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Arial Narrow"/>
              </a:rPr>
              <a:t>(mis. satu tetes, dalam waktu singkat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40000" y="5091120"/>
            <a:ext cx="2232000" cy="8589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Arial Narrow"/>
              </a:rPr>
              <a:t>Banya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Arial Narrow"/>
              </a:rPr>
              <a:t>(mis. Beberapa tetes, percikan darah darah banyak dan/atau dalam waktu lama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75280" y="5157720"/>
            <a:ext cx="1584360" cy="792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Arial Narrow"/>
              </a:rPr>
              <a:t>Tidak bera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Arial Narrow"/>
              </a:rPr>
              <a:t>(mis. Jarum solid atau goresan superfisial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4360" y="5157720"/>
            <a:ext cx="1979640" cy="863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Arial Narrow"/>
              </a:rPr>
              <a:t>Lebih bera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Arial Narrow"/>
              </a:rPr>
              <a:t>(mis. Jarum besar bersaluran, tusukan dalam, darah terlihat, jarum bekas pasien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44480" y="6251400"/>
            <a:ext cx="658800" cy="34632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P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59280" y="6251400"/>
            <a:ext cx="792000" cy="34632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P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508720" y="6310440"/>
            <a:ext cx="720720" cy="27468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P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729560" y="6299280"/>
            <a:ext cx="658800" cy="29844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P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3" name=""/>
          <p:cNvCxnSpPr>
            <a:stCxn id="149" idx="2"/>
            <a:endCxn id="155" idx="0"/>
          </p:cNvCxnSpPr>
          <p:nvPr/>
        </p:nvCxnSpPr>
        <p:spPr>
          <a:xfrm rot="5400000">
            <a:off x="1467000" y="4428000"/>
            <a:ext cx="275400" cy="1051560"/>
          </a:xfrm>
          <a:prstGeom prst="bentConnector3">
            <a:avLst>
              <a:gd name="adj1" fmla="val 49607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49" idx="2"/>
            <a:endCxn id="156" idx="0"/>
          </p:cNvCxnSpPr>
          <p:nvPr/>
        </p:nvCxnSpPr>
        <p:spPr>
          <a:xfrm flipH="1" rot="16200000">
            <a:off x="2655720" y="4290480"/>
            <a:ext cx="275400" cy="1326240"/>
          </a:xfrm>
          <a:prstGeom prst="bentConnector3">
            <a:avLst>
              <a:gd name="adj1" fmla="val 49607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5" name=""/>
          <p:cNvCxnSpPr>
            <a:stCxn id="151" idx="2"/>
            <a:endCxn id="158" idx="0"/>
          </p:cNvCxnSpPr>
          <p:nvPr/>
        </p:nvCxnSpPr>
        <p:spPr>
          <a:xfrm flipH="1" rot="16200000">
            <a:off x="7317360" y="4319640"/>
            <a:ext cx="361080" cy="1315440"/>
          </a:xfrm>
          <a:prstGeom prst="bentConnector3">
            <a:avLst>
              <a:gd name="adj1" fmla="val 497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51" idx="2"/>
            <a:endCxn id="157" idx="0"/>
          </p:cNvCxnSpPr>
          <p:nvPr/>
        </p:nvCxnSpPr>
        <p:spPr>
          <a:xfrm rot="5400000">
            <a:off x="6172920" y="4490640"/>
            <a:ext cx="361080" cy="973800"/>
          </a:xfrm>
          <a:prstGeom prst="bentConnector3">
            <a:avLst>
              <a:gd name="adj1" fmla="val 497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7" name=""/>
          <p:cNvSpPr/>
          <p:nvPr/>
        </p:nvSpPr>
        <p:spPr>
          <a:xfrm>
            <a:off x="3276720" y="2476440"/>
            <a:ext cx="439560" cy="3049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55" idx="2"/>
            <a:endCxn id="159" idx="0"/>
          </p:cNvCxnSpPr>
          <p:nvPr/>
        </p:nvCxnSpPr>
        <p:spPr>
          <a:xfrm rot="5400000">
            <a:off x="853560" y="6025680"/>
            <a:ext cx="446760" cy="5760"/>
          </a:xfrm>
          <a:prstGeom prst="bentConnector3">
            <a:avLst>
              <a:gd name="adj1" fmla="val 49758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56" idx="2"/>
            <a:endCxn id="160" idx="0"/>
          </p:cNvCxnSpPr>
          <p:nvPr/>
        </p:nvCxnSpPr>
        <p:spPr>
          <a:xfrm flipV="1" rot="10800000">
            <a:off x="3455280" y="5949720"/>
            <a:ext cx="1080" cy="30204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57" idx="2"/>
            <a:endCxn id="161" idx="0"/>
          </p:cNvCxnSpPr>
          <p:nvPr/>
        </p:nvCxnSpPr>
        <p:spPr>
          <a:xfrm flipH="1" rot="16200000">
            <a:off x="5686920" y="6129000"/>
            <a:ext cx="361080" cy="2520"/>
          </a:xfrm>
          <a:prstGeom prst="bentConnector3">
            <a:avLst>
              <a:gd name="adj1" fmla="val 497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47" idx="2"/>
            <a:endCxn id="150" idx="0"/>
          </p:cNvCxnSpPr>
          <p:nvPr/>
        </p:nvCxnSpPr>
        <p:spPr>
          <a:xfrm rot="5400000">
            <a:off x="4366440" y="4354200"/>
            <a:ext cx="160920" cy="5400"/>
          </a:xfrm>
          <a:prstGeom prst="bentConnector3">
            <a:avLst>
              <a:gd name="adj1" fmla="val 49327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48" idx="2"/>
            <a:endCxn id="151" idx="0"/>
          </p:cNvCxnSpPr>
          <p:nvPr/>
        </p:nvCxnSpPr>
        <p:spPr>
          <a:xfrm rot="5400000">
            <a:off x="6760440" y="4355640"/>
            <a:ext cx="160920" cy="2520"/>
          </a:xfrm>
          <a:prstGeom prst="bentConnector3">
            <a:avLst>
              <a:gd name="adj1" fmla="val 49327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40" idx="2"/>
            <a:endCxn id="149" idx="0"/>
          </p:cNvCxnSpPr>
          <p:nvPr/>
        </p:nvCxnSpPr>
        <p:spPr>
          <a:xfrm flipH="1" rot="16200000">
            <a:off x="1681920" y="4051800"/>
            <a:ext cx="224640" cy="673920"/>
          </a:xfrm>
          <a:prstGeom prst="bentConnector3">
            <a:avLst>
              <a:gd name="adj1" fmla="val 49598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58" idx="2"/>
            <a:endCxn id="162" idx="0"/>
          </p:cNvCxnSpPr>
          <p:nvPr/>
        </p:nvCxnSpPr>
        <p:spPr>
          <a:xfrm rot="5400000">
            <a:off x="7967880" y="6112440"/>
            <a:ext cx="278280" cy="96120"/>
          </a:xfrm>
          <a:prstGeom prst="bentConnector3">
            <a:avLst>
              <a:gd name="adj1" fmla="val 4974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dows XP</cp:lastModifiedBy>
  <dcterms:modified xsi:type="dcterms:W3CDTF">2010-01-11T02:03:17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