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A4D4B-DD4E-4415-8A15-B80134EE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6523A-0F06-4AFC-BD2F-B3323D61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7C9FE-57C2-4B95-9661-34FE6754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AD875-F717-434F-8721-5D2153EE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9A40-B2FA-4774-A091-7B543C8B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10C3-2BEA-43C3-B556-E01D2927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A9BD-0B33-4D64-AC17-A0BCFFDC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58B5-E547-41A8-ABDD-3F8ABF18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10C4-FB6C-45CC-8C8D-91A48479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6680-A1E2-4045-8F77-AC3C612F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3814-EB96-458E-B12D-F5EB18E5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8F059-D32D-4823-97EE-68F64DC3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A06C-FC3C-4ED8-AD04-EA30C030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45E5-F9CD-4D9A-AC21-A77C91AE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8ECD-6161-4FFF-BB1A-7F97FD10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751C-9DAF-48AB-8370-CB113561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612F-8446-41DD-815A-2FE113F7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ADDE9-932A-49C2-8487-D9E5313B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93E96-B648-47C3-8D41-E6F2E73F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FE03D-085E-49AC-AEF9-96745518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BB5DC-FDA6-4CE8-9746-1F48DF2A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19320-8726-4BE1-996E-6AD31C99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8226F-F582-4508-83E8-453B9AE1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D1198-58DA-4069-9F6A-B0152C62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B320-DB68-44C9-843D-B36104EE05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CD22-EB61-4E28-94C2-3C702B58B2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0" y="10666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PROFILAKSIS  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  PASCA PAJANAN</a:t>
            </a:r>
            <a:br>
              <a:rPr sz="6100"/>
            </a:br>
            <a:br>
              <a:rPr sz="6100"/>
            </a:br>
            <a:br>
              <a:rPr sz="6100"/>
            </a:br>
            <a:r>
              <a:rPr b="0" lang="en-US" sz="61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61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40960" y="495360"/>
            <a:ext cx="69454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Alur PPP pada pajanan HIV:</a:t>
            </a:r>
            <a:r>
              <a:rPr b="1" lang="id-ID" sz="2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200"/>
            </a:br>
            <a:r>
              <a:rPr b="1" lang="id-ID" sz="22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1" lang="id-ID" sz="2100" spc="-1" strike="noStrike">
                <a:solidFill>
                  <a:srgbClr val="ffff00"/>
                </a:solidFill>
                <a:latin typeface="Arial"/>
              </a:rPr>
              <a:t>Menentukan Kategori/ status HIV sumber pajanan  (KS-HIV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03560" y="1828800"/>
            <a:ext cx="3968640" cy="333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Arial Narrow"/>
              </a:rPr>
              <a:t>Bagaimanakah Status HIV dari Sumber Pajanan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5965920"/>
            <a:ext cx="1081080" cy="342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KS HIV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4267080"/>
            <a:ext cx="1008000" cy="520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KS HIV </a:t>
            </a:r>
            <a:r>
              <a:rPr b="0" lang="id-ID" sz="1400" spc="-1" strike="noStrike">
                <a:solidFill>
                  <a:srgbClr val="000000"/>
                </a:solidFill>
                <a:latin typeface="Arial Narrow"/>
              </a:rPr>
              <a:t>tidak tah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2666880"/>
            <a:ext cx="1224000" cy="333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IV (-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57560" y="2685960"/>
            <a:ext cx="747720" cy="333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IV (+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1" name=""/>
          <p:cNvCxnSpPr>
            <a:stCxn id="176" idx="2"/>
            <a:endCxn id="180" idx="0"/>
          </p:cNvCxnSpPr>
          <p:nvPr/>
        </p:nvCxnSpPr>
        <p:spPr>
          <a:xfrm rot="5400000">
            <a:off x="3597480" y="2095560"/>
            <a:ext cx="524160" cy="656280"/>
          </a:xfrm>
          <a:prstGeom prst="bentConnector3">
            <a:avLst>
              <a:gd name="adj1" fmla="val 4996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6" idx="2"/>
            <a:endCxn id="183" idx="0"/>
          </p:cNvCxnSpPr>
          <p:nvPr/>
        </p:nvCxnSpPr>
        <p:spPr>
          <a:xfrm flipH="1" rot="16200000">
            <a:off x="4645080" y="1703520"/>
            <a:ext cx="546480" cy="1462680"/>
          </a:xfrm>
          <a:prstGeom prst="bentConnector3">
            <a:avLst>
              <a:gd name="adj1" fmla="val 4996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6" idx="2"/>
            <a:endCxn id="185" idx="0"/>
          </p:cNvCxnSpPr>
          <p:nvPr/>
        </p:nvCxnSpPr>
        <p:spPr>
          <a:xfrm flipH="1" rot="16200000">
            <a:off x="5774760" y="573840"/>
            <a:ext cx="524160" cy="3699720"/>
          </a:xfrm>
          <a:prstGeom prst="bentConnector3">
            <a:avLst>
              <a:gd name="adj1" fmla="val 4996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6" idx="2"/>
            <a:endCxn id="179" idx="0"/>
          </p:cNvCxnSpPr>
          <p:nvPr/>
        </p:nvCxnSpPr>
        <p:spPr>
          <a:xfrm rot="5400000">
            <a:off x="2413800" y="893520"/>
            <a:ext cx="505440" cy="3042360"/>
          </a:xfrm>
          <a:prstGeom prst="bentConnector3">
            <a:avLst>
              <a:gd name="adj1" fmla="val 4996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7240680" y="2685960"/>
            <a:ext cx="1292040" cy="5270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Arial Narrow"/>
              </a:rPr>
              <a:t>Tak diketahui sumberny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3371760"/>
            <a:ext cx="1224000" cy="344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66"/>
                </a:solidFill>
                <a:latin typeface="Arial Narrow"/>
              </a:rPr>
              <a:t>Tak perlu PP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4537080"/>
            <a:ext cx="2087640" cy="836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Arial Narrow"/>
              </a:rPr>
              <a:t>Pajanan dengan titer rendah, mis. Asimtomatik dan CD4 ting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83" idx="2"/>
            <a:endCxn id="178" idx="0"/>
          </p:cNvCxnSpPr>
          <p:nvPr/>
        </p:nvCxnSpPr>
        <p:spPr>
          <a:xfrm flipH="1" rot="16200000">
            <a:off x="6257160" y="2627640"/>
            <a:ext cx="1032480" cy="2247120"/>
          </a:xfrm>
          <a:prstGeom prst="bentConnector3">
            <a:avLst>
              <a:gd name="adj1" fmla="val 4998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5" idx="2"/>
            <a:endCxn id="178" idx="0"/>
          </p:cNvCxnSpPr>
          <p:nvPr/>
        </p:nvCxnSpPr>
        <p:spPr>
          <a:xfrm flipH="1" rot="16200000">
            <a:off x="7364520" y="3735000"/>
            <a:ext cx="1054800" cy="10080"/>
          </a:xfrm>
          <a:prstGeom prst="bentConnector3">
            <a:avLst>
              <a:gd name="adj1" fmla="val 4998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3564000" y="4546440"/>
            <a:ext cx="2448000" cy="9702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 Narrow"/>
              </a:rPr>
              <a:t>Pajanan dengan titer tinggi, mis. AIDS lanjut, infeksi HIV primer, VL yang meningkat atau tinggi atau CD4 renda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79" idx="2"/>
            <a:endCxn id="187" idx="0"/>
          </p:cNvCxnSpPr>
          <p:nvPr/>
        </p:nvCxnSpPr>
        <p:spPr>
          <a:xfrm flipH="1" rot="16200000">
            <a:off x="962640" y="3182760"/>
            <a:ext cx="372240" cy="6840"/>
          </a:xfrm>
          <a:prstGeom prst="bentConnector3">
            <a:avLst>
              <a:gd name="adj1" fmla="val 4995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4284720" y="5950080"/>
            <a:ext cx="1008000" cy="342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KS HIV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03640" y="2708280"/>
            <a:ext cx="1292400" cy="5270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Arial Narrow"/>
              </a:rPr>
              <a:t>Tak diketahu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80" idx="2"/>
            <a:endCxn id="188" idx="0"/>
          </p:cNvCxnSpPr>
          <p:nvPr/>
        </p:nvCxnSpPr>
        <p:spPr>
          <a:xfrm rot="5400000">
            <a:off x="1978920" y="2984400"/>
            <a:ext cx="1518480" cy="1588320"/>
          </a:xfrm>
          <a:prstGeom prst="bentConnector3">
            <a:avLst>
              <a:gd name="adj1" fmla="val 4998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80" idx="2"/>
            <a:endCxn id="191" idx="0"/>
          </p:cNvCxnSpPr>
          <p:nvPr/>
        </p:nvCxnSpPr>
        <p:spPr>
          <a:xfrm flipH="1" rot="16200000">
            <a:off x="3396600" y="3154680"/>
            <a:ext cx="1527840" cy="1256400"/>
          </a:xfrm>
          <a:prstGeom prst="bentConnector3">
            <a:avLst>
              <a:gd name="adj1" fmla="val 4998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8" idx="2"/>
            <a:endCxn id="177" idx="0"/>
          </p:cNvCxnSpPr>
          <p:nvPr/>
        </p:nvCxnSpPr>
        <p:spPr>
          <a:xfrm flipV="1" rot="10800000">
            <a:off x="1944000" y="5373360"/>
            <a:ext cx="1080" cy="5929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1" idx="2"/>
            <a:endCxn id="193" idx="0"/>
          </p:cNvCxnSpPr>
          <p:nvPr/>
        </p:nvCxnSpPr>
        <p:spPr>
          <a:xfrm flipH="1" rot="16200000">
            <a:off x="4572000" y="5732280"/>
            <a:ext cx="434160" cy="2160"/>
          </a:xfrm>
          <a:prstGeom prst="bentConnector3">
            <a:avLst>
              <a:gd name="adj1" fmla="val 4979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7164360" y="5300640"/>
            <a:ext cx="1440000" cy="936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66"/>
                </a:solidFill>
                <a:latin typeface="Arial Narrow"/>
              </a:rPr>
              <a:t>Pada umumnya Tak perlu PPP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66"/>
                </a:solidFill>
                <a:latin typeface="Arial Narrow"/>
              </a:rPr>
              <a:t>Perlu telaah kasus per kas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78" idx="2"/>
            <a:endCxn id="198" idx="0"/>
          </p:cNvCxnSpPr>
          <p:nvPr/>
        </p:nvCxnSpPr>
        <p:spPr>
          <a:xfrm rot="5400000">
            <a:off x="7633440" y="5038560"/>
            <a:ext cx="513360" cy="11880"/>
          </a:xfrm>
          <a:prstGeom prst="bentConnector3">
            <a:avLst>
              <a:gd name="adj1" fmla="val 498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52680" y="189000"/>
            <a:ext cx="73404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Alur PPP pada pajanan HIV</a:t>
            </a:r>
            <a:r>
              <a:rPr b="0" lang="id-ID" sz="2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200"/>
            </a:br>
            <a:r>
              <a:rPr b="0" lang="id-ID" sz="22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0" lang="id-ID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Menentukan Pengobatan Profilaksis Pasca Pajana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04920" y="1143000"/>
          <a:ext cx="8388360" cy="5668920"/>
        </p:xfrm>
        <a:graphic>
          <a:graphicData uri="http://schemas.openxmlformats.org/drawingml/2006/table">
            <a:tbl>
              <a:tblPr/>
              <a:tblGrid>
                <a:gridCol w="1562040"/>
                <a:gridCol w="2467080"/>
                <a:gridCol w="4359240"/>
              </a:tblGrid>
              <a:tr h="11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tegori Pajana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KP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tegori Sumber pajanan (KS HIV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komendasi  Pengobata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7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(renda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at tidak dianjurk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iko toksisitas obat &gt; dari risiko terinfeksi H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(tingg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timbangkan AZT + 3TC + Indinavi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Efavir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janan memiliki risiko yang perlu dipertimbangk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(renda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njurkan AZT + 3TC + Indinavi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Efavir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banyakan pajanan masuk dalan kategori i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70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atau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njurkan AZT + 3TC + indinavir atau nelfinavi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159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njuran pengobatan selama 4 minggu dengan </a:t>
                      </a:r>
                      <a:r>
                        <a:rPr b="0" lang="id-ID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osis: </a:t>
                      </a:r>
                      <a:br>
                        <a:rPr sz="1400"/>
                      </a:br>
                      <a:r>
                        <a:rPr b="0" lang="id-ID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ZT: 3 kali sehari @ 200 mg, atau 2 kali sehari @ 300mg</a:t>
                      </a:r>
                      <a:br>
                        <a:rPr sz="1400"/>
                      </a:br>
                      <a:r>
                        <a:rPr b="0" lang="id-ID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TC: 2 kali sehari @ 150mg</a:t>
                      </a:r>
                      <a:br>
                        <a:rPr sz="1400"/>
                      </a:br>
                      <a:r>
                        <a:rPr b="0" lang="id-ID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dinavir: 3x sehari @ 800mg 1 jam sebelum makan atau 2 jam setelah makan dan banyak minum, diet rendah lemah</a:t>
                      </a: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/ Efaviren 1 x 600 m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CATA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Tanggal dan jam kejadian (pajan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Uraian kejadian lebih rin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Sumber pajanan bila diketah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Pengobatan PPP secara rinci bila mendapatkanny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Tindak lanj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Hasil pengobat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Simpan semua data pajan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160" y="83808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d-ID" sz="3000" spc="-1" strike="noStrike">
                <a:solidFill>
                  <a:srgbClr val="ffff00"/>
                </a:solidFill>
                <a:latin typeface="Arial"/>
              </a:rPr>
              <a:t>Tatalaksana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P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76160" y="16765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Konseling prates untuk petugas kesehatan yang terpaj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Lakukan pemeriksaan aw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HIV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Hep B and 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Syphilis</a:t>
            </a: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 malari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Beri konseling untuk tidak menjadi donor darah, harus berperilaku seksual dan suntikan yang aman sampai hasil diketahu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Konseling pasca tes dan berikan hasil tes awal secepat mungkin kepada terpaj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rial"/>
              </a:rPr>
              <a:t>Informasi kepada orang yang terpaj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Risiko transmisi HIV setelah Pajanan Darah = 0.3% jika sumber pasien adalah HIV posit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Risiko transmisi sesuai dengan jenis kecelak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PPP tergantung pada kegawatan pajanan dan status HIV dari sumber pas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PPP tidak 100% efekt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Minum AR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Efek samping ARV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Hindari hubungan seks yang tak terlindungi sampai konfirmasi setelah 3 bu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Penjelasan yang jelas oleh dokter mengenai risiko dan tindakan yang dapat digunakan untuk melepaskan stress dan kegelisaha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Keputusan PPP harus ditangan terpaja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Tanda tangani formulir penolakan jika Petugas Kesehatan menolak PP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676160" y="9144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900" spc="-1" strike="noStrike">
                <a:solidFill>
                  <a:srgbClr val="ffff00"/>
                </a:solidFill>
                <a:latin typeface="Arial"/>
              </a:rPr>
              <a:t>Informasi kepada orang yang terpaja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33360" y="304920"/>
            <a:ext cx="556236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900" spc="-1" strike="noStrike">
                <a:solidFill>
                  <a:srgbClr val="ffff00"/>
                </a:solidFill>
                <a:latin typeface="Arial"/>
              </a:rPr>
              <a:t>Follow up Laboratoris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990720"/>
          <a:ext cx="8458200" cy="5105160"/>
        </p:xfrm>
        <a:graphic>
          <a:graphicData uri="http://schemas.openxmlformats.org/drawingml/2006/table">
            <a:tbl>
              <a:tblPr/>
              <a:tblGrid>
                <a:gridCol w="2133720"/>
                <a:gridCol w="3102120"/>
                <a:gridCol w="322236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kt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ika meminum P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dak meminum P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16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ta Dasa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Dalam waktu 8 hari)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V, HCV, HB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L, Transamin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V, HCV, HB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nggu ke 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ansamin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ansamin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ulan ke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V, HCV, HB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ansamin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V, HCV, HB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ansamin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ulan ke 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V, HCV, HB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ansamin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V, HCV, HB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ansamin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00"/>
                </a:solidFill>
                <a:latin typeface="Arial"/>
              </a:rPr>
              <a:t>INGAT!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HIV dan virus-virus lebih cenderung ditularkan melal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ffff00"/>
                </a:solidFill>
                <a:latin typeface="Arial"/>
              </a:rPr>
              <a:t>HUBUNGAN SEKSUAL atau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ffff00"/>
                </a:solidFill>
                <a:latin typeface="Arial"/>
              </a:rPr>
              <a:t>melalui TRANSFUSI DARAH yang terkontaminasi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Kemungkinan tertular sebagai akibat pajanan pada kecelakaan kerja lebih kec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00"/>
                </a:solidFill>
                <a:latin typeface="Arial"/>
              </a:rPr>
              <a:t>Follow up </a:t>
            </a:r>
            <a:r>
              <a:rPr b="0" lang="id-ID" sz="3900" spc="-1" strike="noStrike">
                <a:solidFill>
                  <a:srgbClr val="ffff00"/>
                </a:solidFill>
                <a:latin typeface="Arial"/>
              </a:rPr>
              <a:t>klini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52480" y="1676160"/>
            <a:ext cx="6632640" cy="37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Amati tanda-tanda yang menunjukan serokonversi HIV (dalam 50-70%) dalam waktu 3 sampai 6 mingg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ffff00"/>
                </a:solidFill>
                <a:latin typeface="Arial"/>
              </a:rPr>
              <a:t>Demam akut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ffff00"/>
                </a:solidFill>
                <a:latin typeface="Arial"/>
              </a:rPr>
              <a:t>Lymphadenopathy yang tersebar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ffff00"/>
                </a:solidFill>
                <a:latin typeface="Arial"/>
              </a:rPr>
              <a:t>Erupsi kuli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ffff00"/>
                </a:solidFill>
                <a:latin typeface="Arial"/>
              </a:rPr>
              <a:t>Faringitis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ffff00"/>
                </a:solidFill>
                <a:latin typeface="Arial"/>
              </a:rPr>
              <a:t>Gejala-gejala flu non-specific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ffff00"/>
                </a:solidFill>
                <a:latin typeface="Arial"/>
              </a:rPr>
              <a:t>ulkus mulut atau area genital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8377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900" spc="-1" strike="noStrike">
                <a:solidFill>
                  <a:srgbClr val="ffff00"/>
                </a:solidFill>
                <a:latin typeface="Arial"/>
              </a:rPr>
              <a:t>Evaluasi perilaku dan pengelolaan benda taja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160" y="2285640"/>
            <a:ext cx="7010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Bila banyak kecelakaan telaah perilaku atau alat perlu digan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Kurangi jahitan - ganti penggunaan ple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Sejauh mungkin hindari suntikan – terbatas yang sangat perlu sa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Hindari episiotomi yang tidak per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500" spc="-1" strike="noStrike">
                <a:solidFill>
                  <a:srgbClr val="ffff00"/>
                </a:solidFill>
                <a:latin typeface="Arial"/>
              </a:rPr>
              <a:t>Profilaksis Pasca Pajanan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Kewaspadaan Universal merupakan prioritas ut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Setiap Rumah Sakit perlu memiliki protokol tatalaksan pasca pajanan/ pengoba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Selalu melakukan pemantauan dan pencatatan setiap pajanan pada kecelakaan ker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7621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900" spc="-1" strike="noStrike">
                <a:solidFill>
                  <a:srgbClr val="ffff00"/>
                </a:solidFill>
                <a:latin typeface="Arial"/>
              </a:rPr>
              <a:t>Risiko Kecelakaan Kerj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Risiko penularan HIV setelah tertusuk jarum dari klien HIV positif </a:t>
            </a:r>
            <a:r>
              <a:rPr b="0" lang="id-ID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 3 : 1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Risiko penularan HBV setelah tertusuk jarum dari klien HBV positif </a:t>
            </a:r>
            <a:r>
              <a:rPr b="0" lang="id-ID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 27-37 :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Volume Percikan Darah terinfeksi HBV yang mampu menularkan HBV </a:t>
            </a:r>
            <a:r>
              <a:rPr b="0" lang="id-ID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 10</a:t>
            </a:r>
            <a:r>
              <a:rPr b="0" lang="id-ID" sz="2800" spc="-1" strike="noStrike" baseline="30000">
                <a:solidFill>
                  <a:srgbClr val="ffff00"/>
                </a:solidFill>
                <a:latin typeface="Arial"/>
              </a:rPr>
              <a:t>-8</a:t>
            </a: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ml = 0.00000001 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47920" y="9140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500" spc="-1" strike="noStrike">
                <a:solidFill>
                  <a:srgbClr val="ffff00"/>
                </a:solidFill>
                <a:latin typeface="Arial"/>
              </a:rPr>
              <a:t>Risiko Penularan di </a:t>
            </a:r>
            <a:br>
              <a:rPr sz="3500"/>
            </a:br>
            <a:r>
              <a:rPr b="0" lang="id-ID" sz="3500" spc="-1" strike="noStrike">
                <a:solidFill>
                  <a:srgbClr val="ffff00"/>
                </a:solidFill>
                <a:latin typeface="Arial"/>
              </a:rPr>
              <a:t>Sarana Pelayanan Kesehatan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62120" y="2286000"/>
          <a:ext cx="7543800" cy="3352680"/>
        </p:xfrm>
        <a:graphic>
          <a:graphicData uri="http://schemas.openxmlformats.org/drawingml/2006/table">
            <a:tbl>
              <a:tblPr/>
              <a:tblGrid>
                <a:gridCol w="1627200"/>
                <a:gridCol w="2958120"/>
                <a:gridCol w="29584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ra pajan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siko infek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B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kutan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kutan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kutan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3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kokutan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03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900" spc="-1" strike="noStrike">
                <a:solidFill>
                  <a:srgbClr val="ffff00"/>
                </a:solidFill>
                <a:latin typeface="Arial"/>
              </a:rPr>
              <a:t>Tindakan yang paling berisiko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237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Pengambilan darah, penutupan kembali jarum sunt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Memasukan dan menangani cairan 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Oper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Menangani darah atau cairan tubuh yang terinfeksi di laborator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Membersihkan, menangani dan menghancurkan limbah sampah dan alat-alat medis yang terkontamin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TERUTAMA DALAM KEADAAN TERBURU-BURU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676160" y="2286000"/>
            <a:ext cx="7010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900" spc="-1" strike="noStrike">
                <a:solidFill>
                  <a:srgbClr val="ffff00"/>
                </a:solidFill>
                <a:latin typeface="Arial"/>
              </a:rPr>
              <a:t>Mutu pelayana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900" spc="-1" strike="noStrike">
                <a:solidFill>
                  <a:srgbClr val="ffff00"/>
                </a:solidFill>
                <a:latin typeface="Arial"/>
              </a:rPr>
              <a:t>Keamana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900" spc="-1" strike="noStrike">
                <a:solidFill>
                  <a:srgbClr val="ffff00"/>
                </a:solidFill>
                <a:latin typeface="Arial"/>
              </a:rPr>
              <a:t>Kesejahteraan pekerja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676160" y="11430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900" spc="-1" strike="noStrike">
                <a:solidFill>
                  <a:srgbClr val="ffff00"/>
                </a:solidFill>
                <a:latin typeface="Arial"/>
              </a:rPr>
              <a:t>Kondisi lingkungan kerja mempengaruhi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76160" y="7621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rial"/>
              </a:rPr>
              <a:t>Kewaspadaan Universal membantu menciptakan lingkungan kerja yang am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240" y="2334960"/>
            <a:ext cx="711828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66"/>
                </a:solidFill>
                <a:latin typeface="Arial"/>
              </a:rPr>
              <a:t>Upaya meningkatkan keamanan dan lingkungan kerja yang kondus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Pemahaman para manager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ffff00"/>
                </a:solidFill>
                <a:latin typeface="Arial"/>
              </a:rPr>
              <a:t>risiko kerja dan cara pencegaha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ffff00"/>
                </a:solidFill>
                <a:latin typeface="Arial"/>
              </a:rPr>
              <a:t>tatalaksana kecelakaan kerj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Penyediaan alat pelindung, bahan dan sarana perlengkapan KU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Pengembangan kebijakan, prosedur kerja yang rinc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Dukungan bagi tenaga kesehatan: stres, burnout, PPP, konseling pasca pajana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Supervis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Surveila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114800" y="4495680"/>
            <a:ext cx="4716360" cy="150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rima kasih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ff00"/>
                </a:solidFill>
                <a:latin typeface="Arial"/>
              </a:rPr>
              <a:t>Pajanan pada Kecelakaan Ker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1752480"/>
            <a:ext cx="3490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Pajan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Perlukaan kul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Pajanan pada selaput muk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Pajanan melalui kulit yang lu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rial"/>
              </a:rPr>
              <a:t>Gigitan yang berdar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4720" y="1752120"/>
            <a:ext cx="440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Bahan Pajan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Dar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Cairan bercampur darah yang kasat  m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Cairan yang potensial terinfeksi: semen, cairan vagina, 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 serebrospinal, c. sinovia, c. pleura, 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 peritoneal, 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mnio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 c. perickardia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Virus yang terkonsentras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124000" y="1773360"/>
            <a:ext cx="4465800" cy="4176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500" spc="-1" strike="noStrike">
                <a:solidFill>
                  <a:srgbClr val="ffff00"/>
                </a:solidFill>
                <a:latin typeface="Arial"/>
              </a:rPr>
              <a:t>Tatalaksana Pajananan</a:t>
            </a: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d-ID" sz="35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 1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95640" y="2565360"/>
            <a:ext cx="44640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800" spc="-1" strike="noStrike">
                <a:solidFill>
                  <a:srgbClr val="00ff00"/>
                </a:solidFill>
                <a:latin typeface="Arial"/>
              </a:rPr>
              <a:t>Jangan Panik </a:t>
            </a:r>
            <a:r>
              <a:rPr b="0" lang="id-ID" sz="6600" spc="-1" strike="noStrike">
                <a:solidFill>
                  <a:srgbClr val="00ff00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ffff00"/>
                </a:solidFill>
                <a:latin typeface="Arial"/>
              </a:rPr>
              <a:t>Tapi  selesaikan dal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800" spc="-1" strike="noStrike">
                <a:solidFill>
                  <a:srgbClr val="ffff00"/>
                </a:solidFill>
                <a:latin typeface="Arial"/>
              </a:rPr>
              <a:t>&lt;4 jam</a:t>
            </a:r>
            <a:r>
              <a:rPr b="0" lang="id-ID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12000" y="4365720"/>
            <a:ext cx="22255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758880"/>
            <a:ext cx="7010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900" spc="-1" strike="noStrike">
                <a:solidFill>
                  <a:srgbClr val="ffff00"/>
                </a:solidFill>
                <a:latin typeface="Arial"/>
              </a:rPr>
              <a:t>Tatalaksana Pajananan: 2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2361960"/>
            <a:ext cx="1757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ffff00"/>
                </a:solidFill>
                <a:latin typeface="Arial"/>
              </a:rPr>
              <a:t>Seg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905120" y="1628280"/>
            <a:ext cx="67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Luka tusuk </a:t>
            </a:r>
            <a:r>
              <a:rPr b="0" lang="id-ID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id-ID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bilas air mengalir dan sabun / antisepti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ajanan mukosa mulut </a:t>
            </a:r>
            <a:r>
              <a:rPr b="0" lang="id-ID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id-ID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ludahkan dan kum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ajanan mukosa mata </a:t>
            </a:r>
            <a:r>
              <a:rPr b="0" lang="id-ID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id-ID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irigasi dg air/ garam fisiolof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ajanan mukosa hidung </a:t>
            </a:r>
            <a:r>
              <a:rPr b="0" lang="id-ID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id-ID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hembuskan keluar dan bersihkan dengan 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00"/>
                </a:solidFill>
                <a:latin typeface="Arial"/>
              </a:rPr>
              <a:t>Jangan dihisap dengan mulut, jangan ditek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00"/>
                </a:solidFill>
                <a:latin typeface="Arial"/>
              </a:rPr>
              <a:t>Disinfeksi luka dan daerah sekitar kulit dengan salah satu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ffff00"/>
                </a:solidFill>
                <a:latin typeface="Arial"/>
              </a:rPr>
              <a:t>Betadine </a:t>
            </a:r>
            <a:r>
              <a:rPr b="0" lang="id-ID" sz="1700" spc="-1" strike="noStrike">
                <a:solidFill>
                  <a:srgbClr val="ffff00"/>
                </a:solidFill>
                <a:latin typeface="Arial"/>
              </a:rPr>
              <a:t>(povidone iodine 2.5%)</a:t>
            </a:r>
            <a:r>
              <a:rPr b="0" lang="id-ID" sz="1900" spc="-1" strike="noStrike">
                <a:solidFill>
                  <a:srgbClr val="ffff00"/>
                </a:solidFill>
                <a:latin typeface="Arial"/>
              </a:rPr>
              <a:t> selama 5 mn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ffff00"/>
                </a:solidFill>
                <a:latin typeface="Arial"/>
              </a:rPr>
              <a:t>Alcohol 70% selama 3 mn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00"/>
                </a:solidFill>
                <a:latin typeface="Arial"/>
              </a:rPr>
              <a:t>Catata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d-ID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d-ID" sz="2000" spc="-1" strike="noStrike">
                <a:solidFill>
                  <a:srgbClr val="ffff00"/>
                </a:solidFill>
                <a:latin typeface="Arial"/>
              </a:rPr>
              <a:t>chlorhexidine cetrimide bekerja melawan HI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id-ID" sz="2000" spc="-1" strike="noStrike">
                <a:solidFill>
                  <a:srgbClr val="ffff00"/>
                </a:solidFill>
                <a:latin typeface="Arial"/>
              </a:rPr>
              <a:t> tetapi bukan HB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990720"/>
            <a:ext cx="7010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900" spc="-1" strike="noStrike">
                <a:solidFill>
                  <a:srgbClr val="ffff00"/>
                </a:solidFill>
                <a:latin typeface="Arial"/>
              </a:rPr>
              <a:t>Tatalaksana Pajananan</a:t>
            </a:r>
            <a:r>
              <a:rPr b="0" lang="en-US" sz="3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d-ID" sz="3900" spc="-1" strike="noStrike">
                <a:solidFill>
                  <a:srgbClr val="ffff00"/>
                </a:solidFill>
                <a:latin typeface="Arial"/>
              </a:rPr>
              <a:t>: 3</a:t>
            </a:r>
            <a:r>
              <a:rPr b="0" lang="en-US" sz="39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666520"/>
            <a:ext cx="233496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400" spc="-1" strike="noStrike">
                <a:solidFill>
                  <a:srgbClr val="ffff00"/>
                </a:solidFill>
                <a:latin typeface="Arial"/>
              </a:rPr>
              <a:t>Laporka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843280" y="1981080"/>
            <a:ext cx="584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Catat dan laporkan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00"/>
                </a:solidFill>
                <a:latin typeface="Arial"/>
              </a:rPr>
              <a:t>Panitia PIN, Panitia K3, Atasan langsu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00"/>
                </a:solidFill>
                <a:latin typeface="Arial"/>
              </a:rPr>
              <a:t>Agar secepat mungkin diberi PP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Perlakukan sebagai keadaan darurat </a:t>
            </a:r>
            <a:r>
              <a:rPr b="0" lang="id-ID" sz="21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d-ID" sz="2000" spc="-1" strike="noStrike">
                <a:solidFill>
                  <a:srgbClr val="ffff00"/>
                </a:solidFill>
                <a:latin typeface="Arial"/>
              </a:rPr>
              <a:t>Obat PPP harus diberikan sesegera mungkin bila diperlukan (dalam 1-2 ja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ffff00"/>
                </a:solidFill>
                <a:latin typeface="Arial"/>
              </a:rPr>
              <a:t>PPP setelah 72 jam tidak efektif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00"/>
                </a:solidFill>
                <a:latin typeface="Arial"/>
              </a:rPr>
              <a:t>Tetap berikan PPP bila pajanan risiko tinggi meski hingga satu minggu setelahnya (ma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00"/>
                </a:solidFill>
                <a:latin typeface="Arial"/>
              </a:rPr>
              <a:t>Pantau sesuai dengan protoko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x.</a:t>
            </a:r>
            <a:r>
              <a:rPr b="0" lang="id-ID" sz="2000" spc="-1" strike="noStrike">
                <a:solidFill>
                  <a:srgbClr val="ffff00"/>
                </a:solidFill>
                <a:latin typeface="Arial"/>
              </a:rPr>
              <a:t> A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00"/>
                </a:solidFill>
                <a:latin typeface="Arial"/>
              </a:rPr>
              <a:t>Hitung sel darah, LFT, kepatuhan, dukun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758880"/>
            <a:ext cx="7010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900" spc="-1" strike="noStrike">
                <a:solidFill>
                  <a:srgbClr val="ffff00"/>
                </a:solidFill>
                <a:latin typeface="Arial"/>
              </a:rPr>
              <a:t>Tatalaksana Pajananan: 4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2362320"/>
            <a:ext cx="3343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00"/>
                </a:solidFill>
                <a:latin typeface="Arial"/>
              </a:rPr>
              <a:t>Pertimbang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300" spc="-1" strike="noStrike">
                <a:solidFill>
                  <a:srgbClr val="ffff00"/>
                </a:solidFill>
                <a:latin typeface="Arial"/>
              </a:rPr>
              <a:t>Profilaksis Pasca Pajanan  (PPP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50800" y="1980720"/>
            <a:ext cx="453564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ffff00"/>
                </a:solidFill>
                <a:latin typeface="Arial"/>
              </a:rPr>
              <a:t>Didasarkan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300" spc="-1" strike="noStrike">
                <a:solidFill>
                  <a:srgbClr val="ffff00"/>
                </a:solidFill>
                <a:latin typeface="Arial"/>
              </a:rPr>
              <a:t>Derajat pajanan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300" spc="-1" strike="noStrike">
                <a:solidFill>
                  <a:srgbClr val="ffff00"/>
                </a:solidFill>
                <a:latin typeface="Arial"/>
              </a:rPr>
              <a:t>Status infeksi dari sumber pajana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300" spc="-1" strike="noStrike">
                <a:solidFill>
                  <a:srgbClr val="ffff00"/>
                </a:solidFill>
                <a:latin typeface="Arial"/>
              </a:rPr>
              <a:t>Ketersediaan obat PPP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ffff00"/>
                </a:solidFill>
                <a:latin typeface="Arial"/>
              </a:rPr>
              <a:t>Konsel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ffff00"/>
                </a:solidFill>
                <a:latin typeface="Arial"/>
              </a:rPr>
              <a:t>Tindak lanjut dan Evaluasi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rial"/>
              </a:rPr>
              <a:t>PPP untuk Hepatitis B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1143000"/>
          <a:ext cx="8610480" cy="5238720"/>
        </p:xfrm>
        <a:graphic>
          <a:graphicData uri="http://schemas.openxmlformats.org/drawingml/2006/table">
            <a:tbl>
              <a:tblPr/>
              <a:tblGrid>
                <a:gridCol w="2506680"/>
                <a:gridCol w="2214720"/>
                <a:gridCol w="1425240"/>
                <a:gridCol w="2463840"/>
              </a:tblGrid>
              <a:tr h="736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Vaksinasi dan respon antibodi dari Petugas Kesehatan</a:t>
                      </a:r>
                      <a:r>
                        <a:rPr b="1" lang="id-ID" sz="14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Status infeksi Sumber Pajan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HBsAg</a:t>
                      </a: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Wingdings 2"/>
                          <a:ea typeface="Wingdings 2"/>
                        </a:rPr>
                        <a:t></a:t>
                      </a:r>
                      <a:r>
                        <a:rPr b="1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positi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HBsAg negati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Tidak tahu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sarana pemeriksaan (-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Belum divaksina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 dos HBIG + seri vaksinasi hepatitis B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Seri vaksinasi hepatitis 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Seri vaksinasi hepatitis 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Sumber pajanan berisiko tinggi </a:t>
                      </a: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obati seperti pada HBsAg positi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Pernah divaksina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iketahui sbg respon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Tidak perlu PP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Tidak perlu PP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Tidak perlu PP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iketahui sbg non-respon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 dosis HBI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+ ulangan seri vaksinasi hepatitis B atau 2 dosis HBI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Tidak perlu PP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Sumber pajanan berisiko tinggi </a:t>
                      </a: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obati seperti pada HBsAg positi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Tidak diketahui status respon antibodiny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25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Anti-HBs terpajan</a:t>
                      </a: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125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ukup - tidak perlu PPP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125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tidak cukup - 1 dosis HBI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+ vaksin bost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Tidak perlu PP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25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Anti-HBs terpajan</a:t>
                      </a: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125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ukup - tidak perlu PPP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125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tidak cukup - 1 dosis HBI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r>
                        <a:rPr b="0" lang="id-ID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+ vaksin bost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503280"/>
            <a:ext cx="701028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Alur PPP pada pajanan HIV:</a:t>
            </a:r>
            <a:r>
              <a:rPr b="1" lang="id-ID" sz="26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</a:t>
            </a:r>
            <a:br>
              <a:rPr sz="2600"/>
            </a:br>
            <a:r>
              <a:rPr b="1" lang="id-ID" sz="22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1. Menentukan Kategori Pajanan (K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1676520"/>
            <a:ext cx="54738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 Narrow"/>
              </a:rPr>
              <a:t>Sumber pajanan berupa darah, cairan berdarah, atau bahan lain yang berpotensi menularkan infeksi (OPIM), atau alat kesehatan yang tercemar dari salah satu bahan tersebu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2725560"/>
            <a:ext cx="5349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 Narrow"/>
              </a:rPr>
              <a:t>OPI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45360" y="2844720"/>
            <a:ext cx="1071720" cy="58428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Arial Narrow"/>
              </a:rPr>
              <a:t>Tak perlu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PP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2708280"/>
            <a:ext cx="1838160" cy="3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 Narrow"/>
              </a:rPr>
              <a:t>Darah atau cairan berdar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908520"/>
            <a:ext cx="24112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66"/>
                </a:solidFill>
                <a:latin typeface="Arial Narrow"/>
              </a:rPr>
              <a:t>Kulit yg tak utuh atau selaput muko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6" idx="2"/>
            <a:endCxn id="139" idx="1"/>
          </p:cNvCxnSpPr>
          <p:nvPr/>
        </p:nvCxnSpPr>
        <p:spPr>
          <a:xfrm flipH="1" rot="16200000">
            <a:off x="3410640" y="2400120"/>
            <a:ext cx="627840" cy="3229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6" idx="2"/>
            <a:endCxn id="137" idx="3"/>
          </p:cNvCxnSpPr>
          <p:nvPr/>
        </p:nvCxnSpPr>
        <p:spPr>
          <a:xfrm rot="5400000">
            <a:off x="2876760" y="2191320"/>
            <a:ext cx="631080" cy="7437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6" idx="3"/>
            <a:endCxn id="138" idx="0"/>
          </p:cNvCxnSpPr>
          <p:nvPr/>
        </p:nvCxnSpPr>
        <p:spPr>
          <a:xfrm>
            <a:off x="6300720" y="1962000"/>
            <a:ext cx="1481760" cy="883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7308720" y="2276640"/>
            <a:ext cx="863640" cy="288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Arial"/>
              </a:rPr>
              <a:t>Tid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73520" y="3284640"/>
            <a:ext cx="2022480" cy="331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 Narrow"/>
              </a:rPr>
              <a:t>Macam pajanan yang terjad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39" idx="2"/>
            <a:endCxn id="145" idx="0"/>
          </p:cNvCxnSpPr>
          <p:nvPr/>
        </p:nvCxnSpPr>
        <p:spPr>
          <a:xfrm rot="5400000">
            <a:off x="4672800" y="3152880"/>
            <a:ext cx="243720" cy="20880"/>
          </a:xfrm>
          <a:prstGeom prst="bentConnector3">
            <a:avLst>
              <a:gd name="adj1" fmla="val 4955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3724200" y="3908520"/>
            <a:ext cx="1449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 Narrow"/>
              </a:rPr>
              <a:t>Kulit yang utu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6520" y="3898800"/>
            <a:ext cx="1509840" cy="378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 Narrow"/>
              </a:rPr>
              <a:t>Pajanan perkutane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4500720"/>
            <a:ext cx="874800" cy="315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Volum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24200" y="4437000"/>
            <a:ext cx="1440000" cy="36036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Arial Narrow"/>
              </a:rPr>
              <a:t>Tak perlu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PP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84720" y="4437000"/>
            <a:ext cx="1511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 Narrow"/>
              </a:rPr>
              <a:t>Seberapa bera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45" idx="2"/>
            <a:endCxn id="140" idx="0"/>
          </p:cNvCxnSpPr>
          <p:nvPr/>
        </p:nvCxnSpPr>
        <p:spPr>
          <a:xfrm rot="5400000">
            <a:off x="2973960" y="2098440"/>
            <a:ext cx="293040" cy="3328200"/>
          </a:xfrm>
          <a:prstGeom prst="bentConnector3">
            <a:avLst>
              <a:gd name="adj1" fmla="val 4993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5" idx="2"/>
            <a:endCxn id="147" idx="0"/>
          </p:cNvCxnSpPr>
          <p:nvPr/>
        </p:nvCxnSpPr>
        <p:spPr>
          <a:xfrm rot="5400000">
            <a:off x="4470120" y="3594600"/>
            <a:ext cx="293040" cy="335880"/>
          </a:xfrm>
          <a:prstGeom prst="bentConnector3">
            <a:avLst>
              <a:gd name="adj1" fmla="val 4993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5" idx="2"/>
            <a:endCxn id="148" idx="0"/>
          </p:cNvCxnSpPr>
          <p:nvPr/>
        </p:nvCxnSpPr>
        <p:spPr>
          <a:xfrm flipH="1" rot="16200000">
            <a:off x="5670720" y="2728440"/>
            <a:ext cx="283320" cy="205776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79280" y="5091120"/>
            <a:ext cx="1800360" cy="714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 Narrow"/>
              </a:rPr>
              <a:t>Sedi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 Narrow"/>
              </a:rPr>
              <a:t>(mis. satu tetes, dalam waktu singka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40000" y="5091120"/>
            <a:ext cx="2232000" cy="8589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 Narrow"/>
              </a:rPr>
              <a:t>Bany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 Narrow"/>
              </a:rPr>
              <a:t>(mis. Beberapa tetes, percikan darah darah banyak dan/atau dalam waktu lama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5280" y="5157720"/>
            <a:ext cx="158436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 Narrow"/>
              </a:rPr>
              <a:t>Tidak ber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 Narrow"/>
              </a:rPr>
              <a:t>(mis. Jarum solid atau goresan superfisial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4360" y="5157720"/>
            <a:ext cx="197964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 Narrow"/>
              </a:rPr>
              <a:t>Lebih ber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 Narrow"/>
              </a:rPr>
              <a:t>(mis. Jarum besar bersaluran, tusukan dalam, darah terlihat, jarum bekas pasie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4480" y="6251400"/>
            <a:ext cx="658800" cy="3463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P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59280" y="6251400"/>
            <a:ext cx="792000" cy="3463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P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6310440"/>
            <a:ext cx="720720" cy="27468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P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29560" y="6299280"/>
            <a:ext cx="658800" cy="2984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P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49" idx="2"/>
            <a:endCxn id="155" idx="0"/>
          </p:cNvCxnSpPr>
          <p:nvPr/>
        </p:nvCxnSpPr>
        <p:spPr>
          <a:xfrm rot="5400000">
            <a:off x="1467000" y="4428000"/>
            <a:ext cx="275400" cy="1051560"/>
          </a:xfrm>
          <a:prstGeom prst="bentConnector3">
            <a:avLst>
              <a:gd name="adj1" fmla="val 4960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49" idx="2"/>
            <a:endCxn id="156" idx="0"/>
          </p:cNvCxnSpPr>
          <p:nvPr/>
        </p:nvCxnSpPr>
        <p:spPr>
          <a:xfrm flipH="1" rot="16200000">
            <a:off x="2655720" y="4290480"/>
            <a:ext cx="275400" cy="1326240"/>
          </a:xfrm>
          <a:prstGeom prst="bentConnector3">
            <a:avLst>
              <a:gd name="adj1" fmla="val 4960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1" idx="2"/>
            <a:endCxn id="158" idx="0"/>
          </p:cNvCxnSpPr>
          <p:nvPr/>
        </p:nvCxnSpPr>
        <p:spPr>
          <a:xfrm flipH="1" rot="16200000">
            <a:off x="7317360" y="4319640"/>
            <a:ext cx="361080" cy="1315440"/>
          </a:xfrm>
          <a:prstGeom prst="bentConnector3">
            <a:avLst>
              <a:gd name="adj1" fmla="val 497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1" idx="2"/>
            <a:endCxn id="157" idx="0"/>
          </p:cNvCxnSpPr>
          <p:nvPr/>
        </p:nvCxnSpPr>
        <p:spPr>
          <a:xfrm rot="5400000">
            <a:off x="6172920" y="4490640"/>
            <a:ext cx="361080" cy="973800"/>
          </a:xfrm>
          <a:prstGeom prst="bentConnector3">
            <a:avLst>
              <a:gd name="adj1" fmla="val 497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3276720" y="2476440"/>
            <a:ext cx="439560" cy="304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55" idx="2"/>
            <a:endCxn id="159" idx="0"/>
          </p:cNvCxnSpPr>
          <p:nvPr/>
        </p:nvCxnSpPr>
        <p:spPr>
          <a:xfrm rot="5400000">
            <a:off x="853560" y="6025680"/>
            <a:ext cx="446760" cy="5760"/>
          </a:xfrm>
          <a:prstGeom prst="bentConnector3">
            <a:avLst>
              <a:gd name="adj1" fmla="val 4975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6" idx="2"/>
            <a:endCxn id="160" idx="0"/>
          </p:cNvCxnSpPr>
          <p:nvPr/>
        </p:nvCxnSpPr>
        <p:spPr>
          <a:xfrm flipV="1" rot="10800000">
            <a:off x="3455280" y="5949720"/>
            <a:ext cx="1080" cy="3020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7" idx="2"/>
            <a:endCxn id="161" idx="0"/>
          </p:cNvCxnSpPr>
          <p:nvPr/>
        </p:nvCxnSpPr>
        <p:spPr>
          <a:xfrm flipH="1" rot="16200000">
            <a:off x="5686920" y="6129000"/>
            <a:ext cx="361080" cy="2520"/>
          </a:xfrm>
          <a:prstGeom prst="bentConnector3">
            <a:avLst>
              <a:gd name="adj1" fmla="val 497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47" idx="2"/>
            <a:endCxn id="150" idx="0"/>
          </p:cNvCxnSpPr>
          <p:nvPr/>
        </p:nvCxnSpPr>
        <p:spPr>
          <a:xfrm rot="5400000">
            <a:off x="4366440" y="4354200"/>
            <a:ext cx="160920" cy="5400"/>
          </a:xfrm>
          <a:prstGeom prst="bentConnector3">
            <a:avLst>
              <a:gd name="adj1" fmla="val 493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48" idx="2"/>
            <a:endCxn id="151" idx="0"/>
          </p:cNvCxnSpPr>
          <p:nvPr/>
        </p:nvCxnSpPr>
        <p:spPr>
          <a:xfrm rot="5400000">
            <a:off x="6760440" y="4355640"/>
            <a:ext cx="160920" cy="2520"/>
          </a:xfrm>
          <a:prstGeom prst="bentConnector3">
            <a:avLst>
              <a:gd name="adj1" fmla="val 493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40" idx="2"/>
            <a:endCxn id="149" idx="0"/>
          </p:cNvCxnSpPr>
          <p:nvPr/>
        </p:nvCxnSpPr>
        <p:spPr>
          <a:xfrm flipH="1" rot="16200000">
            <a:off x="1681920" y="4051800"/>
            <a:ext cx="224640" cy="673920"/>
          </a:xfrm>
          <a:prstGeom prst="bentConnector3">
            <a:avLst>
              <a:gd name="adj1" fmla="val 4959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58" idx="2"/>
            <a:endCxn id="162" idx="0"/>
          </p:cNvCxnSpPr>
          <p:nvPr/>
        </p:nvCxnSpPr>
        <p:spPr>
          <a:xfrm rot="5400000">
            <a:off x="7967880" y="6112440"/>
            <a:ext cx="278280" cy="96120"/>
          </a:xfrm>
          <a:prstGeom prst="bentConnector3">
            <a:avLst>
              <a:gd name="adj1" fmla="val 4974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XP</cp:lastModifiedBy>
  <dcterms:modified xsi:type="dcterms:W3CDTF">2010-01-11T02:03:1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