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jpeg" ContentType="image/jpeg"/>
  <Override PartName="/ppt/media/image24.jpeg" ContentType="image/jpeg"/>
  <Override PartName="/ppt/media/image26.gif" ContentType="image/gif"/>
  <Override PartName="/ppt/media/image20.jpeg" ContentType="image/jpeg"/>
  <Override PartName="/ppt/media/image1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7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7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D91A-B67F-4EDA-BA8E-4EEA925B1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49E0-6BCB-4A60-AD0C-D8E835727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A723-9633-41C4-877E-EF27857A9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FE8E-3398-4A01-BB4B-EF66B634F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5113-60A5-45AA-8C3F-C800DA82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5D92-4F26-441F-8E55-12F5E5E06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9F0F-FD03-4286-B10F-1401A448D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5DE8-5AAE-4B6B-B1A1-9147B6F89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1078-76FC-4261-AEE4-E13FBA414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1BBA-A5AE-4F92-BACB-F2AE56C6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EAC4-122F-4637-BE7B-258F3AB4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4B2F-E8F3-4B30-8CF9-7949CD4B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18497-80FA-4240-B09B-66D60B0446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BG05-Dance_of_the_Great_Wall.wav" TargetMode="External"/><Relationship Id="rId3" Type="http://schemas.microsoft.com/office/2007/relationships/media" Target="file:///tmp/home/.config/libreoffice/4/user/gallery/BG05-Dance_of_the_Great_Wall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image" Target="../media/image26.gif"/><Relationship Id="rId4" Type="http://schemas.openxmlformats.org/officeDocument/2006/relationships/image" Target="../media/image27.gif"/><Relationship Id="rId5" Type="http://schemas.openxmlformats.org/officeDocument/2006/relationships/image" Target="../media/image27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t164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600200" y="990720"/>
            <a:ext cx="4648320" cy="16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8000"/>
                  </a:solidFill>
                  <a:miter/>
                </a:ln>
                <a:solidFill>
                  <a:srgbClr val="ffcc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Jardins chinois</a:t>
            </a:r>
            <a:endParaRPr b="0" lang="en-US" sz="2400" spc="1" strike="noStrike">
              <a:ln w="12600">
                <a:solidFill>
                  <a:srgbClr val="008000"/>
                </a:solidFill>
                <a:miter/>
              </a:ln>
              <a:solidFill>
                <a:srgbClr val="ffcc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8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Par: Mich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33756244_P9110605_pagodejou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arbre-mer-jardin-rio-bresil-15989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gardiens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jach4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jach10b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lac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rintemps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romenade%2520en%2520zigza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yili%25200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yili%25200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avillon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yili%25200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yili%252002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yili%25200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anton-jardin-ete3z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solidFill>
            <a:srgbClr val="ffff00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500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250" autoRev="1" fill="hold"/>
                                        <p:tgtEl>
                                          <p:spTgt spid="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normalpara1bt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montagne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lune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8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33756241_P9110603_bassinjou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33755575_P9110006_etan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Bateau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8T13:21:19Z</dcterms:created>
  <dc:creator>Michel Girouard</dc:creator>
  <dc:description/>
  <dc:language>en-US</dc:language>
  <cp:lastModifiedBy>Smets</cp:lastModifiedBy>
  <dcterms:modified xsi:type="dcterms:W3CDTF">2009-12-12T18:46:01Z</dcterms:modified>
  <cp:revision>10</cp:revision>
  <dc:subject/>
  <dc:title>PowerPoint Presentation</dc:title>
</cp:coreProperties>
</file>