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CE3-10E0-4FD2-9A40-2D38C755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8AD-163F-4D7D-8EC4-EC74F7A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D9B-D405-4C41-BA94-8931C14E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F7C-459A-47B4-867D-E3CA5725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CA6-386B-4FD1-9294-08E0FEA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0EA-5DA2-4813-B0AD-D2A611C6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1DB-0804-44F1-A3B5-12F7BF9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559-6CE1-4F75-9E78-8CEB3D1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CC5-28D7-4552-9BF1-F99AADFA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9F8-8FCE-4B1C-B14B-CDF6138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715-748D-4234-BF91-B7198BA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1B1-B335-49CA-8DAA-9A0973B8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A422-AA1B-4098-B56E-E35CE1037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BG05-Dance_of_the_Great_Wall.wav" TargetMode="External"/><Relationship Id="rId3" Type="http://schemas.microsoft.com/office/2007/relationships/media" Target="file:///tmp/home/.config/libreoffice/4/user/gallery/BG05-Dance_of_the_Great_Wa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t16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990720"/>
            <a:ext cx="464832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Jardins chinois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Par: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3756244_P9110605_pagodejo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bre-mer-jardin-rio-bresil-1598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ardiens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ach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ach10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ac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rintemps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romenade%2520en%2520zigza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yili%252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yili%25200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villo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yili%2520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yili%2520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yili%2520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nton-jardin-ete3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ormalpara1bt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ontagn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un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756241_P9110603_bassinjo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3755575_P9110006_eta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at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3:21:19Z</dcterms:created>
  <dc:creator>Michel Girouard</dc:creator>
  <dc:description/>
  <dc:language>en-US</dc:language>
  <cp:lastModifiedBy>Smets</cp:lastModifiedBy>
  <dcterms:modified xsi:type="dcterms:W3CDTF">2009-12-12T18:46:01Z</dcterms:modified>
  <cp:revision>10</cp:revision>
  <dc:subject/>
  <dc:title>PowerPoint Presentation</dc:title>
</cp:coreProperties>
</file>