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3D0-6113-4C3B-974D-A08B768B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34D-B11E-421B-8693-08280ED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958-031F-4E22-8DBC-868C4525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FBD-0D45-4879-B6FF-267A7445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7A1-28C9-4FF2-A4A2-959E7B6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71A-9AF1-4249-8A1C-5BD7561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270-A0D1-4188-8F91-5CDD7DF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BC2-740C-4792-8BD1-EF3F604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E12-85CB-4D4C-92CD-F9A4BD9D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444-8CF9-4BBC-B198-1D2C9DD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82F-F489-4820-A4AB-3D72317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51C-2307-4785-8166-5206D4C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F6C-0E79-4FD5-A8C3-2E8D9CCB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audio" Target="file:///tmp/home/.config/libreoffice/4/user/gallery/Op%20lengte%20voor%20PPS.wav" TargetMode="External"/><Relationship Id="rId7" Type="http://schemas.microsoft.com/office/2007/relationships/media" Target="file:///tmp/home/.config/libreoffice/4/user/gallery/Op%20lengte%20voor%20PPS.wav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84720" y="6307200"/>
            <a:ext cx="25052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noel's powerpoint</a:t>
            </a:r>
            <a:endParaRPr b="1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30400" y="26496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hart onder de riem</a:t>
            </a:r>
            <a:endParaRPr b="1" i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1052640"/>
            <a:ext cx="6248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huil je mama?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597040" y="1916280"/>
            <a:ext cx="3990960" cy="39589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0920" y="6354720"/>
            <a:ext cx="4267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ziek: Percy sledge Ave Maria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920" y="5086440"/>
            <a:ext cx="85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tieners te helpen met hun twijfels en angst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kracht om voor haar ma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 zorgen, ondanks zijn fout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340000" y="321300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 heeft een speciale gave om kinder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er te doen lach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2556000" y="333360"/>
            <a:ext cx="633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maakte haar uit een rib van hem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zijn hart te bescherm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wijsheid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270828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te weten dat een goede echtgenoot zijn vrouw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oit pijn zou doen, maar dat hij haar soms test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 haar krach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0920" y="266760"/>
            <a:ext cx="86421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ook om haar bij te staan,door dik en du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oor al dit harde werk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f ik haar ook een traan om te lat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1844640"/>
            <a:ext cx="849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t is van haar, zij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 kan het gebruiken wanneer zij dat nodig heef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640" y="3284640"/>
            <a:ext cx="612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t is haar enige zwakte....</a:t>
            </a:r>
            <a:endParaRPr b="1" i="1" lang="en-US" sz="32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124000" y="476280"/>
            <a:ext cx="488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nneer je haar ziet huil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16000" y="1125360"/>
            <a:ext cx="69724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g haar dan hoeveel je van haar houdt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76560" y="1773360"/>
            <a:ext cx="47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hoe goed de dingen zij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4560" y="2421000"/>
            <a:ext cx="451944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e ze voor anderen doe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44360"/>
            <a:ext cx="8785440" cy="655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4000" y="189000"/>
            <a:ext cx="6419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alhoewel ze dan nog steeds huilt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620640"/>
            <a:ext cx="41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et dan dat ze zich wel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7280" y="5532480"/>
            <a:ext cx="673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gelijk iets beter voelt.</a:t>
            </a:r>
            <a:endParaRPr b="1" i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64960" y="162000"/>
            <a:ext cx="8699760" cy="6524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8360" y="189000"/>
            <a:ext cx="8207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ur dit door naar elke Vrouw in je mailbox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95600" y="1135080"/>
            <a:ext cx="3952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 verdient het.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6105600"/>
            <a:ext cx="8353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ur het ook naar de mannen, mss leren zij eruit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04000" y="5734080"/>
            <a:ext cx="19432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noel's powerpoint</a:t>
            </a:r>
            <a:endParaRPr b="1" i="1" lang="en-US" sz="1600" spc="1" strike="noStrike">
              <a:ln w="1584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22120" y="189000"/>
            <a:ext cx="874260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42920" y="260280"/>
            <a:ext cx="7058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huil je mam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oeg een kleine jongen aan zijn moeder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84464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Omdat ik een vrouw ben" antwoorde zij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Ik begrijp het niet." zei het jongentje weer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79280" y="162000"/>
            <a:ext cx="8785440" cy="6535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11280" y="26028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n moeder knuffelde hem en zei met een vage lach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dat zal jij ook nooit lieve kind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ar dat maakt niet ui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179280"/>
            <a:ext cx="8785440" cy="6489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55640" y="189000"/>
            <a:ext cx="7561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ter vroeg de kleine jongen aan zijn vader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pa, waarom huilt mama zomaar zonder reden?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16000" y="1222200"/>
            <a:ext cx="6943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jn vader kon alleen maar antwoorden: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lle vrouwen huilen zonder red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79280" y="247680"/>
            <a:ext cx="8785440" cy="6494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95280" y="260280"/>
            <a:ext cx="590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kleine jongen groeide op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werd een jonge ma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70028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ch nog steeds afvragend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arom vrouwen huil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78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8360" y="404640"/>
            <a:ext cx="511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iteindelijk riep hij de hulp i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n god en vroeg hem: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557360"/>
            <a:ext cx="5267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d, waarom huilen vrouwen?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d antwoorde het vogende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0000" y="2852640"/>
            <a:ext cx="6534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en ik de vrouw schiep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sloot ik dat ze speciaal moest zij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7680" y="476280"/>
            <a:ext cx="8645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schouders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erk genoeg om het leed van de wereld te dra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24000" y="2637000"/>
            <a:ext cx="48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ar ook zachte arme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m comfort te bieden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76360" y="4581360"/>
            <a:ext cx="6121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innerlijke kracht om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vallingen te doorstaa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om tegen afwijzing te kunn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lke zei vaak zou gaan krij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rcRect l="0" t="2815" r="0" b="0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47640" y="-171360"/>
            <a:ext cx="6181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ms zelfs van haar eigen kinderen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7280" y="4307040"/>
            <a:ext cx="6791400" cy="22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de harheid, het doorzettings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mogen om voor haar vrienden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familie te zor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elfs wanneer iedereen het opgeeft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985240" y="-27000"/>
            <a:ext cx="195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-11160" y="-2700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-36360" y="6691320"/>
            <a:ext cx="9237600" cy="19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201600"/>
            <a:ext cx="8856720" cy="648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8360" y="47628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ekte en vermoeidheid houden haar dan niet teg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zij klaagt nooit..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7280" y="2708280"/>
            <a:ext cx="67723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k gaf haar gevoeligheid, 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odat zij haar kinderen lief zal hebben,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nder welke omstandigheid dan ook.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53:53Z</dcterms:created>
  <dc:creator>noel</dc:creator>
  <dc:description/>
  <dc:language>en-US</dc:language>
  <cp:lastModifiedBy>noel</cp:lastModifiedBy>
  <dcterms:modified xsi:type="dcterms:W3CDTF">2005-09-26T18:07:19Z</dcterms:modified>
  <cp:revision>78</cp:revision>
  <dc:subject/>
  <dc:title>Dia 1</dc:title>
</cp:coreProperties>
</file>