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E08-DA84-49EE-A098-E3C051BF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A50-3FBA-4636-9181-1EC6743F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E29-A151-42D7-811A-91D7D279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82E-F58E-44FF-AD81-A7C26BAF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CBE-7C40-49F1-A141-84A4D64B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BB1-8B4B-4298-AC1B-F64A0486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ECD-C310-4E49-80B0-51A74D6B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0B9-E027-4DCA-8C8A-44DA2946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DFB-E91E-4602-BB93-58BD600B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8CC-529B-4F8D-A355-FDDB8EAB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786-542F-4FF5-90F6-2FF549F4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9B2-786F-4A9A-9128-40A04487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E6A5-956C-4B1B-8D38-98AD78B39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audio" Target="file:///tmp/home/.config/libreoffice/4/user/gallery/Op%20lengte%20voor%20PPS.wav" TargetMode="External"/><Relationship Id="rId7" Type="http://schemas.microsoft.com/office/2007/relationships/media" Target="file:///tmp/home/.config/libreoffice/4/user/gallery/Op%20lengte%20voor%20PPS.wav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84720" y="6307200"/>
            <a:ext cx="25052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noel's powerpoint</a:t>
            </a:r>
            <a:endParaRPr b="1" i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30400" y="26496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hart onder de riem</a:t>
            </a:r>
            <a:endParaRPr b="1" i="1" lang="en-US" sz="32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03280" y="1052640"/>
            <a:ext cx="6248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aarom huil je mama?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597040" y="1916280"/>
            <a:ext cx="3990960" cy="39589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250920" y="6354720"/>
            <a:ext cx="4267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ziek: Percy sledge Ave Maria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483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50920" y="5086440"/>
            <a:ext cx="856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m tieners te helpen met hun twijfels en angste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gaf haar de kracht om voor haar man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 zorgen, ondanks zijn fouten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340000" y="3213000"/>
            <a:ext cx="64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e heeft een speciale gave om kinderen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er te doen lach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5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>
            <a:off x="2556000" y="333360"/>
            <a:ext cx="6337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maakte haar uit een rib van hem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m zijn hart te bescherme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gaf haar de wijsheid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2708280"/>
            <a:ext cx="842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m te weten dat een goede echtgenoot zijn vrouw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oit pijn zou doen, maar dat hij haar soms test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p haar kracht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50920" y="266760"/>
            <a:ext cx="864216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ook om haar bij te staan,door dik en du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oor al dit harde werk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f ik haar ook een traan om te late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5280" y="1844640"/>
            <a:ext cx="8496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t is van haar, zij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ij kan het gebruiken wanneer zij dat nodig heeft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47640" y="3284640"/>
            <a:ext cx="612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it is haar enige zwakte....</a:t>
            </a:r>
            <a:endParaRPr b="1" i="1" lang="en-US" sz="32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124000" y="476280"/>
            <a:ext cx="488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anneer je haar ziet huil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16000" y="1125360"/>
            <a:ext cx="69724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eg haar dan hoeveel je van haar houdt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76560" y="1773360"/>
            <a:ext cx="4771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hoe goed de dingen zijn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4560" y="2421000"/>
            <a:ext cx="451944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ie ze voor anderen doet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44360"/>
            <a:ext cx="8785440" cy="655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24000" y="189000"/>
            <a:ext cx="6419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alhoewel ze dan nog steeds huilt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620640"/>
            <a:ext cx="410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et dan dat ze zich wel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7280" y="5532480"/>
            <a:ext cx="6734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gelijk iets beter voelt.</a:t>
            </a:r>
            <a:endParaRPr b="1" i="1" lang="en-US" sz="4000" spc="1" strike="noStrike">
              <a:ln w="255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64960" y="162000"/>
            <a:ext cx="8699760" cy="6524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68360" y="189000"/>
            <a:ext cx="8207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uur dit door naar elke Vrouw in je mailbox..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95600" y="1135080"/>
            <a:ext cx="3952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e verdient het.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6105600"/>
            <a:ext cx="83534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uur het ook naar de mannen, mss leren zij eruit..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04000" y="5734080"/>
            <a:ext cx="19432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noel's powerpoint</a:t>
            </a:r>
            <a:endParaRPr b="1" i="1" lang="en-US" sz="1600" spc="1" strike="noStrike">
              <a:ln w="1584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3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22120" y="189000"/>
            <a:ext cx="8742600" cy="648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042920" y="260280"/>
            <a:ext cx="7058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aarom huil je mama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roeg een kleine jongen aan zijn moeder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84464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Omdat ik een vrouw ben" antwoorde zij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Ik begrijp het niet." zei het jongentje weer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79280" y="162000"/>
            <a:ext cx="8785440" cy="6535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11280" y="260280"/>
            <a:ext cx="7848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ijn moeder knuffelde hem en zei met een vage lach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dat zal jij ook nooit lieve kind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ar dat maakt niet uit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79280" y="179280"/>
            <a:ext cx="8785440" cy="6489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755640" y="189000"/>
            <a:ext cx="7561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ter vroeg de kleine jongen aan zijn vader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pa, waarom huilt mama zomaar zonder reden?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16000" y="1222200"/>
            <a:ext cx="6943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ijn vader kon alleen maar antwoorden: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lle vrouwen huilen zonder rede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79280" y="247680"/>
            <a:ext cx="8785440" cy="6494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95280" y="260280"/>
            <a:ext cx="590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kleine jongen groeide op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werd een jonge ma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70028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ich nog steeds afvragend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aarom vrouwen huile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478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68360" y="404640"/>
            <a:ext cx="5111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iteindelijk riep hij de hulp in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an god en vroeg hem: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557360"/>
            <a:ext cx="5267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d, waarom huilen vrouwen?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d antwoorde het vogende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0000" y="2852640"/>
            <a:ext cx="6534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oen ik de vrouw schiep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sloot ik dat ze speciaal moest zij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47680" y="476280"/>
            <a:ext cx="86454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gaf haar schouders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erk genoeg om het leed van de wereld te drag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24000" y="2637000"/>
            <a:ext cx="482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ar ook zachte armen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m comfort te biede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76360" y="4581360"/>
            <a:ext cx="61214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gaf haar innerlijke kracht om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vallingen te doorstaan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om tegen afwijzing te kunn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lke zei vaak zou gaan krijg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rcRect l="0" t="2815" r="0" b="0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47640" y="-171360"/>
            <a:ext cx="6181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ms zelfs van haar eigen kinderen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7280" y="4307040"/>
            <a:ext cx="6791400" cy="22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gaf haar de harheid, het doorzettings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ermogen om voor haar vrienden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familie te zorg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elfs wanneer iedereen het opgeeft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79280" y="201600"/>
            <a:ext cx="8856720" cy="6486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8360" y="476280"/>
            <a:ext cx="828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iekte en vermoeidheid houden haar dan niet teg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zij klaagt nooit..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7280" y="2708280"/>
            <a:ext cx="677232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gaf haar gevoeligheid,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odat zij haar kinderen lief zal hebb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nder welke omstandigheid dan ook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6:53:53Z</dcterms:created>
  <dc:creator>noel</dc:creator>
  <dc:description/>
  <dc:language>en-US</dc:language>
  <cp:lastModifiedBy>noel</cp:lastModifiedBy>
  <dcterms:modified xsi:type="dcterms:W3CDTF">2005-09-26T18:07:19Z</dcterms:modified>
  <cp:revision>78</cp:revision>
  <dc:subject/>
  <dc:title>Dia 1</dc:title>
</cp:coreProperties>
</file>