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E44-5E76-465A-963E-30915D92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B4D-594B-4C0A-91A9-FC29052D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588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315-CA56-4435-953C-436841F3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460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112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460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112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186-7C09-457D-B2A1-63A09A9F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9C80-4B10-4AEC-93A9-2ED7ACF6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239F-C954-43B0-B122-0B0A4324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C28E-C963-47CA-B266-1552CF85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03C4-6C91-4AE7-BFB0-86B26143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4908-4B61-48C1-9029-EB04BCB6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228240"/>
            <a:ext cx="8001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C8E2-7095-417F-A255-F1C75685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C63-9428-4F3D-8CE3-0B797796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190-523F-425C-8F3D-C3958F45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1588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A59A-CF21-4E8D-B2E4-9C0DF44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9089-E66B-4498-889B-CE81A38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F3A4-5DD3-4DA4-A75C-A90EAEE0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1588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FE91-D31F-4DA2-BBFB-04EA9EDC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9460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51120" y="12193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9460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51120" y="37666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A081-0576-449F-9FB7-4AF6116E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BD8-0D13-409E-A431-FA96EB91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B1F-7F1E-4AAC-AC99-B65C57DE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0E8-3C9B-48E1-BEA5-05ED7D5D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228240"/>
            <a:ext cx="8001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1B9-A26D-4592-B307-D182F515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8D6-1653-41E1-A9F1-452C0B53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5880" y="37666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BFF-D979-4511-A58A-317A59AC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5880" y="12193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A43-1A83-44CA-9E44-233F3C1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&lt;footer&gt;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Leader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956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8B4E-67C0-45C7-BCF8-FD9BB8971C14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RANCHER" descr="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4800600" y="1523880"/>
            <a:ext cx="4343400" cy="3700440"/>
          </a:xfrm>
          <a:prstGeom prst="rect">
            <a:avLst/>
          </a:prstGeom>
          <a:ln w="0">
            <a:noFill/>
          </a:ln>
        </p:spPr>
      </p:pic>
      <p:pic>
        <p:nvPicPr>
          <p:cNvPr id="7" name="LOGO%20TRUSTCO" descr=""/>
          <p:cNvPicPr/>
          <p:nvPr/>
        </p:nvPicPr>
        <p:blipFill>
          <a:blip r:embed="rId4"/>
          <a:stretch/>
        </p:blipFill>
        <p:spPr>
          <a:xfrm>
            <a:off x="76320" y="5181480"/>
            <a:ext cx="838080" cy="74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D131-9DCF-4B32-8CA1-914128A7DFD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00"/>
                </a:solidFill>
                <a:latin typeface="News Gothic MT"/>
              </a:rPr>
              <a:t>Ke</a:t>
            </a:r>
            <a:r>
              <a:rPr b="0" lang="en-US" sz="7200" spc="-1" strike="noStrike" u="sng">
                <a:solidFill>
                  <a:srgbClr val="996600"/>
                </a:solidFill>
                <a:uFillTx/>
                <a:latin typeface="Lucida Console"/>
              </a:rPr>
              <a:t>pemimpin</a:t>
            </a:r>
            <a:r>
              <a:rPr b="0" lang="en-US" sz="7200" spc="-1" strike="noStrike">
                <a:solidFill>
                  <a:srgbClr val="996600"/>
                </a:solidFill>
                <a:latin typeface="News Gothic MT"/>
              </a:rPr>
              <a:t>an</a:t>
            </a:r>
            <a:r>
              <a:rPr b="0" lang="en-US" sz="8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996600"/>
                </a:solidFill>
                <a:latin typeface="Times New Roman"/>
              </a:rPr>
              <a:t>dalam</a:t>
            </a:r>
            <a:r>
              <a:rPr b="0" lang="en-US" sz="8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8800" spc="-1" strike="noStrike" u="sng">
                <a:solidFill>
                  <a:srgbClr val="996600"/>
                </a:solidFill>
                <a:uFillTx/>
                <a:latin typeface="Times New Roman"/>
              </a:rPr>
              <a:t>Islam</a:t>
            </a:r>
            <a:endParaRPr b="0" lang="en-US" sz="8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Paradigma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 kepemimp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Per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Tauhid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dalam Kepemimp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Sifat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-sifat Pemimp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Ketrampilan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Kepemimpinan yang efek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ntique Oliv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Rambu-rambu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ntique Olive"/>
              </a:rPr>
              <a:t>Operasional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kepemimpinan Is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MSTRATE" descr=""/>
          <p:cNvPicPr/>
          <p:nvPr/>
        </p:nvPicPr>
        <p:blipFill>
          <a:blip r:embed="rId1"/>
          <a:stretch/>
        </p:blipFill>
        <p:spPr>
          <a:xfrm>
            <a:off x="6040440" y="4038480"/>
            <a:ext cx="3103560" cy="30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E21-FD3A-40CF-A9D6-5468C0E0CD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Paradigma Kepemimpinan: </a:t>
            </a:r>
            <a:br>
              <a:rPr sz="3600"/>
            </a:br>
            <a:r>
              <a:rPr b="0" lang="en-US" sz="2800" spc="-1" strike="noStrike" u="sng">
                <a:solidFill>
                  <a:srgbClr val="996600"/>
                </a:solidFill>
                <a:uFillTx/>
                <a:latin typeface="Times New Roman"/>
              </a:rPr>
              <a:t>Pemimpian adalah</a:t>
            </a: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nsur yang mutlak untuk eksistensi  u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anggung beban dan  jawab dalam, bukan kemuli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eladan dan wuj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yah  dan Bapak bagi u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5000"/>
              </a:lnSpc>
              <a:spcBef>
                <a:spcPts val="799"/>
              </a:spcBef>
              <a:buClr>
                <a:srgbClr val="9966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presentasi umat atau bang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MCROWD" descr=""/>
          <p:cNvPicPr/>
          <p:nvPr/>
        </p:nvPicPr>
        <p:blipFill>
          <a:blip r:embed="rId1"/>
          <a:stretch/>
        </p:blipFill>
        <p:spPr>
          <a:xfrm>
            <a:off x="4788000" y="4495680"/>
            <a:ext cx="427968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F85-BBBF-41BA-8D96-C4CC441AF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eran Tauhid dalam Kepemimpinan,</a:t>
            </a:r>
            <a:br>
              <a:rPr sz="3600"/>
            </a:b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bahwa Tauhid: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rupak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sas dan prinsi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jaran Islam: Pemimpin adalah hamba Allah SW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bebaskan manusia dari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ketergantunga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epada siapap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lahirkan kons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kebersamaa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tara manus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yentuh aspek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hubungan manu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engan manusia dan alam sekit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benarkan seseora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taat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epada  pemimpin selama tidak bermaksiat dan melanggar aturan Alla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gajarkan bahwa kehidup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un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dalah bagian dari perjalan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akh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andang kekuasaan dan kepemimpinan adalah  bagian yang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integral dari ibada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E4F-2D55-4317-B9CD-8D0D485778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ifat-sifat Pemimpin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at (qow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at dipercaya (amana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dai menjaga (hafid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ilmu pengetahuan (ali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as as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yay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jaksana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MPOWER" descr=""/>
          <p:cNvPicPr/>
          <p:nvPr/>
        </p:nvPicPr>
        <p:blipFill>
          <a:blip r:embed="rId1"/>
          <a:stretch/>
        </p:blipFill>
        <p:spPr>
          <a:xfrm>
            <a:off x="5181480" y="3683160"/>
            <a:ext cx="3667320" cy="27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A54-01CC-49DA-BF60-E69419FE5D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News Gothic MT"/>
              </a:rPr>
              <a:t>Ke</a:t>
            </a:r>
            <a:r>
              <a:rPr b="1" lang="en-US" sz="3200" spc="-1" strike="noStrike" u="sng">
                <a:solidFill>
                  <a:srgbClr val="996600"/>
                </a:solidFill>
                <a:uFillTx/>
                <a:latin typeface="News Gothic MT"/>
              </a:rPr>
              <a:t>trampil</a:t>
            </a:r>
            <a:r>
              <a:rPr b="0" lang="en-US" sz="3200" spc="-1" strike="noStrike">
                <a:solidFill>
                  <a:srgbClr val="996600"/>
                </a:solidFill>
                <a:latin typeface="News Gothic MT"/>
              </a:rPr>
              <a:t>an </a:t>
            </a:r>
            <a:br>
              <a:rPr sz="3200"/>
            </a:br>
            <a:r>
              <a:rPr b="0" lang="en-US" sz="3200" spc="-1" strike="noStrike">
                <a:solidFill>
                  <a:srgbClr val="996600"/>
                </a:solidFill>
                <a:latin typeface="News Gothic MT"/>
              </a:rPr>
              <a:t>Ke</a:t>
            </a:r>
            <a:r>
              <a:rPr b="1" lang="en-US" sz="3200" spc="-1" strike="noStrike" u="sng">
                <a:solidFill>
                  <a:srgbClr val="996600"/>
                </a:solidFill>
                <a:uFillTx/>
                <a:latin typeface="News Gothic MT"/>
              </a:rPr>
              <a:t>pemimpin</a:t>
            </a:r>
            <a:r>
              <a:rPr b="0" lang="en-US" sz="3200" spc="-1" strike="noStrike">
                <a:solidFill>
                  <a:srgbClr val="996600"/>
                </a:solidFill>
                <a:latin typeface="News Gothic MT"/>
              </a:rPr>
              <a:t>an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iliki wawasan  untuk masa de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iliki  obsesi dan tujuan untuk masa de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ngembangkan strategi untuk mencapai tujuan masa de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ndapatkan dukungan bawa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ngelola sumber d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bangun kerjasama, sinergi dan  produktiv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emberi motivasi kepada bawa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AMTEAM" descr=""/>
          <p:cNvPicPr/>
          <p:nvPr/>
        </p:nvPicPr>
        <p:blipFill>
          <a:blip r:embed="rId1"/>
          <a:stretch/>
        </p:blipFill>
        <p:spPr>
          <a:xfrm>
            <a:off x="4495680" y="112680"/>
            <a:ext cx="320040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FA6-3444-48C6-9C09-7780C4F6D3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Rambu-rambu operasional </a:t>
            </a:r>
            <a:br>
              <a:rPr sz="3200"/>
            </a:br>
            <a:r>
              <a:rPr b="0" lang="en-US" sz="3200" spc="-1" strike="noStrike">
                <a:solidFill>
                  <a:srgbClr val="996600"/>
                </a:solidFill>
                <a:latin typeface="Times New Roman"/>
              </a:rPr>
              <a:t>kepemimpinan Islam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yal dan setia kepada All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rorientasi kepada  kepentingan Is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rpegang kepada sy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njaga akhlak isl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ngemban aman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ngemban keadi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anyak bermusyawar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emberikan kebebas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komod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rtawakal kepada All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IDDERS" descr=""/>
          <p:cNvPicPr/>
          <p:nvPr/>
        </p:nvPicPr>
        <p:blipFill>
          <a:blip r:embed="rId1"/>
          <a:stretch/>
        </p:blipFill>
        <p:spPr>
          <a:xfrm>
            <a:off x="5486400" y="3278160"/>
            <a:ext cx="3581280" cy="243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7FE-F1E1-4C87-8124-687D29F8D1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54864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mpil  dalam memim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ANCHER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800100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F7F-8806-4284-9B55-26673719C7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-15228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  <a:ea typeface="Arial"/>
              </a:rPr>
              <a:t>Tugas Pemimpin</a:t>
            </a:r>
            <a:r>
              <a:rPr b="1" lang="en-US" sz="3600" spc="-1" strike="noStrike">
                <a:solidFill>
                  <a:srgbClr val="9966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  <a:ea typeface="Arial"/>
              </a:rPr>
              <a:t>(Mustofa Masyhur)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9280" y="126036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553080" y="0"/>
            <a:ext cx="769608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09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khl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karena Allah sem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lam bekerja  harus memilk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peka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erhadap pengawasan dan penjagaan Allah s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alu memoh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tolong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lam seluruh keadaan dan aktivitasnya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ilik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ggung jaw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untuk selalu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jaga di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ana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erhadap apa yang diembankan kepadany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erikan porsi yang besar untuk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ndidikan anggo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n menyiapk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ener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rjaliny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asih  say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kepada seluruh anggota, yaitu dengan ukhuwah yang tulus ikh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mpu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rencanakan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ngan tepat, menentukan tahap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rategi, sumber d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gelola o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uai dengan kemampuan  person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angu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klim saling perca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n berbaik sangka dalam ti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mimpin harus selalu bersungguh-sunggu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nyalakan cita-cita,  mengukuhkan tekad dan membangkitkan hara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 kalangan anggota lembaga  atau jama’ah. Ingat kepemimpinan dapat dipelaj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820-3425-4123-8275-26400EA27C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MPOWER" descr=""/>
          <p:cNvPicPr/>
          <p:nvPr/>
        </p:nvPicPr>
        <p:blipFill>
          <a:blip r:embed="rId1"/>
          <a:stretch/>
        </p:blipFill>
        <p:spPr>
          <a:xfrm>
            <a:off x="5181480" y="3683160"/>
            <a:ext cx="3667320" cy="27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CA5-1BD3-47E2-98DF-6F172DDEA1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11:48:49Z</dcterms:created>
  <dc:creator>Jundi</dc:creator>
  <dc:description/>
  <dc:language>en-US</dc:language>
  <cp:lastModifiedBy>Dwiko Hari Dastriadi</cp:lastModifiedBy>
  <dcterms:modified xsi:type="dcterms:W3CDTF">2007-01-26T05:59:16Z</dcterms:modified>
  <cp:revision>17</cp:revision>
  <dc:subject/>
  <dc:title>Leadership  in  Islam</dc:title>
</cp:coreProperties>
</file>