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E41-A9A0-4542-A222-9140633C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0A6-9DC5-4664-A19F-0A8F11F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588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B37-4C65-4F2B-B704-016A34AE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460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112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460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112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9EC-4F09-4D46-AD93-87DE6EEA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8289-A5F3-4621-9E0E-E9BCC46C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0AB7-4690-4FC3-BEE7-885FF378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5453-FDC1-4184-A2E1-567415B4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CB1B-72D9-4889-8479-41501A4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C30A-90F7-4C90-8080-80390335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228240"/>
            <a:ext cx="8001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E18F-D451-415E-9F89-44B3FFCE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2EB5-81BE-4B8F-8604-B0D7FD6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18A-6E38-41B0-B3C2-0DE00FCB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1588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2ACD-1FBB-4DFA-BF77-C1FF288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931A-0B4D-4009-B4D3-C1C0836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410F-7045-4164-BB74-9F4D690C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1588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BCB8-91B0-4994-BE15-BCF11637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9460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5112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9460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5112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29A7-AFB0-4579-A8B4-86599E7D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D06-800B-4A62-A9D1-AA32BB03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0D5-1370-4494-994F-B536ED63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8B7-85BF-4352-8E03-C752A7D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228240"/>
            <a:ext cx="8001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309-A14F-40F2-817D-5C08CA91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87C-2B0E-4F71-B21F-D7DE52E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588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D1E-3DD3-41A2-AFD8-82AF3EA8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E95-FF4B-4696-AABD-6ABBA62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&lt;footer&gt;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956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86CB-DA7F-4B7C-AE9F-758AF186C102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RANCHER" descr="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4800600" y="1523880"/>
            <a:ext cx="4343400" cy="3700440"/>
          </a:xfrm>
          <a:prstGeom prst="rect">
            <a:avLst/>
          </a:prstGeom>
          <a:ln w="0">
            <a:noFill/>
          </a:ln>
        </p:spPr>
      </p:pic>
      <p:pic>
        <p:nvPicPr>
          <p:cNvPr id="7" name="LOGO%20TRUSTCO" descr=""/>
          <p:cNvPicPr/>
          <p:nvPr/>
        </p:nvPicPr>
        <p:blipFill>
          <a:blip r:embed="rId4"/>
          <a:stretch/>
        </p:blipFill>
        <p:spPr>
          <a:xfrm>
            <a:off x="76320" y="5181480"/>
            <a:ext cx="838080" cy="74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4697-2A11-441B-AB68-903798CD76A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00"/>
                </a:solidFill>
                <a:latin typeface="News Gothic MT"/>
              </a:rPr>
              <a:t>Ke</a:t>
            </a:r>
            <a:r>
              <a:rPr b="0" lang="en-US" sz="7200" spc="-1" strike="noStrike" u="sng">
                <a:solidFill>
                  <a:srgbClr val="996600"/>
                </a:solidFill>
                <a:uFillTx/>
                <a:latin typeface="Lucida Console"/>
              </a:rPr>
              <a:t>pemimpin</a:t>
            </a:r>
            <a:r>
              <a:rPr b="0" lang="en-US" sz="7200" spc="-1" strike="noStrike">
                <a:solidFill>
                  <a:srgbClr val="996600"/>
                </a:solidFill>
                <a:latin typeface="News Gothic MT"/>
              </a:rPr>
              <a:t>an</a:t>
            </a:r>
            <a:r>
              <a:rPr b="0" lang="en-US" sz="88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996600"/>
                </a:solidFill>
                <a:latin typeface="Times New Roman"/>
              </a:rPr>
              <a:t>dalam</a:t>
            </a:r>
            <a:r>
              <a:rPr b="0" lang="en-US" sz="88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8800" spc="-1" strike="noStrike" u="sng">
                <a:solidFill>
                  <a:srgbClr val="996600"/>
                </a:solidFill>
                <a:uFillTx/>
                <a:latin typeface="Times New Roman"/>
              </a:rPr>
              <a:t>Islam</a:t>
            </a:r>
            <a:endParaRPr b="0" lang="en-US" sz="8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Paradigma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 kepemimp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Per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Tauhid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dalam Kepemimp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Sifat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-sifat Pemimp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Ketrampilan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Kepemimpinan yang efek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Rambu-rambu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Operasional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kepemimpinan Is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MSTRATE" descr=""/>
          <p:cNvPicPr/>
          <p:nvPr/>
        </p:nvPicPr>
        <p:blipFill>
          <a:blip r:embed="rId1"/>
          <a:stretch/>
        </p:blipFill>
        <p:spPr>
          <a:xfrm>
            <a:off x="6040440" y="4038480"/>
            <a:ext cx="3103560" cy="30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B78-E556-4F43-8147-057A60F8D9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Paradigma Kepemimpinan: </a:t>
            </a:r>
            <a:br>
              <a:rPr sz="3600"/>
            </a:br>
            <a:r>
              <a:rPr b="0" lang="en-US" sz="2800" spc="-1" strike="noStrike" u="sng">
                <a:solidFill>
                  <a:srgbClr val="996600"/>
                </a:solidFill>
                <a:uFillTx/>
                <a:latin typeface="Times New Roman"/>
              </a:rPr>
              <a:t>Pemimpian adala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nsur yang mutlak untuk eksistensi  u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anggung beban dan  jawab dalam, bukan kemuli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eladan dan wuj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yah  dan Bapak bagi u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epresentasi umat atau bang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MCROWD" descr=""/>
          <p:cNvPicPr/>
          <p:nvPr/>
        </p:nvPicPr>
        <p:blipFill>
          <a:blip r:embed="rId1"/>
          <a:stretch/>
        </p:blipFill>
        <p:spPr>
          <a:xfrm>
            <a:off x="4788000" y="4495680"/>
            <a:ext cx="427968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226-797C-4CA1-A6B9-508A73A100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eran Tauhid dalam Kepemimpinan,</a:t>
            </a:r>
            <a:br>
              <a:rPr sz="3600"/>
            </a:b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bahwa Tauhid: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rupak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asas dan prinsi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jaran Islam: Pemimpin adalah hamba Allah SW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bebaskan manusia dari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ketergantunga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epada siapap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lahirkan kons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kebersamaa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tara manus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yentuh aspek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hubungan manu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engan manusia dan alam sekit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benarkan seseora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taat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epada  pemimpin selama tidak bermaksiat dan melanggar aturan Alla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gajarkan bahwa kehidup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dun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dalah bagian dari perjalan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akh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andang kekuasaan dan kepemimpinan adalah  bagian ya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integral dari ibada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E36-7429-4012-90FB-55ACF1AE55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ifat-sifat Pemimpin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at (qow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at dipercaya (amana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dai menjaga (hafid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ilmu pengetahuan (ali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as as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yay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jaksana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MPOWER" descr=""/>
          <p:cNvPicPr/>
          <p:nvPr/>
        </p:nvPicPr>
        <p:blipFill>
          <a:blip r:embed="rId1"/>
          <a:stretch/>
        </p:blipFill>
        <p:spPr>
          <a:xfrm>
            <a:off x="5181480" y="3683160"/>
            <a:ext cx="3667320" cy="27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E3D-6E0E-4EB1-B858-E74C6B3834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News Gothic MT"/>
              </a:rPr>
              <a:t>Ke</a:t>
            </a:r>
            <a:r>
              <a:rPr b="1" lang="en-US" sz="3200" spc="-1" strike="noStrike" u="sng">
                <a:solidFill>
                  <a:srgbClr val="996600"/>
                </a:solidFill>
                <a:uFillTx/>
                <a:latin typeface="News Gothic MT"/>
              </a:rPr>
              <a:t>trampil</a:t>
            </a:r>
            <a:r>
              <a:rPr b="0" lang="en-US" sz="3200" spc="-1" strike="noStrike">
                <a:solidFill>
                  <a:srgbClr val="996600"/>
                </a:solidFill>
                <a:latin typeface="News Gothic MT"/>
              </a:rPr>
              <a:t>an </a:t>
            </a:r>
            <a:br>
              <a:rPr sz="3200"/>
            </a:br>
            <a:r>
              <a:rPr b="0" lang="en-US" sz="3200" spc="-1" strike="noStrike">
                <a:solidFill>
                  <a:srgbClr val="996600"/>
                </a:solidFill>
                <a:latin typeface="News Gothic MT"/>
              </a:rPr>
              <a:t>Ke</a:t>
            </a:r>
            <a:r>
              <a:rPr b="1" lang="en-US" sz="3200" spc="-1" strike="noStrike" u="sng">
                <a:solidFill>
                  <a:srgbClr val="996600"/>
                </a:solidFill>
                <a:uFillTx/>
                <a:latin typeface="News Gothic MT"/>
              </a:rPr>
              <a:t>pemimpin</a:t>
            </a:r>
            <a:r>
              <a:rPr b="0" lang="en-US" sz="3200" spc="-1" strike="noStrike">
                <a:solidFill>
                  <a:srgbClr val="996600"/>
                </a:solidFill>
                <a:latin typeface="News Gothic MT"/>
              </a:rPr>
              <a:t>an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miliki wawasan  untuk masa de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miliki  obsesi dan tujuan untuk masa de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ngembangkan strategi untuk mencapai tujuan masa de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ndapatkan dukungan bawa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ngelola sumber d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mbangun kerjasama, sinergi dan  produktiv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mberi motivasi kepada bawa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AMTEAM" descr=""/>
          <p:cNvPicPr/>
          <p:nvPr/>
        </p:nvPicPr>
        <p:blipFill>
          <a:blip r:embed="rId1"/>
          <a:stretch/>
        </p:blipFill>
        <p:spPr>
          <a:xfrm>
            <a:off x="4495680" y="112680"/>
            <a:ext cx="320040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0A8-CB56-4D5A-8176-D8303F2827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Rambu-rambu operasional </a:t>
            </a:r>
            <a:br>
              <a:rPr sz="3200"/>
            </a:b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kepemimpinan Islam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yal dan setia kepada All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rorientasi kepada  kepentingan Is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rpegang kepada sy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njaga akhlak is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ngemban aman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ngemban keadi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nyak bermusyawar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mberikan kebebas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komod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rtawakal kepada All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IDDERS" descr=""/>
          <p:cNvPicPr/>
          <p:nvPr/>
        </p:nvPicPr>
        <p:blipFill>
          <a:blip r:embed="rId1"/>
          <a:stretch/>
        </p:blipFill>
        <p:spPr>
          <a:xfrm>
            <a:off x="5486400" y="3278160"/>
            <a:ext cx="3581280" cy="243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4E7-2839-4325-BD9A-157B919529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54864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mpil  dalam memim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ANCHER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F82-5B76-41E5-A0E0-356C09F20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-15228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  <a:ea typeface="Arial"/>
              </a:rPr>
              <a:t>Tugas Pemimpin</a:t>
            </a:r>
            <a:r>
              <a:rPr b="1" lang="en-US" sz="3600" spc="-1" strike="noStrike">
                <a:solidFill>
                  <a:srgbClr val="9966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  <a:ea typeface="Arial"/>
              </a:rPr>
              <a:t>(Mustofa Masyhur)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9280" y="126036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553080" y="0"/>
            <a:ext cx="769608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09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khl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karena Allah sem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lam bekerja  harus memilk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peka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erhadap pengawasan dan penjagaan Allah s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alu memoh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tolong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lam seluruh keadaan dan aktivitasnya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ilik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ggung jaw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untuk selalu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jaga di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ana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erhadap apa yang diembankan kepadany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berikan porsi yang besar untuk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ndidikan anggo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n menyiapk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ener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jaliny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asih  say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kepada seluruh anggota, yaitu dengan ukhuwah yang tulus ikh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mpu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rencanakan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ngan tepat, menentukan tahap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rategi, sumber d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gelola o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uai dengan kemampuan  perso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bangu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klim saling perca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n berbaik sangka dalam ti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mimpin harus selalu bersungguh-sunggu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yalakan cita-cita,  mengukuhkan tekad dan membangkitkan hara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 kalangan anggota lembaga  atau jama’ah. Ingat kepemimpinan dapat dipelaj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F6C-E54E-4872-8D55-7383EDADFB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MPOWER" descr=""/>
          <p:cNvPicPr/>
          <p:nvPr/>
        </p:nvPicPr>
        <p:blipFill>
          <a:blip r:embed="rId1"/>
          <a:stretch/>
        </p:blipFill>
        <p:spPr>
          <a:xfrm>
            <a:off x="5181480" y="3683160"/>
            <a:ext cx="3667320" cy="27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030-5D9E-45DE-A146-36DB4DF1A2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11:48:49Z</dcterms:created>
  <dc:creator>Jundi</dc:creator>
  <dc:description/>
  <dc:language>en-US</dc:language>
  <cp:lastModifiedBy>Dwiko Hari Dastriadi</cp:lastModifiedBy>
  <dcterms:modified xsi:type="dcterms:W3CDTF">2007-01-26T05:59:16Z</dcterms:modified>
  <cp:revision>17</cp:revision>
  <dc:subject/>
  <dc:title>Leadership  in  Islam</dc:title>
</cp:coreProperties>
</file>