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9.jpeg" ContentType="image/jpeg"/>
  <Override PartName="/ppt/media/image1.jpeg" ContentType="image/jpeg"/>
  <Override PartName="/ppt/media/11%20Nummer%2011.wav" ContentType="audio/x-wav"/>
  <Override PartName="/ppt/media/image18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2F2-E53D-49ED-BAFA-4657623F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017-0728-4837-88A4-E0D4484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F57-39DB-4531-B67F-1235BB29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DA4-4292-4C58-99CE-DC015491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8C9-7C25-476A-A4E7-B04BFF2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720-1CE4-4FF0-BE3C-B8E4DB17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0E1-C99B-4866-9A70-BC011042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F17-4B32-4BB0-9EBA-5133CD0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E19-3CE3-412B-A285-31C7A1E3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C03-5E9E-47BF-9459-AE8A42D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757-4C4F-47AA-9617-FC4C078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27F-6A54-4379-81AB-78B2711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ACFF-6D58-4804-AAE9-A0E187A0E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%20Nummer%201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00360" y="476280"/>
            <a:ext cx="60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Aafke presenteert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72120" y="6165720"/>
            <a:ext cx="30718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Any Dream Will Do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51640" y="5373720"/>
            <a:ext cx="34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Muziek van: Lee Towers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2565360"/>
            <a:ext cx="813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Ik droom alleen van jou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6093000"/>
            <a:ext cx="1342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4-7-2006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</p:spTree>
  </p:cSld>
  <p:transition spd="slow" advTm="36000">
    <p:randomBar dir="horz"/>
    <p:sndAc>
      <p:stSnd>
        <p:snd r:embed="rId2" name="11%20Nummer%20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87280" y="1844640"/>
            <a:ext cx="73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Powerpoint van Aafke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4508640"/>
            <a:ext cx="763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www.powerpointsite-bep.nl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3573360"/>
            <a:ext cx="180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4-6-2006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plus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53440" cy="635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2492280"/>
            <a:ext cx="1535040" cy="159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59280" y="1197000"/>
            <a:ext cx="1047600" cy="1085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omb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mb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23:21Z</dcterms:created>
  <dc:creator>Aafke Stolze</dc:creator>
  <dc:description/>
  <dc:language>en-US</dc:language>
  <cp:lastModifiedBy>Smets</cp:lastModifiedBy>
  <dcterms:modified xsi:type="dcterms:W3CDTF">2008-09-18T19:22:56Z</dcterms:modified>
  <cp:revision>9</cp:revision>
  <dc:subject/>
  <dc:title>Ik droom van jou.</dc:title>
</cp:coreProperties>
</file>