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19.jpeg" ContentType="image/jpeg"/>
  <Override PartName="/ppt/media/image1.jpeg" ContentType="image/jpeg"/>
  <Override PartName="/ppt/media/11%20Nummer%2011.wav" ContentType="audio/x-wav"/>
  <Override PartName="/ppt/media/image18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A3D-7838-4F45-84AE-F12C824E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FA2-D446-498F-B3C3-07ABC705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FCB-ED16-49F3-94AC-3E99DCE8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1B4-7DD6-405F-BC00-BE4C9783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CC2-F97C-452C-BACF-FD458CE2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680-DA7C-4A36-A440-CED5EDD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E22-9839-4C4B-9977-69773B24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733-1907-40CB-A5C1-2CA77CAE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17E-267C-482B-941E-697D096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5EA-CF5F-4000-A38B-1FCDD1E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855-A363-4175-B031-D2B5E36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03A-9D8C-473B-B5BB-3A89244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9A4-FF03-4C6F-AF41-263D92D9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%20Nummer%2011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00360" y="476280"/>
            <a:ext cx="604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Aafke presenteert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72120" y="6165720"/>
            <a:ext cx="30718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Any Dream Will Do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651640" y="5373720"/>
            <a:ext cx="34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Muziek van: Lee Towers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2565360"/>
            <a:ext cx="813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Ik droom alleen van jou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6093000"/>
            <a:ext cx="1342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4-7-2006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</p:spTree>
  </p:cSld>
  <p:transition spd="slow" advTm="36000">
    <p:randomBar dir="horz"/>
    <p:sndAc>
      <p:stSnd>
        <p:snd r:embed="rId2" name="11%20Nummer%20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87280" y="1844640"/>
            <a:ext cx="7345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Powerpoint van Aafke.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4508640"/>
            <a:ext cx="7632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www.powerpointsite-bep.nl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3573360"/>
            <a:ext cx="180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 Chancery"/>
              </a:rPr>
              <a:t>4-6-2006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 Chancery"/>
              <a:ea typeface="Black Chancery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plus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5000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553440" cy="635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2492280"/>
            <a:ext cx="1535040" cy="159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59280" y="1197000"/>
            <a:ext cx="1047600" cy="10857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omb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mb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23:21Z</dcterms:created>
  <dc:creator>Aafke Stolze</dc:creator>
  <dc:description/>
  <dc:language>en-US</dc:language>
  <cp:lastModifiedBy>Smets</cp:lastModifiedBy>
  <dcterms:modified xsi:type="dcterms:W3CDTF">2008-09-18T19:22:56Z</dcterms:modified>
  <cp:revision>9</cp:revision>
  <dc:subject/>
  <dc:title>Ik droom van jou.</dc:title>
</cp:coreProperties>
</file>