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BC30-1B39-4534-833C-F8ED8F71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26B0-BA00-4F56-A2C2-A353A1ED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FF0F-5D5B-43B0-941D-E011B0F4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2A1-F44B-4AF0-BEF5-64B1FB56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BE81-E263-482C-894A-F3E25F05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C797-79F2-4134-AFCA-C837B5C1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21CE-2CCA-4D2D-A7D4-00820BF5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684F-DF03-4657-9476-D5F8C6AE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ACE4-C63B-45AE-A7FF-3C50802F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E4C5-1B2F-45DE-8591-C12BEDA8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9898-D2B5-4AA0-9912-8D834B68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3E62-3389-4DE4-85B0-CE7229EF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63983-CFF3-4739-9860-6DD662D6B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F5EC08-7EFD-4A35-8D7C-E92876526B92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1:11:02Z</dcterms:created>
  <dc:creator>최봉수</dc:creator>
  <dc:description/>
  <dc:language>en-US</dc:language>
  <cp:lastModifiedBy>군만두 맛있다</cp:lastModifiedBy>
  <dcterms:modified xsi:type="dcterms:W3CDTF">2023-07-12T06:12:34Z</dcterms:modified>
  <cp:revision>2</cp:revision>
  <dc:subject/>
  <dc:title>슬라이드 1</dc:title>
</cp:coreProperties>
</file>