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5C6-805C-4594-B2D5-2FD993E1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EA8-B62F-4D25-9C21-AEBCEEEA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746B-E41E-4CC2-9F36-C332B568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C70-A577-4828-9094-FB335072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C46-EB8B-4488-B668-78637E9E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F91-9E72-4947-AC5A-3C43D515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894-042E-4D04-9106-43441DE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1DB-0855-49D0-8168-CD9E50E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0E4-A701-4C4E-8875-CEC3776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E83-C556-40AA-944D-F7322A6E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818-85CE-4F69-8FE0-67082D3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292-D242-4A26-9F26-D74AC89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896CA-01BE-4395-802E-4116693DE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26291D-7007-4BEE-8EB0-4212063B6FC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11:02Z</dcterms:created>
  <dc:creator>최봉수</dc:creator>
  <dc:description/>
  <dc:language>en-US</dc:language>
  <cp:lastModifiedBy>군만두 맛있다</cp:lastModifiedBy>
  <dcterms:modified xsi:type="dcterms:W3CDTF">2023-07-12T06:12:34Z</dcterms:modified>
  <cp:revision>2</cp:revision>
  <dc:subject/>
  <dc:title>슬라이드 1</dc:title>
</cp:coreProperties>
</file>