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431-45EF-4325-B270-6AC1A66A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CC7-8051-4D48-BC83-EEDAD4BE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D06A-47B1-4F08-B80D-9CA9CB74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861-4210-49EC-B6F6-3C88C752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C16-83E3-47E2-8C65-C5BC500D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CFE-8C13-4B69-BCC5-82151FEB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54C7-A58A-4293-A5FF-EE38CAE4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407A-625F-4F52-ACF3-BBA6737A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29A5-DCE8-4008-9D4D-887551F8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F663-331B-4EC1-8F36-6DE15300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F22-CB00-4179-BB3A-470D7C7C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ACE-1881-4DB9-84DC-B4D2F4B6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B1BDF-E4A6-4730-95EE-AFC9F53AECEB}" type="slidenum">
              <a: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Dobrý začátek nestačí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>
                <a:solidFill>
                  <a:srgbClr val="ffffff"/>
                </a:solidFill>
                <a:latin typeface="Arial Narrow"/>
                <a:ea typeface="Arial Narrow"/>
              </a:rPr>
              <a:t>10. Élí a jeho synové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>
                <a:solidFill>
                  <a:srgbClr val="ffffff"/>
                </a:solidFill>
                <a:latin typeface="Arial Narrow"/>
                <a:ea typeface="Arial Narrow"/>
              </a:rPr>
              <a:t> </a:t>
            </a:r>
            <a:r>
              <a:rPr b="1" lang="cs-CZ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1 S 2:11-26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71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Narrow"/>
              </a:rPr>
              <a:t>Dobrý začátek nestačí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 Narrow"/>
              </a:rPr>
              <a:t> Élí a jeho synov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6000" y="1800000"/>
            <a:ext cx="907092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 u="sng">
                <a:solidFill>
                  <a:srgbClr val="ffff00"/>
                </a:solidFill>
                <a:uFillTx/>
                <a:latin typeface="Arial Narrow"/>
                <a:ea typeface="Arial Narrow"/>
              </a:rPr>
              <a:t>Aplikace pro nás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 Narrow"/>
                <a:ea typeface="Arial Narrow"/>
              </a:rPr>
              <a:t>Nenechme vzdor, neposlušnost a pohrdání autoritou růs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 Narrow"/>
                <a:ea typeface="Arial Narrow"/>
              </a:rPr>
              <a:t>V takovém stavu člověk ani dnes dlouho nemůže být součastí Božího lidu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ffff00"/>
                </a:solidFill>
                <a:latin typeface="Arial Narrow"/>
                <a:ea typeface="Arial Narrow"/>
              </a:rPr>
              <a:t>1 Tesalonickým 5:14  Klademe vám na srdce, bratří, kárejte neukázněné, těšte malomyslné, ujímejte se slabých, se všemi mějte trpělivos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Narrow"/>
              </a:rPr>
              <a:t>Dobrý začátek nestačí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 Narrow"/>
              </a:rPr>
              <a:t> Élí a jeho synov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1640" y="2447640"/>
            <a:ext cx="90712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6000"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 u="sng">
                <a:solidFill>
                  <a:srgbClr val="ffff00"/>
                </a:solidFill>
                <a:uFillTx/>
                <a:latin typeface="Arial Narrow"/>
                <a:ea typeface="Arial Narrow"/>
              </a:rPr>
              <a:t>1. Synové Élího byli ničemníci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5000" spc="-1" strike="noStrike">
                <a:solidFill>
                  <a:srgbClr val="ffffff"/>
                </a:solidFill>
                <a:latin typeface="Arial Narrow"/>
                <a:ea typeface="Arial Narrow"/>
              </a:rPr>
              <a:t>2,12 Synové Élího byli ničemníci, neznali se k Hospodinu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ffffff"/>
                </a:solidFill>
                <a:latin typeface="Arial Narrow"/>
                <a:ea typeface="Arial Narrow"/>
              </a:rPr>
              <a:t>NZ křesťanství není založeno na rituálech, ale na vztahu s živým Bohem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Narrow"/>
              </a:rPr>
              <a:t>Dobrý začátek nestačí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 Narrow"/>
              </a:rPr>
              <a:t> Élí a jeho synov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1640" y="2447640"/>
            <a:ext cx="90712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75000"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 u="sng">
                <a:solidFill>
                  <a:srgbClr val="ffff00"/>
                </a:solidFill>
                <a:uFillTx/>
                <a:latin typeface="Arial Narrow"/>
                <a:ea typeface="Arial Narrow"/>
              </a:rPr>
              <a:t>2. Synové Élího pohrdali  svým kněžským vyvolením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ffffff"/>
                </a:solidFill>
                <a:latin typeface="Arial Narrow"/>
                <a:ea typeface="Arial Narrow"/>
              </a:rPr>
              <a:t>2,17 Nepravosti a provinění, kterých se takto Élího synové a jejich služebníci dopouštěli, byly vzhledem k jejich postavení a zodpovědnosti v Hospodinových očích zvlášť odsouzeníhodné. Svým chováním způsobili, že i prostý lid si přestal obětí vážit. (SNC)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Narrow"/>
              </a:rPr>
              <a:t>Dobrý začátek nestačí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 Narrow"/>
              </a:rPr>
              <a:t> Élí a jeho synov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31640" y="2447640"/>
            <a:ext cx="90712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 u="sng">
                <a:solidFill>
                  <a:srgbClr val="ffff00"/>
                </a:solidFill>
                <a:uFillTx/>
                <a:latin typeface="Arial Narrow"/>
                <a:ea typeface="Arial Narrow"/>
              </a:rPr>
              <a:t>3. Synové Élího zlehčovali Boží svatos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4500" spc="-1" strike="noStrike">
                <a:solidFill>
                  <a:srgbClr val="ffffff"/>
                </a:solidFill>
                <a:latin typeface="Arial Narrow"/>
                <a:ea typeface="Arial Narrow"/>
              </a:rPr>
              <a:t>K tomu všemu ještě sváděli služebnice Hospodinova svatostánku ke smilstvu </a:t>
            </a:r>
            <a:r>
              <a:rPr b="1" lang="cs-CZ" sz="4500" spc="-1" strike="noStrike">
                <a:solidFill>
                  <a:srgbClr val="ffffff"/>
                </a:solidFill>
                <a:latin typeface="Arial Narrow"/>
                <a:ea typeface="Arial Narrow"/>
              </a:rPr>
              <a:t>(2.22).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Narrow"/>
              </a:rPr>
              <a:t>Dobrý začátek nestačí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 Narrow"/>
              </a:rPr>
              <a:t> Élí a jeho synov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1640" y="2447640"/>
            <a:ext cx="90712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 u="sng">
                <a:solidFill>
                  <a:srgbClr val="ffff00"/>
                </a:solidFill>
                <a:uFillTx/>
                <a:latin typeface="Arial Narrow"/>
                <a:ea typeface="Arial Narrow"/>
              </a:rPr>
              <a:t>3. Synové Élího zlehčovali Boží svatos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4500" spc="-1" strike="noStrike">
                <a:solidFill>
                  <a:srgbClr val="ffffff"/>
                </a:solidFill>
                <a:latin typeface="Arial Narrow"/>
                <a:ea typeface="Arial Narrow"/>
              </a:rPr>
              <a:t>K tomu všemu ještě sváděli služebnice Hospodinova svatostánku ke smilstvu </a:t>
            </a:r>
            <a:r>
              <a:rPr b="1" lang="cs-CZ" sz="4500" spc="-1" strike="noStrike">
                <a:solidFill>
                  <a:srgbClr val="ffffff"/>
                </a:solidFill>
                <a:latin typeface="Arial Narrow"/>
                <a:ea typeface="Arial Narrow"/>
              </a:rPr>
              <a:t>(2.22).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Narrow"/>
              </a:rPr>
              <a:t>Dobrý začátek nestačí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 Narrow"/>
              </a:rPr>
              <a:t> Élí a jeho synov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1640" y="2447640"/>
            <a:ext cx="90712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 u="sng">
                <a:solidFill>
                  <a:srgbClr val="ffff00"/>
                </a:solidFill>
                <a:uFillTx/>
                <a:latin typeface="Arial Narrow"/>
                <a:ea typeface="Arial Narrow"/>
              </a:rPr>
              <a:t>1. Élí jako otec selhal ve výchově.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 Narrow"/>
                <a:ea typeface="Arial Narrow"/>
              </a:rPr>
              <a:t>Místo aby je vedl, nechal je jít jejich vlastní cestou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 Narrow"/>
                <a:ea typeface="Arial Narrow"/>
              </a:rPr>
              <a:t>Zanedbával svůj úkol připravit je pro službu Bohu a plnění životních povinností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Narrow"/>
              </a:rPr>
              <a:t>Dobrý začátek nestačí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 Narrow"/>
              </a:rPr>
              <a:t> Élí a jeho synov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1640" y="2447640"/>
            <a:ext cx="90712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 u="sng">
                <a:solidFill>
                  <a:srgbClr val="ffff00"/>
                </a:solidFill>
                <a:uFillTx/>
                <a:latin typeface="Arial Narrow"/>
                <a:ea typeface="Arial Narrow"/>
              </a:rPr>
              <a:t>2. Éli jako kněz odmítl se postavit na Boží stranu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Hlas Boží a svědomí nebyl silnější než hlas krve, k jeho škodě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Bůh mu vyčítal: „</a:t>
            </a:r>
            <a:r>
              <a:rPr b="1" i="1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ctil jsi  své syny více než mne. Ztloustli jste z provotin všech obětních darů Izraele, mého lidu</a:t>
            </a:r>
            <a:r>
              <a:rPr b="1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.“ 2:2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Narrow"/>
              </a:rPr>
              <a:t>Dobrý začátek nestačí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 Narrow"/>
              </a:rPr>
              <a:t> Élí a jeho synov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1640" y="2447640"/>
            <a:ext cx="90712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8000"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 u="sng">
                <a:solidFill>
                  <a:srgbClr val="ffff00"/>
                </a:solidFill>
                <a:uFillTx/>
                <a:latin typeface="Arial Narrow"/>
                <a:ea typeface="Arial Narrow"/>
              </a:rPr>
              <a:t>3. Élí jako vůdce nepředal štafetu dál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Élí v závodu předání štafety selhal. Stalo se to nejhorší, co se může stát při štafetovém závodu:  štafeta mu vypadla z ruky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 </a:t>
            </a:r>
            <a:r>
              <a:rPr b="1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Stalo se tehdy, když začal přehlížet hříchy, toleroval nespravedlnost a nemorálnost svých dětí bez napomenutí a kázně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Narrow"/>
              </a:rPr>
              <a:t>Dobrý začátek nestačí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 Narrow"/>
              </a:rPr>
              <a:t> Élí a jeho synov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640" y="2447640"/>
            <a:ext cx="90712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8000"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 u="sng">
                <a:solidFill>
                  <a:srgbClr val="ffff00"/>
                </a:solidFill>
                <a:uFillTx/>
                <a:latin typeface="Arial Narrow"/>
                <a:ea typeface="Arial Narrow"/>
              </a:rPr>
              <a:t>3. Élí jako vůdce nepředal štafetu dál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Élí v závodu předání štafety selhal. Stalo se to nejhorší, co se může stát při štafetovém závodu:  štafeta mu vypadla z ruky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 </a:t>
            </a:r>
            <a:r>
              <a:rPr b="1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Stalo se tehdy, když začal přehlížet hříchy, toleroval nespravedlnost a nemorálnost svých dětí bez napomenutí a kázně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9T19:44:25Z</dcterms:created>
  <dc:creator>Nick Lica</dc:creator>
  <dc:description/>
  <dc:language>en-US</dc:language>
  <cp:lastModifiedBy>Nick Lica</cp:lastModifiedBy>
  <dcterms:modified xsi:type="dcterms:W3CDTF">2016-04-09T20:07:31Z</dcterms:modified>
  <cp:revision>3</cp:revision>
  <dc:subject/>
  <dc:title/>
</cp:coreProperties>
</file>