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65C-2D19-49AA-BA76-B6DD66F0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2B5-EFCA-4CEB-A0B4-44CF90B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A53-89C5-4201-AD16-A4ADE898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EAC-1669-4516-B410-CE1EB764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B2D-2D4E-4718-83E1-83BEB23A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EB3-9B60-4884-A0E8-D2BF1141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811-BC98-44CA-9F0C-13A9E4AC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E30-52F2-4252-A4FD-60C465E6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744-9835-4138-B87C-A3E2AACC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A7F-9DDC-45B0-876E-23B9394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9F15-9613-4514-B37E-1F353871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436-7122-4BE1-AD7F-07CA88A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68318-CCAD-4CCE-9727-409B0ACE5B87}" type="slidenum">
              <a:rPr b="0" lang="cs-CZ" sz="1400" spc="-1" strike="noStrike">
                <a:solidFill>
                  <a:srgbClr val="ffffff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Dobrý začátek nestačí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10. Élí a jeho synové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5000" spc="-1" strike="noStrike">
                <a:solidFill>
                  <a:srgbClr val="ffff00"/>
                </a:solidFill>
                <a:latin typeface="Arial Narrow"/>
                <a:ea typeface="Arial Narrow"/>
              </a:rPr>
              <a:t>1 S 2:11-26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7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6000" y="18000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Aplikace pro nás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enechme vzdor, neposlušnost a pohrdání autoritou růs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V takovém stavu člověk ani dnes dlouho nemůže být součastí Božího lid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00"/>
                </a:solidFill>
                <a:latin typeface="Arial Narrow"/>
                <a:ea typeface="Arial Narrow"/>
              </a:rPr>
              <a:t>1 Tesalonickým 5:14  Klademe vám na srdce, bratří, kárejte neukázněné, těšte malomyslné, ujímejte se slabých, se všemi mějte trpěliv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6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1. Synové Élího byli ničemníc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2,12 Synové Élího byli ničemníci, neznali se k Hospodinu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NZ křesťanství není založeno na rituálech, ale na vztahu s živým Bohem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75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2. Synové Élího pohrdali  svým kněžským vyvolení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5000" spc="-1" strike="noStrike">
                <a:solidFill>
                  <a:srgbClr val="ffffff"/>
                </a:solidFill>
                <a:latin typeface="Arial Narrow"/>
                <a:ea typeface="Arial Narrow"/>
              </a:rPr>
              <a:t>2,17 Nepravosti a provinění, kterých se takto Élího synové a jejich služebníci dopouštěli, byly vzhledem k jejich postavení a zodpovědnosti v Hospodinových očích zvlášť odsouzeníhodné. Svým chováním způsobili, že i prostý lid si přestal obětí vážit. (SNC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Synové Élího zlehčovali Boží svato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K tomu všemu ještě sváděli služebnice Hospodinova svatostánku ke smilstvu </a:t>
            </a:r>
            <a:r>
              <a:rPr b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(2.22).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Synové Élího zlehčovali Boží svatos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K tomu všemu ještě sváděli služebnice Hospodinova svatostánku ke smilstvu </a:t>
            </a:r>
            <a:r>
              <a:rPr b="1" lang="cs-CZ" sz="4500" spc="-1" strike="noStrike">
                <a:solidFill>
                  <a:srgbClr val="ffffff"/>
                </a:solidFill>
                <a:latin typeface="Arial Narrow"/>
                <a:ea typeface="Arial Narrow"/>
              </a:rPr>
              <a:t>(2.22).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1. Élí jako otec selhal ve výchově.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Místo aby je vedl, nechal je jít jejich vlastní cesto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 Narrow"/>
                <a:ea typeface="Arial Narrow"/>
              </a:rPr>
              <a:t>Zanedbával svůj úkol připravit je pro službu Bohu a plnění životních povinností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2. Éli jako kněz odmítl se postavit na Boží stranu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Hlas Boží a svědomí nebyl silnější než hlas krve, k jeho škod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Bůh mu vyčítal: „</a:t>
            </a:r>
            <a:r>
              <a:rPr b="1" i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ctil jsi  své syny více než mne. Ztloustli jste z provotin všech obětních darů Izraele, mého lidu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.“ 2:2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Élí jako vůdce nepředal štafetu dá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Élí v závodu předání štafety selhal. Stalo se to nejhorší, co se může stát při štafetovém závodu:  štafeta mu vypadla z ruky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lo se tehdy, když začal přehlížet hříchy, toleroval nespravedlnost a nemorálnost svých dětí bez napomenutí a kázn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Arial Narrow"/>
              </a:rPr>
              <a:t>Dobrý začátek nestačí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 Narrow"/>
              </a:rPr>
              <a:t> Élí a jeho synov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2447640"/>
            <a:ext cx="90712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 u="sng">
                <a:solidFill>
                  <a:srgbClr val="ffff00"/>
                </a:solidFill>
                <a:uFillTx/>
                <a:latin typeface="Arial Narrow"/>
                <a:ea typeface="Arial Narrow"/>
              </a:rPr>
              <a:t>3. Élí jako vůdce nepředal štafetu dá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Élí v závodu předání štafety selhal. Stalo se to nejhorší, co se může stát při štafetovém závodu:  štafeta mu vypadla z ruky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talo se tehdy, když začal přehlížet hříchy, toleroval nespravedlnost a nemorálnost svých dětí bez napomenutí a kázně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9T19:44:25Z</dcterms:created>
  <dc:creator>Nick Lica</dc:creator>
  <dc:description/>
  <dc:language>en-US</dc:language>
  <cp:lastModifiedBy>Nick Lica</cp:lastModifiedBy>
  <dcterms:modified xsi:type="dcterms:W3CDTF">2016-04-09T20:07:31Z</dcterms:modified>
  <cp:revision>3</cp:revision>
  <dc:subject/>
  <dc:title/>
</cp:coreProperties>
</file>